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99A6C82E-875F-4442-AB3C-A66DE6FE6FAC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smayliki.ru/smilies-55.html" TargetMode="External"/><Relationship Id="rId3" Type="http://schemas.openxmlformats.org/officeDocument/2006/relationships/hyperlink" Target="http://smayliki.ru/smilie-873908967.html" TargetMode="External"/><Relationship Id="rId4" Type="http://schemas.openxmlformats.org/officeDocument/2006/relationships/hyperlink" Target="http://smayliki.ru/smilie-873908967.html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643120" y="0"/>
            <a:ext cx="650088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9337"/>
                </a:solidFill>
                <a:latin typeface="Verdana"/>
              </a:rPr>
              <a:t>Презентация на т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9337"/>
                </a:solidFill>
                <a:latin typeface="Verdana"/>
              </a:rPr>
              <a:t>«Логоритмика</a:t>
            </a:r>
            <a:r>
              <a:rPr b="1" i="1" lang="en-US" sz="2400" spc="-1" strike="noStrike">
                <a:solidFill>
                  <a:srgbClr val="4a9337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4a9337"/>
                </a:solidFill>
                <a:latin typeface="Verdana"/>
              </a:rPr>
              <a:t>как инновационный подход для преодоления речевых расстройств у де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9337"/>
                </a:solidFill>
                <a:latin typeface="Verdana"/>
              </a:rPr>
              <a:t>Презентацию подготовила: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9337"/>
                </a:solidFill>
                <a:latin typeface="Arial"/>
              </a:rPr>
              <a:t>Саин-оол Чечек Борбак-ооловна МБДОУ д/с «Чече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гопедическая ритм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лексная методика, включающая в себя средства логопедического, музыкально – ритмического и физического воспитания. Основополагающий принци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я НОД по логоритмике – это взаимосвязь речи, музыки и движения.  Именно музыка является её организующим и руководящим началом. Методами логоритмики в доступной и интересной форме у детей развиваются  общие речевые навыки  такие, как дыхание, темп и ритм речи, её выразительность, а в ходе музыкально – дидактических игр отрабатываются артикуляционные, мимические и голосовые упражнения. Знания усваиваются детьми быстрее, так как их подача сопровождается разнообразными движениями под музыку, что позволяет активизировать одновременно все виды памяти (слуховую, двигательную и зрительну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ритмическая работа строится по двум основным направления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ое предусматривает развитие неречевых процессо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овершенствование общей моторики, координации движений, ориентации в пространстве; регуляция мышечного тонуса; развитие чувства музыкального темпа и ритма, певческих способностей; активизация всех видов памяти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574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е направление логоритмической 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развитие речи детей и корректирование  их  речевых нарушений. Эта  работа включает в себя развитие дыхания, голоса; выработку умеренного темпа речи и её интонационной выразительности; развитие артикуляционной и мимической моторики; координации речи с движением; воспитание правильного звукопроизношения и формирование фонематического сл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задачи логоритм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азвитие общей моторики, координации движений, ориентации в простран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звитие чувства темпа, ритма, певческих способ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Активизация всех видов внимания и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азвитие артикуляционной и мимической мотор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Формирование фонематического слу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оррекция речевых наруш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Д по логоритмике  включает в себя следующие элемент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логопедическую гимнастику – комплекс упражнений для укрепления мышц органов артикуляционного аппар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альчиковую гимнастику для развития мелкой моторики пальцев ру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пражнения на развитие общей мотор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окально–артикуляционные упражнения для развития певческих данных и дых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есни, стихи, сопровождаемые движениями рук, для развития плавности и выразительности речи, речевого слуха и речевой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узыкальные игры, способствующие развитию речи, внимания, умению ориентироваться в пространст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ело- и ритмодекламация для координации слуха, речи, дви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пражнения для мимических мышц, развития эмоциональной сферы, воображения и образного мыш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пражнения на релаксацию для снятия эмоционального и физического напря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Д по логоритмике  проводится по следующей схем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  Вводная ча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едусматривает приветствие, объявление педагогом темы занятия и проведение ритмической разминки. Задача ритмической разминки – подготовить организм ребёнка к предстоящей моторной и речевой нагру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сновная ча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ключает в себя разнообразные виды музыкальных, двигательных и речевых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Заключительная ча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ключает в себя упражнения на восстановление дыхания, релаксацию, а также различные виды спокойной ходьбы и лёгкого бега. Подведение итогов занятия и оценка работы детей на заня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8-9-10- и т.д.) Главный принцип достижения эффективности в работе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ндивидуальный подход к каждому ребенку, учет его возрастных, психофизиологических и речевых возмо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ушина М.Ю.  Конспекты логоритмических занятий с детьми 5-7 лет. – М.: ТЦ Сфера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ушина М.Ю. «Конспекты логоритмических занятий с детьми 6-7 лет»; М., Творческий Центр «СФЕРА»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иковская О.А. Логоритмика. Практическое пособие для педагогов и родителей. Изд-во Корона Принт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нова А.Е. «Логоритмика в речевых группах ДОУ для детей 5-7 лет» (методическое пособие); М., Творческий Центр «СФЕРА»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9337"/>
                </a:solidFill>
                <a:latin typeface="Arial"/>
              </a:rPr>
              <a:t>Спасибо за внимание. </a:t>
            </a:r>
            <a:r>
              <a:rPr b="0" lang="ru-RU" sz="9600" spc="-1" strike="noStrike">
                <a:solidFill>
                  <a:srgbClr val="4a9337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5c796dadfa4ee4c309cb58fd7a655596.gif"/>
          <p:cNvPicPr/>
          <p:nvPr/>
        </p:nvPicPr>
        <p:blipFill>
          <a:blip r:embed="rId1"/>
          <a:stretch/>
        </p:blipFill>
        <p:spPr>
          <a:xfrm>
            <a:off x="1706400" y="2639880"/>
            <a:ext cx="2232360" cy="2230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272400" y="-660600"/>
            <a:ext cx="2599200" cy="177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0000"/>
                </a:solidFill>
                <a:latin typeface="Verdana"/>
              </a:rPr>
              <a:t>Смайлики -&gt;</a:t>
            </a:r>
            <a:r>
              <a:rPr b="1" lang="fr-FR" sz="1300" spc="-1" strike="noStrike">
                <a:solidFill>
                  <a:srgbClr val="990000"/>
                </a:solidFill>
                <a:latin typeface="Arial"/>
              </a:rPr>
              <a:t> </a:t>
            </a:r>
            <a:r>
              <a:rPr b="0" lang="fr-FR" sz="13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Эмо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111111"/>
                </a:solidFill>
                <a:latin typeface="Arial"/>
              </a:rPr>
              <a:t> </a:t>
            </a:r>
            <a:br>
              <a:rPr sz="800"/>
            </a:br>
            <a:r>
              <a:rPr b="0" lang="fr-FR" sz="9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  </a:t>
            </a:r>
            <a:r>
              <a:rPr b="1" lang="fr-FR" sz="75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</a:t>
            </a:r>
            <a:br>
              <a:rPr sz="8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s14.rimg.info/eba8d864724ebd46d7255c1e15c89932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86280" y="3000240"/>
            <a:ext cx="2857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ние годы становится очень актуальной проблема развития речи у детей дошкольного возраста. Отмечается постоянное увеличение количества детей, имеющих нарушение речи. К сожалению, в силу ряда причин не каждый ребенок может вовремя получить помощь специалиста-логопеда. Поэтому перед нам помощь детям с незначительными нарушениями речи, которую можно оказать в условиях обычного детского сада. Такую помощь, в условиях детского сада можно оказать на музыкальных и физкультурных занятиях, в структуру, которых входят логоритмические упраж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1244369437_divchina.jpg"/>
          <p:cNvPicPr/>
          <p:nvPr/>
        </p:nvPicPr>
        <p:blipFill>
          <a:blip r:embed="rId1"/>
          <a:stretch/>
        </p:blipFill>
        <p:spPr>
          <a:xfrm>
            <a:off x="1000080" y="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1244369606_malec.jpg"/>
          <p:cNvPicPr/>
          <p:nvPr/>
        </p:nvPicPr>
        <p:blipFill>
          <a:blip r:embed="rId2"/>
          <a:stretch/>
        </p:blipFill>
        <p:spPr>
          <a:xfrm>
            <a:off x="6858000" y="0"/>
            <a:ext cx="17146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же такое логорит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ритм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 это система упражнений, заданий, игр на основе сочетания музыки, движения, слова, направленная на решение коррекционных, образовательных и оздоровитель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330026694634_3fddf5a95403t.jpg"/>
          <p:cNvPicPr/>
          <p:nvPr/>
        </p:nvPicPr>
        <p:blipFill>
          <a:blip r:embed="rId1"/>
          <a:stretch/>
        </p:blipFill>
        <p:spPr>
          <a:xfrm>
            <a:off x="6072120" y="4286160"/>
            <a:ext cx="3071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е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аут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говор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я артикуляционной гимна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ждое занятие включ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льчиковые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ижные иг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ни и стихи, сопровождаемые движениями, двигательные упраж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оритмические упражнения включают 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бщеразвивающие упраж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над певческим дыхани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звитием певческого голо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ейшие приемы массаж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логоритмических занятиях реализуются следующи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е лексического зап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лухового внимания и зрительной памя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общей и мелкой мотор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четких координированных движений во взаимосвязи с речью и с музы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мелодико-интонационных и просодических компонентов, творческой фантазии и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ения логоритмики в жизнедеятельность в детском с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Утренняя гимнастика с речевыми звукоподраж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роговаривание потешек, приговорок, чистоговорок во время режимных процессов - умывания, одевания на прогулку, подготовки к занят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Динамические паузы между занят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Физкультурные сюжетные занятия с использованием рече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Логоритмические физкультминутки во время проведен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  Бодрящая гимнастика со звукоподраж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Подвижные игры с движ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Логоритмические дос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ффект логоритм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работа по данной технологии показывает, что логоритмика способствует развитию речи и когнитивных процессов у детей дошкольного возраста, что выражается в исправлении дефектов речи, увеличение словарного запаса дошкольников, а также в улучшении внимания и памяти. Наибольший эффект возможен при интегрированном подходе. Особо успешность работы зависит от ощущения радости, полученной ребенком на заня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User</cp:lastModifiedBy>
  <dcterms:modified xsi:type="dcterms:W3CDTF">2014-08-26T11:35:54Z</dcterms:modified>
  <cp:revision>86</cp:revision>
  <dc:subject/>
  <dc:title>Green Butterflies</dc:title>
</cp:coreProperties>
</file>