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3DD-8C73-45A2-A741-039E6D09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247-0093-4C44-A0F2-B2F25322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E908-1573-4AE1-99D8-75704025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76A-9594-45D2-9E18-13E84202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5EE0-5716-42C3-A174-A8A3B5B7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1196-73D3-4BBE-8590-E3299D93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586E-186E-4A6B-AB59-98B94044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8BE7-6CA2-4753-B5F7-F82DDA20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1921-2382-4E9C-B15C-B9B27C60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61800" y="365040"/>
            <a:ext cx="96915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CE79-D0AA-455A-BD43-29F8DC06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C7EE-128A-47AC-8590-1FE1FE28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2A5E-727A-4EF8-826E-3176ADEA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2E32-CC25-477B-B734-A1CF10CC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F3A0-2C3E-444E-875B-04F52B12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F02D-FF0E-4568-B618-A4F3BB12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669C-AAE1-432C-8FA9-B7BE0727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1822-196D-42AB-B4AC-8C1AFF93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CAFD6-A9A7-4324-BC63-8E821B5F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0EDC5-B581-4ABA-AD2E-06D7AC54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FE70D-A852-4600-9678-05CC1DE0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3227D-9874-4988-BD05-C6A47E63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AF880-3BB6-43FE-93DF-EB92F6D3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9203-25E6-4B92-89A2-E8806D1C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261800" y="365040"/>
            <a:ext cx="96915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2594B-86F5-45F4-8C0D-4AF62770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5B366-5E30-4B42-84FB-A71DEB57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AB980-FE2A-4B75-AF34-B69424F6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98FCA-029D-423C-9700-030C91ED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65A10-0102-4237-B93C-EA27FB8B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EFECF-24A5-441D-94B4-850191BF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8242F-CBE6-421A-B350-32F95B6C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F106C-387A-4074-ADD2-07853172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C108D-5140-4119-A9C6-3695F7E0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F8E4E-91E8-47F6-AD4B-06446A3E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04B8-0169-417B-BF4F-EC940C0C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6D7B2-043A-4182-8812-12899608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D1BBE-9DFB-40B2-B122-D4BB12A9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261800" y="365040"/>
            <a:ext cx="96915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7BD43-C699-4F91-822E-3B70694B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FC41B-2B9A-458F-9709-E4FAEAA1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C4E5F-78BF-4035-90E2-9025671C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2282F-E228-4583-9A62-646B9AE2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6E15E-0C3F-412C-8A96-C7361FCB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7203B-66F4-4AB8-8305-F6D0E6B6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8B63D-E21C-4F56-86AE-C345C396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463C-33B7-456A-AC3B-7C2C2E06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61800" y="365040"/>
            <a:ext cx="96915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F18E-611A-4EA0-B5DB-C8F748FF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D38-F262-48EE-9B6A-345555D8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C28-8019-4166-ABF5-673A186E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BDD4-49EA-4317-B831-C9AA4633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d9d9d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d9d9d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1F2D6-C77F-4F1B-84C9-C25FE164F4F6}" type="slidenum">
              <a:rPr b="0" lang="en-US" sz="36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5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6F798-8AE4-44E8-A4DD-9120F31BF88E}" type="slidenum">
              <a:rPr b="0" lang="en-US" sz="36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d9d9d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d9d9d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FC728-B19A-44E3-80D1-C06D6CEFC71A}" type="slidenum">
              <a:rPr b="0" lang="en-US" sz="36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5105520"/>
            <a:ext cx="1129356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d9d9d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d9d9d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92048-C632-4A50-B808-677322D0B2BB}" type="slidenum">
              <a:rPr b="0" lang="en-US" sz="36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Заголовок 1"/>
          <p:cNvSpPr/>
          <p:nvPr/>
        </p:nvSpPr>
        <p:spPr>
          <a:xfrm>
            <a:off x="1747800" y="0"/>
            <a:ext cx="941868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Владимир Владимирович Маяковски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(</a:t>
            </a:r>
            <a:r>
              <a:rPr b="0" lang="pl-PL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19.07.1893 - 14.04.1930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1" name="Изображение 5" descr=""/>
          <p:cNvPicPr/>
          <p:nvPr/>
        </p:nvPicPr>
        <p:blipFill>
          <a:blip r:embed="rId1"/>
          <a:stretch/>
        </p:blipFill>
        <p:spPr>
          <a:xfrm>
            <a:off x="4583160" y="1568520"/>
            <a:ext cx="37465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262160" y="356760"/>
            <a:ext cx="8594640" cy="67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 1922—1924 годах Маяковский совершил несколько поездок за границу — Латвия, Франция, Германия; писал очерки и стихи о европейских впечатлениях: «Как работает республика демократическая?» (1922); «Париж (Разговорчики с Эйфелевой башней)» (1923) и ряд других. В 1925 году состоялось самое длительное его путешествие: поездка по Америке. Маяковский посетил Гавану, Мехико и в течение трёх месяцев выступал в различных городах США с чтением стихов и докладов. Позже были написаны стихи (сборник «Испания. — Океан. — Гавана. — Мексика. — Америка») и очерк «Моё открытие Америки». В 1925—1928 годах он много ездил по Советскому Союзу, выступал в самых разных аудиториях. В эти годы поэт опубликовал такие произведения, как «Товарищу Нетте, пароходу и человеку» (1926); «По городам Союза» (1927); «Рассказ литейщика Ивана Козырева…» (1928). С 17 до 24 февраля 1926 года Маяковский побывал в Баку, выступал в оперном и драматическом театрах, перед рабочими-нефтяниками в Балахан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 1922—1926 годах активно сотрудничал с «Известиями», в 1926—1929 годах — с «Комсомольской правдой». Печатался в журналах: «Новый мир», «Молодая гвардия», «Огонёк», «Крокодил», «Красная нива» и др. Работал в агитке и рекламе, за что подвергался критике Пастернака, Катаева, Светлов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17520" y="356760"/>
            <a:ext cx="4898880" cy="67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 1926—1927 годах написал девять киносценарие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 1927 году восстановил журнал ЛЕФ под названием «Новый ЛЕФ». Всего вышло 24 номера. Летом 1928 года Маяковский разочаровался в ЛЕФе и ушёл из организации и журнала. В этом же году он начал писать свою личную биографию «Я сам». С 8 октября по 8 декабря — поездка за границу, по маршруту Берлин — Париж. В ноябре вышел в свет I и II том собрания сочинени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Сатирические пьесы «Клоп» (1928) и «Баня» (1929) были поставлены Мейерхольдом. Сатира поэта, особенно «Баня», вызвала травлю со стороны рапповской критики. В 1929 году поэт организовал группу «РЕФ», но уже в феврале 1930 года ушёл из неё, вступив в РАПП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8" name="Изображение 1" descr=""/>
          <p:cNvPicPr/>
          <p:nvPr/>
        </p:nvPicPr>
        <p:blipFill>
          <a:blip r:embed="rId1"/>
          <a:stretch/>
        </p:blipFill>
        <p:spPr>
          <a:xfrm>
            <a:off x="5634000" y="357120"/>
            <a:ext cx="528948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262160" y="118800"/>
            <a:ext cx="8594640" cy="67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Многие исследователи творческого развития Маяковского уподобляют его поэтическую жизнь пятиактному действу с прологом и эпилогом. Роль своего рода пролога в творческом пути поэта сыграла трагедия «Владимир Маяковский» (1913), первым актом стали поэмы «Облако в штанах» (1914—1915) и «Флейта-позвоночник» (1915), вторым актом — поэмы «Война и мир» (1915—1916) и «Человек» (1916—1917), третьим актом — пьеса «Мистерия-буфф» (первый вариант — 1918, второй — 1920—1921) и поэма «150 000 000» (1919—1920), четвёртым актом — поэмы «Люблю» (1922), «Про это» (1923) и «Владимир Ильич Ленин» (1924), пятым актом — поэма «Хорошо!» (1927) и пьесы «Клоп» (1928—1929) и «Баня» (1929—1930), эпилогом — первое и второе вступления в поэму «Во весь голос» (1928—1930) и предсмертное письмо поэта «Всем» (12 апреля 1930 года). Остальные произведения Маяковского, в том числе многочисленные стихотворения, тяготеют к тем или иным частям этой общей картины, основу которой составляют крупные произведения поэ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своих произведениях Маяковский был бескомпромиссен, поэтому и неудобен. В произведениях, написанных им в конце 1920-х годов, стали возникать трагические мотивы. Критики называли его лишь «попутчиком», а не «пролетарским писателем», каким он себя хотел видеть. В 1930 году он организовал выставку, посвящённую 20-летию его творчества, но ему всячески мешали, а саму экспозицию никто из писателей и руководителей государства не посети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262160" y="118800"/>
            <a:ext cx="8594640" cy="67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есной 1930 года в Цирке на Цветном бульваре готовилось грандиозное представление «Москва горит» по пьесе Маяковского, генеральная репетиция намечалась на 21 апреля, но поэт до неё не дожи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78560" indent="-1785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Маяковский стоял у истоков советской рекламы. За рекламную и агитационную деятельность поэт подвергался критике со стороны Б. Пастернака, В. Катаева и М. Светлов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78560" indent="-1785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1930 год начался неудачно для Маяковского. Он много болел. В феврале Лиля и Осип Брик уехали в Европу. Маяковского жёстко прорабатывали в газетах как «попутчика советской власти» — в то время как он сам видел себя пролетарским писателем. Произошёл конфуз с его долгожданной выставкой «20 лет работы», которую не посетил никто из видных литераторов и руководителей государства, на что надеялся поэт. Без успеха в марте прошла премьера пьесы «Баня», провал ожидал и спектакль «Клоп». В начале апреля 1930-го из свёрстанного журнала «Печать и революция» изъяли приветствие «великому пролетарскому поэту по случаю 20-летия работы и общественной деятельности». В литературных кругах циркулировали разговоры о том, что Маяковский исписался. Поэту отказали в визе для заграничной поездки. За два дня до самоубийства, 12 апреля, у Маяковского состоялась встреча с читателями в Политехническом институте, на которой собрались, в основном, комсомольцы; прозвучало много хамских выкриков с мест. Поэта повсюду преследовали ссоры и скандалы. Его душевное состояние становилось всё более тревожным и угнетающим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96440" y="118800"/>
            <a:ext cx="5303880" cy="67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С весны 1919 года Маяковский, несмотря на то, что постоянно жил с Бриками, располагал для работы маленькой комнатой-лодочкой на четвёртом этаже в коммунальной квартире на Лубянке (ныне это Государственный музей В. В. Маяковского, Лубянский проезд, д. 3/6 стр.4). В этой комнате и произошло самоубийство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Утром 14 апреля у Маяковского было назначено свидание с Вероникой (Норой) Полонской. С Полонской поэт встречался уже второй год, настаивал на её разводе и даже записался в писательский кооператив в проезде Художественного театра, куда вместе с Норой собирался переехать жит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Как в 1990-м году вспоминала 82-летняя Полонская в интервью журналу «Советский экран» (№ 13 — 1990), в то роковое утро поэт заехал за ней в восемь часов, потому что в 10.30 у неё в театре была назначена репетиция с Немировичем-Данченко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2" name="Изображение 1" descr=""/>
          <p:cNvPicPr/>
          <p:nvPr/>
        </p:nvPicPr>
        <p:blipFill>
          <a:blip r:embed="rId1"/>
          <a:stretch/>
        </p:blipFill>
        <p:spPr>
          <a:xfrm>
            <a:off x="6234120" y="1824120"/>
            <a:ext cx="460548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26800" y="43920"/>
            <a:ext cx="5229000" cy="659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Я не могла опоздать, это злило Владимира Владимировича. Он запер двери, спрятал ключ в карман, стал требовать, чтобы я не ходила в театр, и вообще ушла оттуда. Плакал… Я спросила, не проводит ли он меня. «Нет»,— сказал он, но обещал позвонить. И ещё спросил, есть ли у меня деньги на такси. Денег у меня не было, он дал двадцать рублей… Я успела дойти до парадной двери и услышала выстрел. Заметалась, боялась вернуться. Потом вошла и увидела ещё не рассеявшийся дым от выстрела. На груди Маяковского было небольшое кровавое пятно. Я бросилась к нему, я повторяла: «Что вы сделали?..» Он пытался приподнять голову. Потом голова упала, и он стал страшно бледнеть… Появились люди, мне кто-то сказал: "Бегите, встречайте карету «Скорой помощи»… Выбежала, встретила. Вернулась, а на лестнице мне кто-то говорит: «Поздно. Умер…»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Вероника Полонская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4" name="Изображение 1" descr=""/>
          <p:cNvPicPr/>
          <p:nvPr/>
        </p:nvPicPr>
        <p:blipFill>
          <a:blip r:embed="rId1"/>
          <a:stretch/>
        </p:blipFill>
        <p:spPr>
          <a:xfrm>
            <a:off x="6566040" y="241200"/>
            <a:ext cx="4052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096920" y="253800"/>
            <a:ext cx="8594640" cy="67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Предсмертное письмо, заготовленное двумя днями ранее, внятное и подробное (что, по мнению исследователей, исключает версию о спонтанности выстрела), начинается словами: «В том, что умираю, не вините никого, и, пожалуйста, не сплетничайте, покойник этого ужасно не любил…». Поэт называет Лилю Брик (а также Веронику Полонскую), мать и сестёр членами своей семьи и просит все стихи и архивы передать Брикам. На похороны Брики успели прибыть, срочно прервав европейское турне; Полонская же, напротив, не решилась присутствовать, поскольку мать и сёстры Маяковского считали её виновницей гибели поэта. Три дня при нескончаемом людском потоке прощание шло в Доме писателей. К Донскому кладбищу поэта в железном гробу под пение «Интернационала» провожали десятки тысяч поклонников его таланта. По иронии судьбы, «футуристический» железный гроб Маяковскому сделал скульптор-авангардист Антон Лавинский, муж художницы Лили Лавинской, родившей от связи с Маяковским сын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Поэт был кремирован в открытом тремя годами ранее первом московском крематории близ Донского монастыря. Мозг был изъят для исследований Институтом мозга. Первоначально прах находился там же, в колумбарии Нового Донского кладбища, но в результате настойчивых действий Лилии Брик и старшей сестры поэта Людмилы урна с прахом Маяковского 22 мая 1952 года была перенесена и захоронена на Новодевичьем кладбищ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Изображение 3" descr=""/>
          <p:cNvPicPr/>
          <p:nvPr/>
        </p:nvPicPr>
        <p:blipFill>
          <a:blip r:embed="rId1"/>
          <a:stretch/>
        </p:blipFill>
        <p:spPr>
          <a:xfrm>
            <a:off x="946080" y="210960"/>
            <a:ext cx="94870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1800" y="299880"/>
            <a:ext cx="9691560" cy="68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роизведения В.В.Маяковского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62160" y="1028520"/>
            <a:ext cx="8594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Литературные произведения Владимира Маяковского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тихотворения, поэмы, фельетоны, публицистические статьи, пьесы: "Владимир Маяковский" (1913, трагедия), "Штатская шрапнель" (ноябрь 1914, статья), "Война объявлена" (июль 1914), "Мама и убитый немцами вечер" (ноябрь 1914), "Облако в штанах"(1915 лирическая поэма), "Флейта-позвоночник" (1916, поэма), "Война и мир" (1916, отдельное издание - 1917, поэма), "Человек"(1916 - 1917, опубликована - 1918, поэма), "Мистерия-Буфф" (1918, 2-й вариант - 1921, пьеса), "Левый марш" (1918), "Хорошее отношение к лошадям" (1918), "150 000 000" (1919 - 1920, 1-е издание без имени автора, 1921, поэма), "Прозаседавшиеся" (1922), "Люблю" (1922), "Про это" (1923), "Владимир Ильич Ленин" (1924, поэма), "Париж" (1924 - 1925, цикл стихов), "Стихи об Америке" (1925 - 1926, цикл стихов), "Товарищу Нетте, пароходу и человеку" (1926), "Сергею Есенину" (1926), "Хорошо!" (1927, поэма), "Письмо Татьяне Яковлевой" (1928), "Помпадур" (1928), "Клоп" (1928, поставлена в 1929, пьеса), "Разговор с товарищем Лениным" (1929), "Стихи о советском паспорте" (1929), "Баня" (1929, поставлена в 1930, пьеса), "Во весь голос" (1930, поэма), стихи для детей, "Я сам" (автобиографическая повесть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1800" y="299880"/>
            <a:ext cx="9691560" cy="68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роизведения В.В.Маяковского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262160" y="1028520"/>
            <a:ext cx="8594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аботы Владимира Маяковского в кино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ценарии к фильмам "Погоня за славой" (1913), "Барышня и хулиган" (по произведению "Учительница рабочих" Э. Д’Амичиса, 1918, снимался в главной роли), "Не для денег родившийся" (по "Мартину Идену" Дж. Лондона, 1918, снимался в главной роли), "Закованная фильмой" (1918, снимался в главной роли), "На фронт" (1920, агитфильм), "Дети" ("Трое", 1928), "Декабрюхов и Октябрюхов" (1928), "Слон и спичка" (1926 - 1927, не был поставлен), "Сердце кино" (1926 - 1927, не был поставлен), "Любовь Шкафолюбова" (1926 - 1927, не был поставлен), "Как поживаете?" (1926 - 1927, не был поставлен), "История одного нагана" (1926 - 1927, не был поставлен), "Товарищ Копытко" (1926 - 1927, не был поставлен; отдельные моменты были использовал в пьесе "Баня"), "Позабудь про камин" (1926 - 1927, не был поставлен; сценарий был переработан в комедию "Клоп"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изведения Маяковского-художника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ртретные зарисовки, эскизы лубков, театральные работы, плакаты, книжная график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Биография русского поэт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ладимир Маяковский родился в селе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Багдати Кутаисской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губернии (в советское время посёлок назывался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Маяковский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) в Грузии, в семье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ладимира Константиновича Маяковского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1857—1906), служившего лесничим третьего разряда в Эриванской губернии, с 1889 в Багдатском лесничестве. Мать поэта,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лександра Алексеевна Павленко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1867—1954), из рода кубанских казаков, родилась на Кубани, в станице Терновская. Одна из бабушек, Ефросинья Осиповна Данилевская, — двоюродная сестра автора исторических романов Г. П. Данилевского. У будущего поэта было две сестры: Людмила (1884—1972) и Ольга (1890—1949), и два брата: Константин (умер в трёхлетнем возрасте от скарлатины) и Александр (умер в младенчестве). 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Изображение 5" descr=""/>
          <p:cNvPicPr/>
          <p:nvPr/>
        </p:nvPicPr>
        <p:blipFill>
          <a:blip r:embed="rId1"/>
          <a:stretch/>
        </p:blipFill>
        <p:spPr>
          <a:xfrm>
            <a:off x="2050920" y="306360"/>
            <a:ext cx="715356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1800" y="219240"/>
            <a:ext cx="969156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Интересные факты из жизн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62160" y="1072800"/>
            <a:ext cx="859464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- Полюбив Татьяну Яковлеву, поэт Владимир Маяковский разрывался между любовью к ней и Родиной: Яковлева навсегда уезжала в Париж. Он не смог покинуть Родину и перевёл на счёт цветочного магазина большую сумму денег, чтобы по утрам приносили цветы любимой женщине. Шли годы, не было уже на земле поэта, отгремела война, а Яковлевой каждое утро приносили цветы от поэт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ладимир Маяковский очень любил животных, особенно собак. Как-то раз он подобрал на улице бездомную собаку и назвал её Щен. Часто в записках Лиле Брик подписывался именно так — Щен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аяковский рано остался без отца. Отец его умер от простого укола иглой. Видимо, это сильно повлияло на поэта, поэтому он всегда носил с собой мыльницу и мыл руки постоянно, чтобы не заразиться какой-нибудь болезнь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днажды Владимир Маяковский посетил редакцию какого-то журнала, а, уходя, обнаружил пропажу своей палки и сказал: «А где же моя палка? Пропала палка. Впрочем, зачем говорить "пропала палка", когда можно сказать проще: пропалка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1800" y="219240"/>
            <a:ext cx="969156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Интересные факты из жизн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62160" y="1072800"/>
            <a:ext cx="859464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ак-то раз Владимир Маяковский, проиграв литератору-полупрофессионалу и отличному бильярдисту Василию Борахвостову приличную сумму, выписал сопернику доверенность на получение в издательстве гонорара за статью «Как делать стихи». Доверенность на получение денег за статью так и не была использована. Теперь Федерация бильярдного спорта стремится заполучить эту доверенность как реликви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78560" indent="-1785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аяковский подарил своей возлюбленной Лиле Юрьевне Брик кольцо с её инициалами — «Л Ю Б». Будучи расположенными по кругу, эти буквы складывались в бесконечное «ЛЮБЛЮ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78560" indent="-1785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сточник выражения «И ежу понятно» — стихотворение Маяковского («Ясно даже и ежу — / Этот Петя был буржуй»). Широкое распространение оно получило сначала в повести Стругацких «Страна багровых туч», а затем в советских интернатах для одарённых детей. В них набирали подростков, которым осталось учиться два года (классы А, Б, В, Г, Д) или один год (классы Е, Ж, И). Учеников одногодичного потока так и называли — «ежи». Когда они приходили в интернат, двухгодичники уже опережали их по нестандартной программе, поэтому в начале учебного года выражение «ежу понятно» было очень актуально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Изображение 1" descr=""/>
          <p:cNvPicPr/>
          <p:nvPr/>
        </p:nvPicPr>
        <p:blipFill>
          <a:blip r:embed="rId1"/>
          <a:stretch/>
        </p:blipFill>
        <p:spPr>
          <a:xfrm>
            <a:off x="6829560" y="987480"/>
            <a:ext cx="3111480" cy="4444920"/>
          </a:xfrm>
          <a:prstGeom prst="rect">
            <a:avLst/>
          </a:prstGeom>
          <a:ln w="0">
            <a:noFill/>
          </a:ln>
        </p:spPr>
      </p:pic>
      <p:pic>
        <p:nvPicPr>
          <p:cNvPr id="175" name="Изображение 2" descr=""/>
          <p:cNvPicPr/>
          <p:nvPr/>
        </p:nvPicPr>
        <p:blipFill>
          <a:blip r:embed="rId2"/>
          <a:stretch/>
        </p:blipFill>
        <p:spPr>
          <a:xfrm>
            <a:off x="1592280" y="987480"/>
            <a:ext cx="3111480" cy="44449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"/>
          <p:cNvSpPr/>
          <p:nvPr/>
        </p:nvSpPr>
        <p:spPr>
          <a:xfrm>
            <a:off x="1592280" y="5432400"/>
            <a:ext cx="311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лександра Алексеевн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вленк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6829560" y="5432400"/>
            <a:ext cx="311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ладими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нстантинович Маяковск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262160" y="356760"/>
            <a:ext cx="859464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 1902 году Маяковский поступил в гимназию в Кутаиси. Как и его родители, он свободно владел грузинским языко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 поэме «Владикавказ — Тифлис» 1924 г. Маяковский называет себя «грузином».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 феврале 1906 года от заражения крови умер его отец после того, как уколол палец иголкой, сшивая бумаги. С тех пор Маяковский терпеть не мог булавок и заколок, бактериофобия осталась пожизненно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 июле 1906, после смерти отца, Маяковский вместе с мамой и сёстрами переехал в Москву, где поступил в IV класс 5-й классической гимназии, где учился в одном классе с братом Б. Л. Пастернака Шурой. Семья жила в бедности. В марте 1908 года был исключён из V класса из-за неуплаты за обучение. На данный момент это московская школа № 91 на Поварской улице, оригинальное здание не сохранилос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Маяковский, увлекшись идеями социал-демократии, вступает в 1908 в РСДРП и принимает участие в подпольной работе. Первое «полустихотворение» Маяковский напечатал в нелегальном журнале «Порыв», который издавался Третьей гимназией. По его словам, «получилось невероятно революционно и в такой же степени безобразно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89000" y="158400"/>
            <a:ext cx="5416560" cy="66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аяковский трижды арестовывался (по делу о подпольной типографии, по подозрению в связи с группой анархистов-экспроприаторов, по подозрению в пособничестве побегу женщин-политкаторжанок из Новинской тюрьмы), но в конце концов был отпущен на поруки матери, после чего вышел из рядов коммунистической партии и, вопреки распространенному мнению, впоследствии в нее не вступал.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тюрьме Маяковский «скандалил», поэтому его часто переводили из части в часть: Басманная, Мещанская, Мясницкая и, наконец, Бутырская тюрьма, где он провёл 11 месяцев в одиночной камере № 103.  Именно в тюрьме, под впечатлением от впервые прочитанных современных стихов, в частности – Бальмонта, Маяковский сделал первые шаги в поэзии (стихи не сохранились),но был недоволен написанны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0" name="Изображение 3" descr=""/>
          <p:cNvPicPr/>
          <p:nvPr/>
        </p:nvPicPr>
        <p:blipFill>
          <a:blip r:embed="rId1"/>
          <a:stretch/>
        </p:blipFill>
        <p:spPr>
          <a:xfrm>
            <a:off x="6340320" y="158760"/>
            <a:ext cx="479124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262160" y="356760"/>
            <a:ext cx="859464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1911, после нескольких попыток поступить в какое-либо художественное учебное заведение, Маяковский становится учащимся Школы живописи, ваяния и зодчества в Москве. Через учившегося там же Давида Бурлюка, одного из лидеров группы футуристов «Гилея», Маяковский знакомится с миром московского литературно-художественного авангарда. Бурлюк, которого Маяковский познакомил со своими стихами, высоко оценил их и рекомендовал продолжить занятия поэзией.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 конца 1912 – начала 1923 Маяковский принимает участие в художественных выставках современного искусства. 30 ноября 1912 года состоялось первое публичное выступление Маяковского в артистическом подвале «Бродячая собака»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 1913 году вышел первый сборник Маяковского «Я» (цикл из четырёх стихотворений). Он был написан от руки, снабжён рисунками Василия Чекрыгина и Льва Жегина и размножен литографическим способом в количестве 300 экземпляров. В качестве первого раздела этот сборник вошёл в книгу стихов поэта «Простое как мычание» (1916). Также его стихи появлялись на страницах футуристских альманахов «Молоко кобылиц», «Дохлая луна», «Рыкающий Парнас» и др., начали печататься в периодических изданиях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240" y="237960"/>
            <a:ext cx="5614920" cy="729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этом же году поэт обратился к драматургии. Была написана и поставлена программная трагедия «Владимир Маяковский». Декорации для неё писали художники из «Союза молодёжи» П. Н. Филонов и И. С. Школьник, а сам автор выступил режиссёром и исполнителем главной рол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феврале 1914 года Маяковский и Бурлюк были исключены из училища за публичные выступления. В 1914—1915 годах Маяковский работал над поэмой «Облако в штанах». После начала Первой мировой войны вышло стихотворение «Война объявлена». В августе Маяковский решил записаться в добровольцы, но ему не позволили, объяснив это политической неблагонадёжностью. Вскоре своё отношение к службе в царской армии Маяковский выразил в стихотворении «Вам!», которое впоследствии стало песн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3" name="Изображение 3" descr=""/>
          <p:cNvPicPr/>
          <p:nvPr/>
        </p:nvPicPr>
        <p:blipFill>
          <a:blip r:embed="rId1"/>
          <a:stretch/>
        </p:blipFill>
        <p:spPr>
          <a:xfrm>
            <a:off x="6162840" y="237960"/>
            <a:ext cx="453204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262160" y="356760"/>
            <a:ext cx="8594640" cy="67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29 марта 1914 года Маяковский вместе с Бурлюком и Каменским прибыл с гастролями в Баку — в составе «знаменитых московских футуристов». Вечером того же дня в театре братьев Маиловых Маяковский читал доклад о футуризме, иллюстрируя его стихам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 июле 1915 года поэт познакомился с Лилей Юрьевной и Осипом Максимовичем Бриками. В 1915—1917 годах Маяковский по протекции Максима Горького проходил военную службу в Петрограде в Учебной автомобильной школе. Солдатам печататься не разрешали, но его спас Осип Брик, который выкупил поэмы «Флейта-позвоночник» и «Облако в штанах» по 50 копеек за строку и напечатал. Антивоенная лирика: «Мама и убитый немцами вечер», «Я и Наполеон», поэма «Война и мир» (1915). Обращение к сатире. Цикл «Гимны» для журнала «Новый Сатирикон» (1915). В 1916 году вышел первый большой сборник «Простое как мычание». 1917 год — «Революция. Поэтохроника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3 марта 1917 года Маяковский возглавил отряд из 7 солдат, который арестовал командира Учебной автомобильной школы генерала П. И. Секретева. Любопытно, что незадолго до этого, 31 января, Маяковский получил из рук Секретева серебряную медаль «За усердие». В течение лета 1917 года Маяковский энергично хлопотал о признании его негодным к военной службе и осенью был освобожден от неё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0360" indent="-1803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262160" y="118800"/>
            <a:ext cx="8594640" cy="67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6760" indent="-1767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Маяковский в 1918 году снимался в трёх фильмах по собственным сценариям. В августе 1917 года задумал написать «Мистерию Буфф», которая была закончена 25 октября 1918 года и поставлена к годовщине революции (реж. Вс. Мейерхольд, худ. К. Малевич). 17 декабря этого года поэт впервые прочёл со сцены Матросского театра стихи «Левый марш». В 1918 году Маяковский организовал группу «Комфут» (коммунистический футуризм).  Годы гражданской войны Маяковский считает лучшим временем в жизни, в поэме «Хорошо!», написанной в благополучном 1927 году, есть ностальгические глав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76760" indent="-1767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 марте 1919 года он переезжает в Москву, начинает активно сотрудничать в РОСТА -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оссийское телеграфное агентство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(1919—1921), оформляет (как поэт и как художник) для РОСТА агитационно-сатирические плакаты («Окна РОСТА»). В 1919 году вышло первое собрание сочинений поэта — «Всё сочинённое Владимиром Маяковским. 1909—1919». В 1918—1919 годах выступает в газете «Искусство коммуны». Пропаганда мировой революции и революции духа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76760" indent="-1767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 1920 году закончил писать поэму «150 000 000», в которой отражена тема мировой революци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76760" indent="-17676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venir Light"/>
              </a:rPr>
              <a:t>В 1922—1923 годах в ряде произведений продолжал настаивать на необходимости мировой революции и революции духа — «IV интернационал», «Пятый интернационал», «Моя речь на генуэзской конференции» и д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7:02:41Z</dcterms:created>
  <dc:creator>Никита Шелихов</dc:creator>
  <dc:description/>
  <dc:language>en-US</dc:language>
  <cp:lastModifiedBy>Никита Шелихов</cp:lastModifiedBy>
  <dcterms:modified xsi:type="dcterms:W3CDTF">2017-01-09T03:52:17Z</dcterms:modified>
  <cp:revision>20</cp:revision>
  <dc:subject/>
  <dc:title>Презентация PowerPoint</dc:title>
</cp:coreProperties>
</file>