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image19.jpeg" ContentType="image/jpeg"/>
  <Override PartName="/ppt/media/image16.wmf" ContentType="image/x-wmf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17.wmf" ContentType="image/x-wmf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8A7-2308-4142-BA8D-BDF7B596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5E4-2CC9-4C8D-98D2-9416929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A25-69E2-4766-9C7F-9043C84D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44E-494F-4054-B5AC-05B31EE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CBD9-827E-4C55-B52D-C61B4E01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1B17-EAE2-48B1-880B-8B43EE8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79DF-B939-4BC3-9FF3-4FFBCCAF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461D-0D73-491B-92B5-E1D2843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6BA8-94B8-466E-9C11-CE20988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F7B-C482-4D78-B781-4A07B4F3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D90-1C26-4DCF-81BA-5AF6ADE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DC4-53E1-4912-A138-6F56E19A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62C-108D-4161-9DFB-1917E9FF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BE71-8B6D-4D05-82B0-D8C193D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111E-EBD7-490F-A86D-91EA52DE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2D3-5DB3-444E-AABF-EAD1D08E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C31-F820-4596-8794-5F854CA6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F5F-8C22-4F13-916B-2119F1E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A29-FEE2-4AD2-ACE7-B2F617D8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C0A-F86E-439B-BACE-04D93C86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000-D91D-4595-8080-89E32525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4EA-BB70-4BF5-9534-082F568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B8F-57C8-4885-975D-B816DEC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471-A9CF-4E46-8980-F02E799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C5A-77BB-4171-A2A9-9ECAF2D780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D23-7A0C-48D0-AA6A-839C380CE05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http://upload.wikimedia.org/wikipedia/commons/a/af/RathausDomBuergerschaft-01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hyperlink" Target="http://upload.wikimedia.org/wikipedia/commons/4/49/Weserhb.jpg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304920" y="2286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Bundesländ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der BRD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0" descr="img044"/>
          <p:cNvPicPr/>
          <p:nvPr/>
        </p:nvPicPr>
        <p:blipFill>
          <a:blip r:embed="rId1"/>
          <a:stretch/>
        </p:blipFill>
        <p:spPr>
          <a:xfrm>
            <a:off x="304920" y="1676520"/>
            <a:ext cx="381780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18200" cy="561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93400" y="457200"/>
            <a:ext cx="50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Baden-Württemberg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492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35 75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ca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0.601 Millione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Stuttgart</a:t>
            </a: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5" descr="http://www.dsbw.ru/public/site/images/photo/catalog/partition/info/but_795.jpg"/>
          <p:cNvPicPr/>
          <p:nvPr/>
        </p:nvPicPr>
        <p:blipFill>
          <a:blip r:embed="rId1"/>
          <a:stretch/>
        </p:blipFill>
        <p:spPr>
          <a:xfrm>
            <a:off x="4952880" y="2286000"/>
            <a:ext cx="4000680" cy="333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Описание курорта Штутгарт. Туры в курорт Штутгарт."/>
          <p:cNvPicPr/>
          <p:nvPr/>
        </p:nvPicPr>
        <p:blipFill>
          <a:blip r:embed="rId2"/>
          <a:stretch/>
        </p:blipFill>
        <p:spPr>
          <a:xfrm>
            <a:off x="533520" y="3200400"/>
            <a:ext cx="4038480" cy="326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7126200" y="0"/>
            <a:ext cx="201780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Лаго-Наки (2) 106"/>
          <p:cNvPicPr/>
          <p:nvPr/>
        </p:nvPicPr>
        <p:blipFill>
          <a:blip r:embed="rId4"/>
          <a:stretch/>
        </p:blipFill>
        <p:spPr>
          <a:xfrm>
            <a:off x="5486400" y="0"/>
            <a:ext cx="171288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779040" y="2286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Bayer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8380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70 550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ca. 12.330 Mi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München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6" descr="Германия 4 006"/>
          <p:cNvPicPr/>
          <p:nvPr/>
        </p:nvPicPr>
        <p:blipFill>
          <a:blip r:embed="rId1"/>
          <a:stretch/>
        </p:blipFill>
        <p:spPr>
          <a:xfrm>
            <a:off x="5638680" y="0"/>
            <a:ext cx="1646280" cy="19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http://www.toptour.by/upload/iblock/ade/munchen.jpg"/>
          <p:cNvPicPr/>
          <p:nvPr/>
        </p:nvPicPr>
        <p:blipFill>
          <a:blip r:embed="rId2"/>
          <a:stretch/>
        </p:blipFill>
        <p:spPr>
          <a:xfrm>
            <a:off x="4572000" y="3352680"/>
            <a:ext cx="4435560" cy="332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3"/>
          <a:stretch/>
        </p:blipFill>
        <p:spPr>
          <a:xfrm>
            <a:off x="7269120" y="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Германия прод 108"/>
          <p:cNvPicPr/>
          <p:nvPr/>
        </p:nvPicPr>
        <p:blipFill>
          <a:blip r:embed="rId4"/>
          <a:stretch/>
        </p:blipFill>
        <p:spPr>
          <a:xfrm>
            <a:off x="169920" y="1946160"/>
            <a:ext cx="4155840" cy="300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4"/>
          <p:cNvSpPr/>
          <p:nvPr/>
        </p:nvSpPr>
        <p:spPr>
          <a:xfrm>
            <a:off x="228600" y="65833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as Schloss Neuschwanste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93600" y="0"/>
            <a:ext cx="185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</a:rPr>
              <a:t>Berli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5" descr="Германия 4 009"/>
          <p:cNvPicPr/>
          <p:nvPr/>
        </p:nvPicPr>
        <p:blipFill>
          <a:blip r:embed="rId1"/>
          <a:srcRect l="0" t="0" r="0" b="-1038"/>
          <a:stretch/>
        </p:blipFill>
        <p:spPr>
          <a:xfrm>
            <a:off x="5715000" y="0"/>
            <a:ext cx="163188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685800" y="685800"/>
            <a:ext cx="3581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883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3.388 Mi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die Hauptstadt Deutschlands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609480" y="4473720"/>
            <a:ext cx="3915000" cy="238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3"/>
          <a:stretch/>
        </p:blipFill>
        <p:spPr>
          <a:xfrm>
            <a:off x="7342200" y="0"/>
            <a:ext cx="180180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4"/>
          <a:stretch/>
        </p:blipFill>
        <p:spPr>
          <a:xfrm>
            <a:off x="5334120" y="4280040"/>
            <a:ext cx="3809880" cy="257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i_008"/>
          <p:cNvPicPr/>
          <p:nvPr/>
        </p:nvPicPr>
        <p:blipFill>
          <a:blip r:embed="rId5"/>
          <a:stretch/>
        </p:blipFill>
        <p:spPr>
          <a:xfrm>
            <a:off x="0" y="1752480"/>
            <a:ext cx="2819520" cy="240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6"/>
          <a:stretch/>
        </p:blipFill>
        <p:spPr>
          <a:xfrm>
            <a:off x="5715000" y="1981080"/>
            <a:ext cx="3200400" cy="2237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"/>
          <p:cNvPicPr/>
          <p:nvPr/>
        </p:nvPicPr>
        <p:blipFill>
          <a:blip r:embed="rId7"/>
          <a:srcRect l="0" t="0" r="3242" b="0"/>
          <a:stretch/>
        </p:blipFill>
        <p:spPr>
          <a:xfrm>
            <a:off x="2743200" y="2057400"/>
            <a:ext cx="2971800" cy="2282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6"/>
          <p:cNvSpPr/>
          <p:nvPr/>
        </p:nvSpPr>
        <p:spPr>
          <a:xfrm>
            <a:off x="228600" y="38862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ter den Linde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1066680" y="64911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andenburger 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17220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liner Mau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5943600" y="3733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Denkmal für die ermordeten Juden Europ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2743200" y="38098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Die Museumsinsel in Berlin (Bode-Museum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459360" y="22860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Brandenbur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04920" y="76212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29 476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ca. 2.593 Mi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Potsd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6910560" y="0"/>
            <a:ext cx="2233440" cy="236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Германия 4 014"/>
          <p:cNvPicPr/>
          <p:nvPr/>
        </p:nvPicPr>
        <p:blipFill>
          <a:blip r:embed="rId2"/>
          <a:stretch/>
        </p:blipFill>
        <p:spPr>
          <a:xfrm>
            <a:off x="5105520" y="0"/>
            <a:ext cx="1850760" cy="236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http://www.odintsovo.info/img/2008/09/cicioienkhof.jpg"/>
          <p:cNvPicPr/>
          <p:nvPr/>
        </p:nvPicPr>
        <p:blipFill>
          <a:blip r:embed="rId3"/>
          <a:stretch/>
        </p:blipFill>
        <p:spPr>
          <a:xfrm>
            <a:off x="4495680" y="3276720"/>
            <a:ext cx="4483080" cy="33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http://www.zavalkov-reisen.de/uploads/tx_as/ZWINGER_MUSEUM_f91e5.jpg"/>
          <p:cNvPicPr/>
          <p:nvPr/>
        </p:nvPicPr>
        <p:blipFill>
          <a:blip r:embed="rId4"/>
          <a:stretch/>
        </p:blipFill>
        <p:spPr>
          <a:xfrm>
            <a:off x="152280" y="419112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http://ariola.kaliningrad.ru/img/1246278824.jpg"/>
          <p:cNvPicPr/>
          <p:nvPr/>
        </p:nvPicPr>
        <p:blipFill>
          <a:blip r:embed="rId5"/>
          <a:stretch/>
        </p:blipFill>
        <p:spPr>
          <a:xfrm>
            <a:off x="838080" y="1523880"/>
            <a:ext cx="352584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704520" y="3808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Brem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52280" y="91440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404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0.66 Mi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ff0101"/>
                </a:solidFill>
                <a:latin typeface="Verdana"/>
              </a:rPr>
              <a:t>Brem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7126200" y="0"/>
            <a:ext cx="2017800" cy="213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Германия 4 017"/>
          <p:cNvPicPr/>
          <p:nvPr/>
        </p:nvPicPr>
        <p:blipFill>
          <a:blip r:embed="rId2"/>
          <a:stretch/>
        </p:blipFill>
        <p:spPr>
          <a:xfrm>
            <a:off x="5562720" y="0"/>
            <a:ext cx="1612800" cy="2133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atei:RathausDomBuergerschaft-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124080"/>
            <a:ext cx="4371840" cy="327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Германия прод 113"/>
          <p:cNvPicPr/>
          <p:nvPr/>
        </p:nvPicPr>
        <p:blipFill>
          <a:blip r:embed="rId5"/>
          <a:stretch/>
        </p:blipFill>
        <p:spPr>
          <a:xfrm>
            <a:off x="0" y="1981080"/>
            <a:ext cx="3200400" cy="2843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bremen001"/>
          <p:cNvPicPr/>
          <p:nvPr/>
        </p:nvPicPr>
        <p:blipFill>
          <a:blip r:embed="rId6"/>
          <a:stretch/>
        </p:blipFill>
        <p:spPr>
          <a:xfrm>
            <a:off x="3352680" y="609480"/>
            <a:ext cx="2149560" cy="31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Файл:Weserh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52480" y="487692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5562720" y="6324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tplatz und Ratha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558720" y="38088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Hambur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52280" y="914400"/>
            <a:ext cx="33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755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1.726 Mi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 </a:t>
            </a:r>
            <a:r>
              <a:rPr b="1" lang="de-DE" sz="1800" spc="-1" strike="noStrike">
                <a:solidFill>
                  <a:srgbClr val="ff0101"/>
                </a:solidFill>
                <a:latin typeface="Verdana"/>
              </a:rPr>
              <a:t>Hambur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5" descr="http://www.avialine.com/img/repphotos/repphoto_105_1460.jpg"/>
          <p:cNvPicPr/>
          <p:nvPr/>
        </p:nvPicPr>
        <p:blipFill>
          <a:blip r:embed="rId1"/>
          <a:stretch/>
        </p:blipFill>
        <p:spPr>
          <a:xfrm>
            <a:off x="0" y="19810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ttp://www.realtyinvest-hamburg.com/images/hamburg/Hamburg_hbf1.jpg"/>
          <p:cNvPicPr/>
          <p:nvPr/>
        </p:nvPicPr>
        <p:blipFill>
          <a:blip r:embed="rId2"/>
          <a:stretch/>
        </p:blipFill>
        <p:spPr>
          <a:xfrm>
            <a:off x="495288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3"/>
          <a:stretch/>
        </p:blipFill>
        <p:spPr>
          <a:xfrm>
            <a:off x="7054920" y="0"/>
            <a:ext cx="208908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Германия 4 017"/>
          <p:cNvPicPr/>
          <p:nvPr/>
        </p:nvPicPr>
        <p:blipFill>
          <a:blip r:embed="rId4"/>
          <a:stretch/>
        </p:blipFill>
        <p:spPr>
          <a:xfrm>
            <a:off x="5410080" y="0"/>
            <a:ext cx="16686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Verdana"/>
              </a:rPr>
              <a:t>Hess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8600" y="9144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öße: 21 110 qk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wohnerzahl: 6.078 Mi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eshauptstadt: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Wiesbaden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Германия 4 019"/>
          <p:cNvPicPr/>
          <p:nvPr/>
        </p:nvPicPr>
        <p:blipFill>
          <a:blip r:embed="rId1"/>
          <a:stretch/>
        </p:blipFill>
        <p:spPr>
          <a:xfrm>
            <a:off x="5334120" y="0"/>
            <a:ext cx="1753920" cy="228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Германия 4 021"/>
          <p:cNvPicPr/>
          <p:nvPr/>
        </p:nvPicPr>
        <p:blipFill>
          <a:blip r:embed="rId3"/>
          <a:stretch/>
        </p:blipFill>
        <p:spPr>
          <a:xfrm>
            <a:off x="228600" y="1752480"/>
            <a:ext cx="3962520" cy="2486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ttp://upload.wikimedia.org/wikipedia/commons/2/28/Wiesbaden-biebrich-schloss.jpg"/>
          <p:cNvPicPr/>
          <p:nvPr/>
        </p:nvPicPr>
        <p:blipFill>
          <a:blip r:embed="rId4"/>
          <a:stretch/>
        </p:blipFill>
        <p:spPr>
          <a:xfrm>
            <a:off x="4572000" y="2590920"/>
            <a:ext cx="4437000" cy="332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http://www.mormo.de/051107-Wiesbaden/Park_im_Zentrum_von_Wiesbaden.jpg"/>
          <p:cNvPicPr/>
          <p:nvPr/>
        </p:nvPicPr>
        <p:blipFill>
          <a:blip r:embed="rId5"/>
          <a:stretch/>
        </p:blipFill>
        <p:spPr>
          <a:xfrm>
            <a:off x="1447920" y="4684680"/>
            <a:ext cx="2898720" cy="2173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457200" y="3886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ankfurter Skyli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50:31Z</dcterms:created>
  <dc:creator>Елена</dc:creator>
  <dc:description/>
  <dc:language>en-US</dc:language>
  <cp:lastModifiedBy>Перетятько Елена Владимировна</cp:lastModifiedBy>
  <dcterms:modified xsi:type="dcterms:W3CDTF">2017-09-20T07:24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