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A01-022D-45AA-9258-BEFA5F72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3EF-3B4B-4C03-AEF1-1D14B664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1974-31CB-4C34-975E-AE403244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DC9-122B-4872-B2FC-02BE0BF8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85D6-509B-4BDA-994F-F7A340E9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0B71-E5E7-45BA-8ED5-3E4133EE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5B86-880A-47CF-AC69-EF348AF5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AA4B-CF67-4E86-930D-8BC7A3C6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2662-C247-4585-B3A9-ADB03518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1ED0-4377-43EC-8AF0-6B5B891B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0881-B31E-477D-A3B5-D6FABC97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E51F-BF5C-4F34-A032-5A3CD23F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8162-0B19-493F-85C3-1E7D5D85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879E-C1E4-42FA-A7E5-5F2C121C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FE1C-E6E5-48A7-B9E3-08AF3C13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6BE8-D26E-4C8F-AC2A-6B3E065B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5D40-4D89-47B1-A642-EC91725B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E67-C4BF-4154-A1DC-EFBBD22B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6DB-8C26-42FC-957D-538C6B35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BF2D-6B22-4B2B-B849-1FD04A1D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AA36-29C1-4F70-AA4C-12E7CA1F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11F-D617-4D1E-B6DE-225B7DC8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ADF-F070-438D-81F8-2F2E7458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D41-1BCE-4098-95A7-7663AFC3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E971-78DE-4963-BFB1-0B3B3CC99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36C8-9E67-431B-8AFA-04D87DEA6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Николай Степанович Гумилев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1886— 1921гг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11280" y="4221000"/>
            <a:ext cx="452916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ла:Шуваева Ольга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: Салмина Ольга Владими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74160" y="-513360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404640"/>
            <a:ext cx="8507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Харара путь лежал через малоизученные земли галла в селение Шей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уссейн. По пути пришлось переправляться через быстроводную ре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аби, где Николая Сверчкова чуть не утащил крокодил. Вскоре началис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блемы с провизией. Гумилёв вынужден был охотиться для добыч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питания. Когда цель была достигнута, вождь и духовный настав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ейх Гуссейна Аба Муда прислал экспедиции провизию и тепло приня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ё. Вот как описал пророка Гумилё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Жирный негр восседал на персидских ковр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В полутёмной неубранной за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Точно идол, в браслетах, серьгах и перстня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Лишь глаза его дивно сверка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—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Галл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5157720"/>
            <a:ext cx="821844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йле Селассие I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Аба Му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1049400"/>
            <a:ext cx="4811760" cy="3663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390852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Первая мировая войн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Начало 1914 года было тяжёлым для поэта: перестал существовать цех, возникл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ложности в отношениях с Ахматовой, наскучила богемная жизнь, которую 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ёл, вернувшись из Афри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ервая мировая война началась 28 июля, в начале августа Н. С. Гумилё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записался добровольцем в кавалерию, в действующую армию. Вместе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Николаем на войну (по призыву) ушёл и его брат Дмитрий Гумилёв, который бы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онтужен в бою и умер в 1922 году. Примечательно, что хотя почти все поэты тог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ремени слагали или патриотические, или военные стихи, в боевых действия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добровольцами участвовали лишь двое: Гумилёв и Лившиц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 сентябре и октябре 1914 года проходили учения и подготовка. Уже в ноябр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олк был переброшен в Южную Польшу. 19 ноября состоялось первое сраж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За ночную разведку перед сражением, Приказом по Гвардейском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авалерийскому корпусу от 5 декабря 1915 года № 148б награждён Георгиевск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рестом 3-й степени № 108868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74160" y="-539388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конце февраля в результате непрерывных боевых действий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ъездов Гумилёв заболел простудо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Мы наступали, выбивали немцев из деревень, ходили в                разъезды, я тоже проделывал всё это, но как во сне, то дрожа в ознобе, то сгорая в жару. Наконец, после одной ночи, в течение которой я, не выходя из халупы, совершил по крайней мере двадцать обходов и пятнадцать побегов из плена, я решил смерить температуру. Градусник показал 38,7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3" descr="D:\77\Новая папка (6)\pic3.jpg"/>
          <p:cNvPicPr/>
          <p:nvPr/>
        </p:nvPicPr>
        <p:blipFill>
          <a:blip r:embed="rId2"/>
          <a:stretch/>
        </p:blipFill>
        <p:spPr>
          <a:xfrm>
            <a:off x="108000" y="4070520"/>
            <a:ext cx="1676520" cy="2787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D:\77\Новая папка (6)\foto 32.jpg"/>
          <p:cNvPicPr/>
          <p:nvPr/>
        </p:nvPicPr>
        <p:blipFill>
          <a:blip r:embed="rId3"/>
          <a:stretch/>
        </p:blipFill>
        <p:spPr>
          <a:xfrm>
            <a:off x="5867280" y="4076640"/>
            <a:ext cx="1874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74160" y="-539388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сяц поэт лечился в Петрограде, потом вновь был возвращён на фрон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 1915 году, с апреля по июнь, хотя активных боевых действий не велось, Гумилёв почти ежедневно участвовал в разведывательных разъезд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1915 году Николай Гумилёв воевал на Волыни. Здесь он прошёл самые тяжкие военные испытания, получил 2-й Георгиевский крест, которым очень гордился. На это Анна Ахматова откликнулась несколько скептичес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Долетают редко вести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К нашему крыльцу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Подарили белый крестик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Твоему отц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D:\77\Новая папка (6)\Gumilev.jpg"/>
          <p:cNvPicPr/>
          <p:nvPr/>
        </p:nvPicPr>
        <p:blipFill>
          <a:blip r:embed="rId2"/>
          <a:stretch/>
        </p:blipFill>
        <p:spPr>
          <a:xfrm>
            <a:off x="324000" y="3645000"/>
            <a:ext cx="2171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77400" y="-5393880"/>
            <a:ext cx="133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6 июля началась масштабная атака противника. Была поставлена задача удерживать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зиции до подхода пехоты, операция была проведена успешно, причём было спасен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есколько пулемётов, один из которых нёс Гумилёв. За это 13 января 1915 года приказ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 Гвардейскому кавалерийскому корпусу от 24 декабря 1914 года № 30, он бы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гражден Георгиевским крестом 4-й степени № 134060; переименован в ефрейтора, а 1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января произведён в унтер-офицер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сентябре поэт героем вернулся в Россию, а 28 марта 1916 года приказ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лавнокомандующего Западным фронтом № 3332 произведён в прапорщики с перевод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5-й Гусарский Александрийский полк. Используя эту передышку, Гумилёв вёл активную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литературную деятельнос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апреле 1916 года, поэт прибыл в гусарский полк, стоявший возле Двинска. В мае Гумилё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новь был эвакуирован в Петроград. Описанная в «Записках кавалериста» ночная скачка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жару стоила ему воспаления лёгких. Когда лечение почти закончилось, Гумилёв без спро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ышел на мороз, в результате чего болезнь вновь обострилась. Врачи рекомендовали ем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лечиться на юге. Гумилёв уехал в Ялту. Однако на этом военная жизнь поэта н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акончилась. 8 июля 1916 года он вновь уехал на фронт, вновь не надолго. 17 август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казом по полку № 240 Гумилев был командирован в Николаевское кавалерийско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чилище, потом вновь переведён на фронт и оставался в окопах вплоть до января 191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о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1917 году Гумилёв решил перевестись на Солоникийский фронт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правился в русский экспедиционный корпус в Париж. Во Францию о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ехал северным маршрутом — через Швецию, Норвегию и Англию.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Лондоне Гумилёв задержался на месяц, где встречался с местны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этами: Гилбертом Честертоном, Борисом Анрепом и др. Англию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умилёв покинул в отличном настроении: бумага и типографские расход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казались там гораздо дешевле, и «Гиперборей» он мог печатать та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74160" y="-539388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4358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быв в Париж, проходил службу в качестве адъютанта при комисса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ременного правительства, где подружился с художниками М. 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арионовым и Н. С. Гончаровой. В Париже поэт влюбился в полурусску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француженку Елену Кароловну дю Буше, дочь известного хирург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вятил ей стихотворный сборник «К Синей звезде», вершину любовной лир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эта. Вскоре Гумилёв перешёл в 3-ю бригаду. Однако разложение арм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увствовалось и там. Вскоре 1-я и 2-я бригада подняли мятеж. Он был подавле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ногих солдат депортировали в Петроград, оставшихся объединили в одн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обую бригаду. 22 января 1918 года Анреп устроил его в шифровальный отд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сского правительственного комитета. Там Гумилёв работал два месяца. Одна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иновничья работа не устраивала его, и вскоре поэт вернулся в Росс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74160" y="-539388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20 году был учреждён Петроградский отдел Всероссийского Сою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исателей, туда вошёл и Гумилёв. Формально главой Союза был избр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ок, однако фактически Союзом управляла «более ч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большевистски» настроенная группа поэтов во главе с Павлович. П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логом того, что в выборах председателя не было достигнуто квору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ли назначены перевыборы. Лагерь Павлович, считая, что это прост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рмальность, согласился, однако на перевыборах была неожидан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начена кандидатура Гумилёва, который и побед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вя в Советской России, Николай Гумилёв не скрывал своих религиоз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политических взглядов — он открыто крестился на храмы, заявлял 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их воззрениях. Так, на одном из поэтических вечеров он на вопрос и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ла — «каковы ваши политические убеждения?» ответил — «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беждённый монархист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Жизнь в Советской Росси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5075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августа 1918 года состоялся развод с Анной Ахматовой. Отношения межд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этами разладились давно, но развестись с правом вновь вступить в брак д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волюции было невозмож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1919 году женился на Анне Николаевне Энгельгардт, дочери историка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итературоведа Н. А. Энгельгардта, этот брак также оказался неудач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2" descr="D:\77\Новая папка (6)\1000013726.jpg"/>
          <p:cNvPicPr/>
          <p:nvPr/>
        </p:nvPicPr>
        <p:blipFill>
          <a:blip r:embed="rId2"/>
          <a:stretch/>
        </p:blipFill>
        <p:spPr>
          <a:xfrm>
            <a:off x="468360" y="3576600"/>
            <a:ext cx="2666880" cy="3281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D:\77\Новая папка (6)\977_1.jpg"/>
          <p:cNvPicPr/>
          <p:nvPr/>
        </p:nvPicPr>
        <p:blipFill>
          <a:blip r:embed="rId3"/>
          <a:stretch/>
        </p:blipFill>
        <p:spPr>
          <a:xfrm>
            <a:off x="3276720" y="3807000"/>
            <a:ext cx="55432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Арест и гибель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 августа 1921 года Николай был арестован по подозрению в участии в заговор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Петроградской боевой организации В. Н. Таганцева». Несколько дней Михаи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озинский и Николай Оцуп пытались выручить друга, но, несмотря на это, вскор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эт был расстреля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4 августа вышло постановление Петроградской ГубЧК о расстреле участни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Таганцевского заговора» (всего 61 человек), опубликованное 1 сентября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казанием на то, что приговор уже приведён в исполнение. Дата, место расстрел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захоронения неизвестны. Распространены следующие верси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ернгардовка (долина реки Лубьи) около Всеволожска. Мост через реку Лубья, на берегу установлен памятный крес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йон пристани «Лисий Нос», за пороховыми складами. Глухая местность недалеко от ж/д станции «Раздельная» (ныне Лисий Нос) ранее использовалась как место проведения казней по приговорам военно-полевых суд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нна Ахматова считала, что место казни было на окраине города в стороне Пороховы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валевский лес, в районе арсенала Ржевского полигона, у изгиба реки Лубь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91 году Гумилёв был реабилитирова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075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етство и ю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64000" y="1341000"/>
            <a:ext cx="540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одился в семье кронштадтского корабельного врача Степана Яковлевич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умилёва . Мать — Гумилёва (Львова) Анна Ивановна. С детства Гумилё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ыл слабым и болезненным ребёнком: его постоянно мучили голов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оли, он плохо реагировал на шум. Несмотря на это часто участвовал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грах со сверстниками, где постоянно старался руководить. Но общению 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етьми он предпочитал одиночество или общество животных — «рыже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баки», попугая, морских свинок. Людей он избегал. В 1900—1903 гг. жи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Грузии, куда был послан отцом. Здесь в «Тифлисском листке» 1902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публиковал своё первое стихотворение. Поступил в гимназию Гуревича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о, проучившись год, заболел и родители пригласили ему репетитора. О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аметил склонность Гумилёва к зоологии и географ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етские годы Гумилёв провёл в Царском Селе, там же в 1894 год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ступил в гимназию, директором которой был известный поэт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 Анненский. После окончания гимназии уехал учиться в Сорбонн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1986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74160" y="-539388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ест-кенотаф в вероятном месте расстрела Н. С. Гумилева.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рнгардовка (долина реки Лубь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2" descr="D:\77\Новая папка (6)\180px-Крест_Гумилев_Бернгардовка.JPG"/>
          <p:cNvPicPr/>
          <p:nvPr/>
        </p:nvPicPr>
        <p:blipFill>
          <a:blip r:embed="rId2"/>
          <a:stretch/>
        </p:blipFill>
        <p:spPr>
          <a:xfrm>
            <a:off x="611280" y="83664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D:\77\Новая папка (6)\180px-Крест_Гумилев_Ковалевский_лес.JPG"/>
          <p:cNvPicPr/>
          <p:nvPr/>
        </p:nvPicPr>
        <p:blipFill>
          <a:blip r:embed="rId3"/>
          <a:stretch/>
        </p:blipFill>
        <p:spPr>
          <a:xfrm>
            <a:off x="5364000" y="393372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3933720"/>
            <a:ext cx="4572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ест-кенотаф в вероятном месте расстрела                                                                                   Н. С. Гумилева. Ковалевский лес, в районе                                                                             арсенала Ржевского полигона, у изгиба реки Лубьи.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ерсии событий 1921 год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причастности Гумилёва к заговору Таганцева есть три верс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умилёв участвовал в заговоре — официальная советская версия 1921—1986 годов, а также эмиграции. На этой версии сходятся большинство источников, в том числе так утверждает И. Одоевцева, составившая наиболее полную биографию поэта в последние годы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умилёв не участвовал в заговоре — версия либералов 1960-х годов, распространившаяся в СССР времён перестройки (1986—1991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говора не существовало, он полностью был сфабрикован ЧК — современная официальная верс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5ffff"/>
                </a:solidFill>
                <a:latin typeface="Tahoma"/>
              </a:rPr>
              <a:t>Основные черты поэзии</a:t>
            </a:r>
            <a:endParaRPr b="0" lang="en-US" sz="2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сновные темы лирики Гумилёва — любовь, искусство, смерт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акже присутствуют военные и «географические» стихи. В отлич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т большинства поэтов, практически отсутствует политическая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атриотическая лир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отя размеры стихов Гумилёва крайне разнообразны, сам он счита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то лучше всего у него получаются анапесты . Верлибр Гумилё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пользовал редко и считал, что хотя тот и завоевал «право 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ражданство в поэзии всех стран. Тем не менее совершен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чевидно, что верлибр должен использоваться чрезвычай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дко».Самый знаменитый верлибр Гумилёва — «Мои читатели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Влияние на литератур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порная и вдохновенная деятельность Гумилёва по созданию формализова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школ поэтического мастерства» (три «Цеха поэтов», «Студия живого слова»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.), к которой скептически относились многие современники, оказалась весь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лодотворной. Его ученики — Георгий Адамович, Георгий Иванов, Ир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доевцева, Николай Оцуп, Всеволод Рождественский, Николай Тихонов и друг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али заметными творческими индивидуальностями. Созданный им акмеиз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влекший такие крупнейшие таланты эпохи, как Анна Ахматова и Оси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дельштам, стал вполне жизнеспособным творческим метод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чительным было влияние Гумилёва и на эмигрантскую, и (как через Тихоно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 и непосредственно) на советскую поэзию (в последнем случае — несмотря 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узапретность его имени, а во многом и благодаря этому обстоятельству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Интересные факт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На протяжении всей жизни Гумилёв определял свой внутренний возраст как 13 лет, возраст А. Ахматовой — 15, а возраст своей второй жены — 9 лет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В 1907 году, когда поэта призвали в армию, он не прошёл медицинскую комиссию из-за косоглазия, мешающего стрельбе, однако в 1914 году его признали годным: в первый раз он стрелял с правого плеча, а во второй раз просто сменил его на лево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«Деревянный с длинным носом» — именно так охарактеризовал Гумилёва будущий автор «Золотого ключика» А. Н. Толстой, задолго до того, как написал своё произведени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Жизнь за границей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 1906 года Николай Гумилёв жил в Париже и много путешествова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бывал в Италии и Франции. Находясь в Париже, издавал литератур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урнал «Сириус» (в котором дебютировала А. Ахматова), но выш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лько 3 номера журнала. Посещал выставки, знакомился с французски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русскими писателями, состоял в интенсивной переписке с Брюсовы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торому посылал свои стихи, статьи, рассказы. На следующий год,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преле, Гумилёв вернулся в Россию, чтобы пройти призывную комисс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России молодой поэт встретился с учителем — Брюсовым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любленной — Анной Горенко. В июле он из Севастополя отправился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оё первое путешествие по Леванту и в конце июля вернулся в Париж. 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м, как прошло путешествие, нет никаких сведений, кроме пис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рюсов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…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осле нашей встречи я был в Рязанской губернии, в Петербурге, дв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недели прожил в Крыму, неделю в Константинополе, в Смирне, име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мимолётный роман с какой-то гречанкой, воевал с апашами в Марселе 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только вчера, не знаю как, не знаю зачем, очутился в Париже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686800" y="-501300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ть версия, что именно тогда Гумилёв впервые побывал в Африке, о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м также свидетельствует стихотворение «Эзбекие», написанное в 19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ду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странно — ровно десять лет прош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тех пор, как я увидел Эзбе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днако хронологически это маловероятно. В 1908 году Гумилёв изда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борник «Романтические цветы». На деньги, полученные за сборник, 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же на скопленные средства родителей, он отправляется во втор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тешествие. Прибыл в Синоп, где 4 дня пришлось стоять на карантине, оттуда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амбул. После Турции Гумилёв посетил Грецию, затем отправился в Египет, где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етил Эзбикие. В Каире у путешественника неожиданно кончились деньги, и 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нужден был поехать обратно. 29 ноября он вновь был в Петербург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колай Гумилёв — не только поэт, но и один из крупнейших исследова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фрики. Он совершил несколько экспедиций по восточной и северо-восточ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фрике и привёз в Музей антропологии и этнографии им. Петра Великого (Санк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тербург) богатейшую коллекц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рвая экспедиция в Абиссинию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Хотя Африка ещё с детства привлекала Гумилёва, решение отправитьс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уда пришло внезапно и 25 сентября он отправляется в Одессу, оттуда — 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Джибути, затем в Абиссинию. Подробности этого путешеств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еизвестны. Известно лишь, что он побывал в Аддис-Абебе на парадном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ёме у негуса. В статье «умер ли Менелик?» поэт обрисова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оисходившие при троне смут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Между поездкам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362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и года между экспедициями были очень насыщенными в жизни поэ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1910 году вышла книга «Жемчуга», 25 апреля того же года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иколаевской церкви села Никольская Слободка Гумилёв обвенчался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ной Андреевной Горенко (Ахматовой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1911 году при активнейшем участии Н. Гумилёва был основан «Це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этов», в который, кроме Гумилёва, входили Анна Ахматова, Оси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ндельштам, Владимир Нарбут, Сергей Городецкий, Кузьм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раваева, Зенкевич и д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1912 году заявил о появлении нового художественного течения —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кмеизма. В этом же году был издан поэтический сборник «Чужое небо»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котором, в частности, были напечатаны первая, вторая и третья пес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эмы «Открытие Америк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 октября того же года у Анны и Николая Гумилёвых родился сын Ле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2" descr="D:\77\Новая папка (6)\180px-Ахматова_Н.Гумилев_Л.Гумилев.jpg"/>
          <p:cNvPicPr/>
          <p:nvPr/>
        </p:nvPicPr>
        <p:blipFill>
          <a:blip r:embed="rId2"/>
          <a:stretch/>
        </p:blipFill>
        <p:spPr>
          <a:xfrm>
            <a:off x="2700360" y="4397400"/>
            <a:ext cx="345744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торая экспедиция в Абиссинию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торая экспедиция состоялась в 1913 году. Она была организована лучш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согласована с Академией наук. Сначала Гумилёв хотел пересеч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накильскую пустыню, изучить малоизвестные племена и попытаться 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ивилизовать, но Академия отклонила этот маршрут как дорогостоящий,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эт вынужден был предложить новый маршру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Georgia"/>
              </a:rPr>
              <a:t>Я должен был отправиться в порт Джибутти &lt;…&gt; оттуда по железной дороге к Харрару, потом, составив караван, на юг, в область между Сомалийским полуостровом и озёрами Рудольфа, Маргариты, Звай; захватить возможно большой район исслед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74160" y="-506052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месте с Гумилёвым в качестве фотографа в Африку поехал его племян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колай Сверчков.Сначала Гумилёв отправился в Одессу, затем в Стамбу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урции поэт проявил симпатию и сочувствие к туркам, в отличие о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инства россиян. Там же Гумилёв познакомился с турецким консул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зар-беем, ехавшим в Харар; путь они продолжили вместе. Из Стамбу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и направились в Египет, оттуда — в Джибути. Путники должны бы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правиться вглубь страны по железной дороге, но через 260 километр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езд остановился из-за того, что дожди размыли путь. Большая ч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ссажиров вернулась, но Гумилёв, Сверчков и Мозар-бей выпросили 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чих дрезину и проехали 80 километров повреждённого пути на н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ехав в Дире-Дауа, поэт нанял переводчика и отправился караваном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арар. В Харраре Гумилёв не без осложнений купил мулов, там же 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знакомился с рас Тафари (тогда — губернатор Харара, впоследств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мператор Хайле Селассие I; приверженцы растафарианства считают е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площением Господа — Джа). Поэт подарил будущему императору ящ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мута и сфотографировал его, его жену и сестру. В Хараре Гумилё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чал собирать свою коллекц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5:57:31Z</dcterms:created>
  <dc:creator>Оля</dc:creator>
  <dc:description/>
  <dc:language>en-US</dc:language>
  <cp:lastModifiedBy>Оля</cp:lastModifiedBy>
  <dcterms:modified xsi:type="dcterms:W3CDTF">2017-01-06T07:03:19Z</dcterms:modified>
  <cp:revision>2</cp:revision>
  <dc:subject/>
  <dc:title>Николай Степанович Гумилев 1886— 1921гг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