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04E-BA25-4B62-A0DE-49F0C8F2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104-EDBB-4F1D-B65E-1D0DD74B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46A-3C96-4F54-B47A-62EEDC29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AB4-868E-41E4-AB80-FD2C57CB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7D6-48E8-4080-9020-12B1F989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529-91A0-4FBE-8C12-09EC1F98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86AF-892E-4398-A856-D78B9281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1F45-1ABE-4352-81BF-63E7974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408-276B-494A-A1FF-62E24DCD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8A0E-F921-4BF6-BA44-039F309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BEA6-D6E4-4199-B1F8-266F63A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2C2-3F5C-481A-994D-726FE2A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E50-D929-465F-BF54-4E66A9D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FE1B-B0E3-4969-ADD8-29CA117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C7B-B84F-4D7F-A8BF-68CFD2E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8D39-7C0B-4452-87AB-77D45590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064-FAF6-4B0E-89FD-75CEE04B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F56-926F-4886-B9EE-71F05F7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E2F-59C9-4C46-BF24-7C177E8D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3C7-F13E-42FC-844D-1D066AE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2FC-0652-47C0-A2B2-8F2B5F11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C4C-4434-49F5-9CEB-C4DD369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0E7-B51A-4324-964A-3DFAB57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5CA-9006-40E6-8E50-22DE7A2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8DB-5CFE-435B-8225-84FB68F2F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C96E-45B2-4690-B2E1-8CB22CEBD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Степанович Гумиле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886— 1921г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1280" y="4221000"/>
            <a:ext cx="45291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Шуваева Ольг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: Салмина Ольг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4160" y="-51336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507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Харара путь лежал через малоизученные земли галла в селение Шей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ссейн. По пути пришлось переправляться через быстроводную ре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аби, где Николая Сверчкова чуть не утащил крокодил. Вскоре начал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ы с провизией. Гумилёв вынужден был охотиться для добы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питания. Когда цель была достигнута, вождь и духовный настав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йх Гуссейна Аба Муда прислал экспедиции провизию и тепло приня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. Вот как описал пророка Гумилё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Жирный негр восседал на персидских ковр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В полутёмной неубранной з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Точно идол, в браслетах, серьгах и перстня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Лишь глаза его дивно сверк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Галл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515772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йле Селассие I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ба Му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1049400"/>
            <a:ext cx="4811760" cy="366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39085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ервая мировая войн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чало 1914 года было тяжёлым для поэта: перестал существовать цех, возник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ложности в отношениях с Ахматовой, наскучила богемная жизнь, которую 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ёл, вернувшись из Аф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вая мировая война началась 28 июля, в начале августа Н. С. Гумилё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писался добровольцем в кавалерию, в действующую армию. Вместе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иколаем на войну (по призыву) ушёл и его брат Дмитрий Гумилёв, который бы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онтужен в бою и умер в 1922 году. Примечательно, что хотя почти все поэты т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ремени слагали или патриотические, или военные стихи, в боевых действия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обровольцами участвовали лишь двое: Гумилёв и Ливши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сентябре и октябре 1914 года проходили учения и подготовка. Уже в нояб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лк был переброшен в Южную Польшу. 19 ноября состоялось первое сраж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 ночную разведку перед сражением, Приказом по Гвардейско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валерийскому корпусу от 5 декабря 1915 года № 148б награждён Георгиевс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рестом 3-й степени № 10886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февраля в результате непрерывных боевых действ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ъездов Гумилёв заболел простуд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Мы наступали, выбивали немцев из деревень, ходили в                разъезды, я тоже проделывал всё это, но как во сне, то дрожа в ознобе, то сгорая в жару. Наконец, после одной ночи, в течение которой я, не выходя из халупы, совершил по крайней мере двадцать обходов и пятнадцать побегов из плена, я решил смерить температуру. Градусник показал 38,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D:\77\Новая папка (6)\pic3.jpg"/>
          <p:cNvPicPr/>
          <p:nvPr/>
        </p:nvPicPr>
        <p:blipFill>
          <a:blip r:embed="rId2"/>
          <a:stretch/>
        </p:blipFill>
        <p:spPr>
          <a:xfrm>
            <a:off x="108000" y="4070520"/>
            <a:ext cx="1676520" cy="278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77\Новая папка (6)\foto 32.jpg"/>
          <p:cNvPicPr/>
          <p:nvPr/>
        </p:nvPicPr>
        <p:blipFill>
          <a:blip r:embed="rId3"/>
          <a:stretch/>
        </p:blipFill>
        <p:spPr>
          <a:xfrm>
            <a:off x="5867280" y="4076640"/>
            <a:ext cx="1874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яц поэт лечился в Петрограде, потом вновь был возвращён на фрон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 1915 году, с апреля по июнь, хотя активных боевых действий не велось, Гумилёв почти ежедневно участвовал в разведывательных разъезд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5 году Николай Гумилёв воевал на Волыни. Здесь он прошёл самые тяжкие военные испытания, получил 2-й Георгиевский крест, которым очень гордился. На это Анна Ахматова откликнулась несколько скептичес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Долетают редко вест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К нашему крыльц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Подарили белый крестик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Твоему отц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:\77\Новая папка (6)\Gumilev.jpg"/>
          <p:cNvPicPr/>
          <p:nvPr/>
        </p:nvPicPr>
        <p:blipFill>
          <a:blip r:embed="rId2"/>
          <a:stretch/>
        </p:blipFill>
        <p:spPr>
          <a:xfrm>
            <a:off x="324000" y="3645000"/>
            <a:ext cx="2171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77400" y="-539388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 июля началась масштабная атака противника. Была поставлена задача удержив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зиции до подхода пехоты, операция была проведена успешно, причём было спасе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сколько пулемётов, один из которых нёс Гумилёв. За это 13 января 1915 года приказ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 Гвардейскому кавалерийскому корпусу от 24 декабря 1914 года № 30, он бы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гражден Георгиевским крестом 4-й степени № 134060; переименован в ефрейтора, а 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нваря произведён в унтер-офицер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ентябре поэт героем вернулся в Россию, а 28 марта 1916 года приказ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окомандующего Западным фронтом № 3332 произведён в прапорщики с перевод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5-й Гусарский Александрийский полк. Используя эту передышку, Гумилёв вёл активну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итературную деятель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апреле 1916 года, поэт прибыл в гусарский полк, стоявший возле Двинска. В мае Гумилё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овь был эвакуирован в Петроград. Описанная в «Записках кавалериста» ночная скачка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жару стоила ему воспаления лёгких. Когда лечение почти закончилось, Гумилёв без спро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шел на мороз, в результате чего болезнь вновь обострилась. Врачи рекомендовали 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читься на юге. Гумилёв уехал в Ялту. Однако на этом военная жизнь поэта 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кончилась. 8 июля 1916 года он вновь уехал на фронт, вновь не надолго. 17 авгус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казом по полку № 240 Гумилев был командирован в Николаевское кавалерий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лище, потом вновь переведён на фронт и оставался в окопах вплоть до января 19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17 году Гумилёв решил перевестись на Солоникийский фронт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правился в русский экспедиционный корпус в Париж. Во Францию 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ехал северным маршрутом — через Швецию, Норвегию и Англию.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ондоне Гумилёв задержался на месяц, где встречался с мест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этами: Гилбертом Честертоном, Борисом Анрепом и др. Англи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милёв покинул в отличном настроении: бумага и типографские расх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казались там гораздо дешевле, и «Гиперборей» он мог печатать 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быв в Париж, проходил службу в качестве адъютанта при комисса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менного правительства, где подружился с художниками М. 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рионовым и Н. С. Гончаровой. В Париже поэт влюбился в полурусск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француженку Елену Кароловну дю Буше, дочь известного хирур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вятил ей стихотворный сборник «К Синей звезде», вершину любовной лир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а. Вскоре Гумилёв перешёл в 3-ю бригаду. Однако разложение арм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вствовалось и там. Вскоре 1-я и 2-я бригада подняли мятеж. Он был подавл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их солдат депортировали в Петроград, оставшихся объединили в од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ую бригаду. 22 января 1918 года Анреп устроил его в шифровальный отд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ого правительственного комитета. Там Гумилёв работал два месяца. Одна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новничья работа не устраивала его, и вскоре поэт вернулся в Росс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20 году был учреждён Петроградский отдел Всероссийского Сою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сателей, туда вошёл и Гумилёв. Формально главой Союза был избр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ок, однако фактически Союзом управляла «более ч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ольшевистски» настроенная группа поэтов во главе с Павлович. П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гом того, что в выборах председателя не было достигнуто кво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и назначены перевыборы. Лагерь Павлович, считая, что это прос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льность, согласился, однако на перевыборах была неожида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начена кандидатура Гумилёва, который и побед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я в Советской России, Николай Гумилёв не скрывал своих религиоз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литических взглядов — он открыто крестился на храмы, заявлял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их воззрениях. Так, на одном из поэтических вечеров он на вопрос 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ла — «каковы ваши политические убеждения?» ответил — «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беждённый монархис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Жизнь в Советской Росс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августа 1918 года состоялся развод с Анной Ахматовой. Отношения меж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тами разладились давно, но развестись с правом вновь вступить в брак д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волюции было невозмо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9 году женился на Анне Николаевне Энгельгардт, дочери истори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тературоведа Н. А. Энгельгардта, этот брак также оказался неудач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D:\77\Новая папка (6)\1000013726.jpg"/>
          <p:cNvPicPr/>
          <p:nvPr/>
        </p:nvPicPr>
        <p:blipFill>
          <a:blip r:embed="rId2"/>
          <a:stretch/>
        </p:blipFill>
        <p:spPr>
          <a:xfrm>
            <a:off x="468360" y="3576600"/>
            <a:ext cx="2666880" cy="3281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77\Новая папка (6)\977_1.jpg"/>
          <p:cNvPicPr/>
          <p:nvPr/>
        </p:nvPicPr>
        <p:blipFill>
          <a:blip r:embed="rId3"/>
          <a:stretch/>
        </p:blipFill>
        <p:spPr>
          <a:xfrm>
            <a:off x="3276720" y="3807000"/>
            <a:ext cx="5543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рест и гибель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 августа 1921 года Николай был арестован по подозрению в участии в загово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Петроградской боевой организации В. Н. Таганцева». Несколько дней Михаи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озинский и Николай Оцуп пытались выручить друга, но, несмотря на это, вско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 был расстреля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4 августа вышло постановление Петроградской ГубЧК о расстреле участ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Таганцевского заговора» (всего 61 человек), опубликованное 1 сентября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казанием на то, что приговор уже приведён в исполнение. Дата, место расстре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захоронения неизвестны. Распространены следующие верс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рнгардовка (долина реки Лубьи) около Всеволожска. Мост через реку Лубья, на берегу установлен памятный крес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йон пристани «Лисий Нос», за пороховыми складами. Глухая местность недалеко от ж/д станции «Раздельная» (ныне Лисий Нос) ранее использовалась как место проведения казней по приговорам военно-полевых су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нна Ахматова считала, что место казни было на окраине города в стороне Порохов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валевский лес, в районе арсенала Ржевского полигона, у изгиба реки Лубь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1 году Гумилёв был реабилитиров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075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тство и ю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4000" y="1341000"/>
            <a:ext cx="54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дился в семье кронштадтского корабельного врача Степана Яковлевич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милёва . Мать — Гумилёва (Львова) Анна Ивановна. С детства Гумилё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ыл слабым и болезненным ребёнком: его постоянно мучили голов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ли, он плохо реагировал на шум. Несмотря на это часто участвовал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грах со сверстниками, где постоянно старался руководить. Но общению 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тьми он предпочитал одиночество или общество животных — «рыж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баки», попугая, морских свинок. Людей он избегал. В 1900—1903 гг. жи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Грузии, куда был послан отцом. Здесь в «Тифлисском листке» 19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убликовал своё первое стихотворение. Поступил в гимназию Гуревич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, проучившись год, заболел и родители пригласили ему репетитора. 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метил склонность Гумилёва к зоологии и географ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тские годы Гумилёв провёл в Царском Селе, там же в 1894 го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тупил в гимназию, директором которой был известный поэ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 Анненский. После окончания гимназии уехал учиться в Сорбон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1986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74160" y="-539388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ст-кенотаф в вероятном месте расстрела Н. С. Гумилева.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рнгардовка (долина реки Лубь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D:\77\Новая папка (6)\180px-Крест_Гумилев_Бернгардовка.JPG"/>
          <p:cNvPicPr/>
          <p:nvPr/>
        </p:nvPicPr>
        <p:blipFill>
          <a:blip r:embed="rId2"/>
          <a:stretch/>
        </p:blipFill>
        <p:spPr>
          <a:xfrm>
            <a:off x="611280" y="83664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77\Новая папка (6)\180px-Крест_Гумилев_Ковалевский_лес.JPG"/>
          <p:cNvPicPr/>
          <p:nvPr/>
        </p:nvPicPr>
        <p:blipFill>
          <a:blip r:embed="rId3"/>
          <a:stretch/>
        </p:blipFill>
        <p:spPr>
          <a:xfrm>
            <a:off x="5364000" y="39337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3933720"/>
            <a:ext cx="4572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ст-кенотаф в вероятном месте расстрела                                                                                   Н. С. Гумилева. Ковалевский лес, в районе                                                                             арсенала Ржевского полигона, у изгиба реки Лубьи.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ерсии событий 1921 год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причастности Гумилёва к заговору Таганцева есть три верс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илёв участвовал в заговоре — официальная советская версия 1921—1986 годов, а также эмиграции. На этой версии сходятся большинство источников, в том числе так утверждает И. Одоевцева, составившая наиболее полную биографию поэта в последние годы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илёв не участвовал в заговоре — версия либералов 1960-х годов, распространившаяся в СССР времён перестройки (1986—1991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вора не существовало, он полностью был сфабрикован ЧК — современная официальная вер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5ffff"/>
                </a:solidFill>
                <a:latin typeface="Tahoma"/>
              </a:rPr>
              <a:t>Основные черты поэзии</a:t>
            </a:r>
            <a:endParaRPr b="0" lang="en-US" sz="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ые темы лирики Гумилёва — любовь, искусство, смер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же присутствуют военные и «географические» стихи. В отлич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 большинства поэтов, практически отсутствует политическая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триотическая лир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тя размеры стихов Гумилёва крайне разнообразны, сам он счит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 лучше всего у него получаются анапесты . Верлибр Гумилё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л редко и считал, что хотя тот и завоевал «право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ажданство в поэзии всех стран. Тем не менее соверш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чевидно, что верлибр должен использоваться чрезвычай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дко».Самый знаменитый верлибр Гумилёва — «Мои читател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лияние на литератур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ная и вдохновенная деятельность Гумилёва по созданию формализов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школ поэтического мастерства» (три «Цеха поэтов», «Студия живого слова»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.), к которой скептически относились многие современники, оказалась весь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дотворной. Его ученики — Георгий Адамович, Георгий Иванов, И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оевцева, Николай Оцуп, Всеволод Рождественский, Николай Тихонов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ли заметными творческими индивидуальностями. Созданный им акмеиз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лекший такие крупнейшие таланты эпохи, как Анна Ахматова и Ос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дельштам, стал вполне жизнеспособным творческим метод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ительным было влияние Гумилёва и на эмигрантскую, и (как через Тихоно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непосредственно) на советскую поэзию (в последнем случае — несмотря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запретность его имени, а во многом и благодаря этому обстоятельст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нтересные фак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На протяжении всей жизни Гумилёв определял свой внутренний возраст как 13 лет, возраст А. Ахматовой — 15, а возраст своей второй жены — 9 лет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В 1907 году, когда поэта призвали в армию, он не прошёл медицинскую комиссию из-за косоглазия, мешающего стрельбе, однако в 1914 году его признали годным: в первый раз он стрелял с правого плеча, а во второй раз просто сменил его на лево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«Деревянный с длинным носом» — именно так охарактеризовал Гумилёва будущий автор «Золотого ключика» А. Н. Толстой, задолго до того, как написал своё произвед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изнь за границей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1906 года Николай Гумилёв жил в Париже и много путешествов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ывал в Италии и Франции. Находясь в Париже, издавал литерату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урнал «Сириус» (в котором дебютировала А. Ахматова), но выш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ько 3 номера журнала. Посещал выставки, знакомился с французск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русскими писателями, состоял в интенсивной переписке с Брюсовы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му посылал свои стихи, статьи, рассказы. На следующий год,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реле, Гумилёв вернулся в Россию, чтобы пройти призывную комисс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оссии молодой поэт встретился с учителем — Брюсовым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любленной — Анной Горенко. В июле он из Севастополя отправился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оё первое путешествие по Леванту и в конце июля вернулся в Париж.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м, как прошло путешествие, нет никаких сведений, кроме пис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юсо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…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сле нашей встречи я был в Рязанской губернии, в Петербурге, дв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дели прожил в Крыму, неделю в Константинополе, в Смирне, име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имолётный роман с какой-то гречанкой, воевал с апашами в Марселе 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олько вчера, не знаю как, не знаю зачем, очутился в Париж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86800" y="-50130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ть версия, что именно тогда Гумилёв впервые побывал в Африке, о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 также свидетельствует стихотворение «Эзбекие», написанное в 19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д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странно — ровно десять лет прош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х пор, как я увидел Эзбе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ко хронологически это маловероятно. В 1908 году Гумилёв изд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борник «Романтические цветы». На деньги, полученные за сборник,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же на скопленные средства родителей, он отправляется во вто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ешествие. Прибыл в Синоп, где 4 дня пришлось стоять на карантине, оттуда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мбул. После Турции Гумилёв посетил Грецию, затем отправился в Египет, где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етил Эзбикие. В Каире у путешественника неожиданно кончились деньги, и 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нужден был поехать обратно. 29 ноября он вновь был в Петербург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лай Гумилёв — не только поэт, но и один из крупнейших исследов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фрики. Он совершил несколько экспедиций по восточной и северо-восточ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фрике и привёз в Музей антропологии и этнографии им. Петра Великого (Сан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ербург) богатейшую коллек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рвая экспедиция в Абисси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Хотя Африка ещё с детства привлекала Гумилёва, решение отправитьс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да пришло внезапно и 25 сентября он отправляется в Одессу, оттуда —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жибути, затем в Абиссинию. Подробности этого путешест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известны. Известно лишь, что он побывал в Аддис-Абебе на парадн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ёме у негуса. В статье «умер ли Менелик?» поэт обрисова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сходившие при троне сму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Между поездкам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 года между экспедициями были очень насыщенными в жизни поэ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0 году вышла книга «Жемчуга», 25 апреля того же года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колаевской церкви села Никольская Слободка Гумилёв обвенчался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ной Андреевной Горенко (Ахматово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1 году при активнейшем участии Н. Гумилёва был основан «Це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тов», в который, кроме Гумилёва, входили Анна Ахматова, Оси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ндельштам, Владимир Нарбут, Сергей Городецкий, Кузь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раваева, Зенкевич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12 году заявил о появлении нового художественного течения 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кмеизма. В этом же году был издан поэтический сборник «Чужое небо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тором, в частности, были напечатаны первая, вторая и третья пес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эмы «Открытие Амери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октября того же года у Анны и Николая Гумилёвых родился сын Ле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D:\77\Новая папка (6)\180px-Ахматова_Н.Гумилев_Л.Гумилев.jpg"/>
          <p:cNvPicPr/>
          <p:nvPr/>
        </p:nvPicPr>
        <p:blipFill>
          <a:blip r:embed="rId2"/>
          <a:stretch/>
        </p:blipFill>
        <p:spPr>
          <a:xfrm>
            <a:off x="2700360" y="4397400"/>
            <a:ext cx="34574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торая экспедиция в Абисси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ая экспедиция состоялась в 1913 году. Она была организована луч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гласована с Академией наук. Сначала Гумилёв хотел пересеч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акильскую пустыню, изучить малоизвестные племена и попытаться 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вилизовать, но Академия отклонила этот маршрут как дорогостоящий,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эт вынужден был предложить новый маршру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Я должен был отправиться в порт Джибутти &lt;…&gt; оттуда по железной дороге к Харрару, потом, составив караван, на юг, в область между Сомалийским полуостровом и озёрами Рудольфа, Маргариты, Звай; захватить возможно большой район исслед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74160" y="-50605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сте с Гумилёвым в качестве фотографа в Африку поехал его племян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лай Сверчков.Сначала Гумилёв отправился в Одессу, затем в Стамбу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урции поэт проявил симпатию и сочувствие к туркам, в отличие 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инства россиян. Там же Гумилёв познакомился с турецким консул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зар-беем, ехавшим в Харар; путь они продолжили вместе. Из Стамб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и направились в Египет, оттуда — в Джибути. Путники должны 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правиться вглубь страны по железной дороге, но через 260 километ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езд остановился из-за того, что дожди размыли путь. Больш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ссажиров вернулась, но Гумилёв, Сверчков и Мозар-бей выпросили 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их дрезину и проехали 80 километров повреждённого пути на н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ехав в Дире-Дауа, поэт нанял переводчика и отправился караваном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р. В Харраре Гумилёв не без осложнений купил мулов, там же 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лся с рас Тафари (тогда — губернатор Харара, впоследств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ператор Хайле Селассие I; приверженцы растафарианства считают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площением Господа — Джа). Поэт подарил будущему императору ящ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мута и сфотографировал его, его жену и сестру. В Хараре Гумилё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 собирать свою коллек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7:31Z</dcterms:created>
  <dc:creator>Оля</dc:creator>
  <dc:description/>
  <dc:language>en-US</dc:language>
  <cp:lastModifiedBy>Оля</cp:lastModifiedBy>
  <dcterms:modified xsi:type="dcterms:W3CDTF">2017-01-06T07:03:19Z</dcterms:modified>
  <cp:revision>2</cp:revision>
  <dc:subject/>
  <dc:title>Николай Степанович Гумилев 1886— 1921г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