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7D6-1C31-418B-A7C3-BA3C9F5D8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1A53-C738-4479-B213-144C0C7DA3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FBA-FF54-433A-A324-E4742E75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4A7-156D-4938-AE60-C60439EB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421-8DBA-4FFB-8404-9AE262FE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555-D6BC-4A22-8207-5FCFE673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C21-0A2D-4DE5-83F7-DA67862D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7DE-D51B-4F07-AA82-6AD03394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0AA-6938-4E43-986B-AE3379AD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F0B-3325-468E-BFCA-E69EAFED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08D-63AD-48C7-B24A-1C3A5B98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A9D-5EAB-4563-B939-42085957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F7A-56FF-49DC-AFA6-623CC69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A03-B26F-44A6-BE19-0AC1644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E687-4729-4CCA-8884-C2645C2C8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Цветок.jpg"/>
          <p:cNvPicPr/>
          <p:nvPr/>
        </p:nvPicPr>
        <p:blipFill>
          <a:blip r:embed="rId1"/>
          <a:stretch/>
        </p:blipFill>
        <p:spPr>
          <a:xfrm>
            <a:off x="2214720" y="-38160"/>
            <a:ext cx="4286160" cy="689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42920" y="843120"/>
          <a:ext cx="8858160" cy="5800680"/>
        </p:xfrm>
        <a:graphic>
          <a:graphicData uri="http://schemas.openxmlformats.org/drawingml/2006/table">
            <a:tbl>
              <a:tblPr/>
              <a:tblGrid>
                <a:gridCol w="1857240"/>
                <a:gridCol w="4286520"/>
                <a:gridCol w="2714400"/>
              </a:tblGrid>
              <a:tr h="628560"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р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gridSpan="3"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ж/л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еред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ж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еред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скл.: пол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ть — по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с/ к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если суффикс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а-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49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с/раст (ращ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 перед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А перед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т(щ)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скл.: отрасль, ростовщик, росток, Ростов, Ростисла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ь — 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, вы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щ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"/>
          <p:cNvSpPr/>
          <p:nvPr/>
        </p:nvSpPr>
        <p:spPr>
          <a:xfrm>
            <a:off x="0" y="17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ДОВАНИЕ ГЛАСНЫХ В КО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2920" y="785880"/>
          <a:ext cx="8858160" cy="5786280"/>
        </p:xfrm>
        <a:graphic>
          <a:graphicData uri="http://schemas.openxmlformats.org/drawingml/2006/table">
            <a:tbl>
              <a:tblPr/>
              <a:tblGrid>
                <a:gridCol w="7345440"/>
                <a:gridCol w="1512720"/>
              </a:tblGrid>
              <a:tr h="5475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804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Знание теоретического материа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Умени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пределять, в каких случаях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сходит чередование гласных в корнях -раст-, -ращ-, -рос-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Умение правильно писать сло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корнями -раст-, -ращ-, -ро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Умени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пределя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слово по его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сическому значен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83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Умение конструировать словосочетания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я слова на изученное прави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-401760" y="743040"/>
            <a:ext cx="10039320" cy="393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142920" y="240480"/>
            <a:ext cx="88581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Домашнее задание по выбор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Выполнить упражнение из учеб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Составить карточку для соседа на изученное правило (10 слов с пропущенными буквами в корнях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Написать небольшой рассказ «Мой любимый уголок природы», употребляя слова и словосочетан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корня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-раст-, -ращ-, -рос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142920" y="214200"/>
            <a:ext cx="8786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зделите данные слова на групп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оснуйте свое решен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ставьте пропущенные бук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500040" y="28576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С…довник, р…стение, р…сточек, прил…жить, изл...гать, выр...щенный, в...дяной, выр...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 Black"/>
              </a:rPr>
              <a:t>Правописание чередующихся гласных </a:t>
            </a: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7200" spc="-1" strike="noStrike">
                <a:solidFill>
                  <a:srgbClr val="002060"/>
                </a:solidFill>
                <a:latin typeface="Arial Black"/>
              </a:rPr>
              <a:t>и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1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7200" spc="-1" strike="noStrike">
                <a:solidFill>
                  <a:srgbClr val="002060"/>
                </a:solidFill>
                <a:latin typeface="Arial Black"/>
              </a:rPr>
              <a:t>в</a:t>
            </a:r>
            <a:r>
              <a:rPr b="0" i="1" lang="ru-RU" sz="72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7200" spc="-1" strike="noStrike">
                <a:solidFill>
                  <a:srgbClr val="002060"/>
                </a:solidFill>
                <a:latin typeface="Arial Black"/>
              </a:rPr>
              <a:t>корне</a:t>
            </a: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7200" spc="-1" strike="noStrike">
                <a:solidFill>
                  <a:srgbClr val="ff0000"/>
                </a:solidFill>
                <a:latin typeface="Arial Black"/>
              </a:rPr>
              <a:t>-рос- </a:t>
            </a:r>
            <a:r>
              <a:rPr b="0" i="1" lang="ru-RU" sz="7200" spc="-1" strike="noStrike">
                <a:solidFill>
                  <a:srgbClr val="002060"/>
                </a:solidFill>
                <a:latin typeface="Arial Black"/>
              </a:rPr>
              <a:t>,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i="1" lang="ru-RU" sz="7200" spc="-1" strike="noStrike">
                <a:solidFill>
                  <a:srgbClr val="ff0000"/>
                </a:solidFill>
                <a:latin typeface="Arial Black"/>
              </a:rPr>
              <a:t>-раст-</a:t>
            </a:r>
            <a:r>
              <a:rPr b="0" i="1" lang="ru-RU" sz="7200" spc="-1" strike="noStrike">
                <a:solidFill>
                  <a:srgbClr val="002060"/>
                </a:solidFill>
                <a:latin typeface="Arial Black"/>
              </a:rPr>
              <a:t>,</a:t>
            </a: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7200" spc="-1" strike="noStrike">
                <a:solidFill>
                  <a:srgbClr val="ff0000"/>
                </a:solidFill>
                <a:latin typeface="Arial Black"/>
              </a:rPr>
              <a:t>-ращ-</a:t>
            </a:r>
            <a:r>
              <a:rPr b="0" i="1" lang="ru-RU" sz="72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Calibri"/>
              </a:rPr>
              <a:t>Наблю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00080"/>
            <a:ext cx="9144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ратите внимание, перед каки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гласными в данных корнях стоя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квы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а перед какими –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рА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ст-,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рА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щ-,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рО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??? </a:t>
            </a: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Можно ли сделать вывод о правописании гласных в данных корня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42920" y="385920"/>
            <a:ext cx="8858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-раст-, -ращ-, </a:t>
            </a:r>
            <a:r>
              <a:rPr b="1" lang="ru-RU" sz="5400" spc="-1" strike="noStrike">
                <a:solidFill>
                  <a:srgbClr val="002060"/>
                </a:solidFill>
                <a:latin typeface="Arial"/>
                <a:ea typeface="Calibri"/>
              </a:rPr>
              <a:t>н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- рос- —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Простой вопро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Легко запомнит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-раст-, -ращ-, </a:t>
            </a:r>
            <a:r>
              <a:rPr b="1" lang="ru-RU" sz="5400" spc="-1" strike="noStrike">
                <a:solidFill>
                  <a:srgbClr val="002060"/>
                </a:solidFill>
                <a:latin typeface="Arial"/>
                <a:ea typeface="Calibri"/>
              </a:rPr>
              <a:t>н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- рос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А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— в -раст-, -ращ-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Calibri"/>
              </a:rPr>
              <a:t> — только в - рос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42920" y="744840"/>
            <a:ext cx="90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ЗАПОМ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Отрасль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отдельная область какого-либо рода деятельности, например металлургическая область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ок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стебель растения в самом начале его развития из зерна или кор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14200" y="357120"/>
            <a:ext cx="8715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овщик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дающий деньги в долг под большие проценты.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ов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один из старейших городов России, входящий в Золотое кольцо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Ростислав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мужское имя, образовавшееся от двух корней: -рост- (росток) и –слав- (сла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542160" y="71280"/>
            <a:ext cx="73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  <a:ea typeface="Aharoni"/>
              </a:rPr>
              <a:t>Лингвистическая 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00040" y="853560"/>
            <a:ext cx="86439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Calibri"/>
              </a:rPr>
              <a:t>Задание. </a:t>
            </a:r>
            <a:r>
              <a:rPr b="1" i="1" lang="ru-RU" sz="2800" spc="-1" strike="noStrike">
                <a:solidFill>
                  <a:srgbClr val="632523"/>
                </a:solidFill>
                <a:latin typeface="Arial"/>
                <a:ea typeface="Calibri"/>
              </a:rPr>
              <a:t>Ч</a:t>
            </a: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Calibri"/>
              </a:rPr>
              <a:t>итаем предложения. Если встречаем слово с корнем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-рос-</a:t>
            </a: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Calibri"/>
              </a:rPr>
              <a:t>, хлопаем в ладо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яно с лукошко, так и выр..сло немнож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во дерево, такова и отр..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..стешь – свое нажив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йте же, дети, р..стите на воле. (Н. Некрасо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и гордые пальмы высоко р..сли. (М.Лермонто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..сли кустарника образовали непроходимую чащ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 р..стет на болотистых мес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г моря покрыт водор..с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1728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Arial"/>
                <a:ea typeface="Times New Roman"/>
              </a:rPr>
              <a:t>Игра «Угадай-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Молодой ле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(поросль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отдельная область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производства, нау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(отрасль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частый кустарник, которым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заросло какое-нибудь мес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 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(заросли)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4:56:45Z</dcterms:created>
  <dc:creator>User</dc:creator>
  <dc:description/>
  <dc:language>en-US</dc:language>
  <cp:lastModifiedBy>User</cp:lastModifiedBy>
  <dcterms:modified xsi:type="dcterms:W3CDTF">2017-09-14T11:59:25Z</dcterms:modified>
  <cp:revision>26</cp:revision>
  <dc:subject/>
  <dc:title>Правописание чередующихся гласных о и а в корне -рос- ,       -раст-, рос.</dc:title>
</cp:coreProperties>
</file>