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845B-9E84-497B-A546-F00564910B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D7D4-948D-4937-98E3-83237A774D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2322-E569-458D-A9DF-5C7F85ED2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CE1B-65C9-48F3-B07D-2B7EAB03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4832-0A9F-49E0-84C8-126CD0740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01C1-4744-41DF-80BE-7BBAA0CC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7281-089B-4776-819D-2A546CAD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1FA1-E7B3-4B9C-A078-C545F4AC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0462-F822-4E7B-B052-03271B48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BB1C-874C-4A76-9FDB-1822A6CC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77DC-75EB-47BB-A3D8-2A000E1A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D257-C2C4-4B44-A747-85689233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0765-2CD6-4850-BC56-3057CD2B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AC92-0AF8-456E-B139-9F3F6D20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2624-7EF5-41C8-A17B-E91F835439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5" descr="Цветок.jpg"/>
          <p:cNvPicPr/>
          <p:nvPr/>
        </p:nvPicPr>
        <p:blipFill>
          <a:blip r:embed="rId1"/>
          <a:stretch/>
        </p:blipFill>
        <p:spPr>
          <a:xfrm>
            <a:off x="2214720" y="-38160"/>
            <a:ext cx="4286160" cy="6896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42920" y="843120"/>
          <a:ext cx="8858160" cy="5800680"/>
        </p:xfrm>
        <a:graphic>
          <a:graphicData uri="http://schemas.openxmlformats.org/drawingml/2006/table">
            <a:tbl>
              <a:tblPr/>
              <a:tblGrid>
                <a:gridCol w="1857240"/>
                <a:gridCol w="4286520"/>
                <a:gridCol w="2714400"/>
              </a:tblGrid>
              <a:tr h="628560">
                <a:tc>
                  <a:txBody>
                    <a:bodyPr lIns="31680" rIns="3168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р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ави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м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 gridSpan="3">
                  <a:txBody>
                    <a:bodyPr lIns="31680" rIns="3168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7520"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ож/ла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еред </a:t>
                      </a: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ж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еред </a:t>
                      </a: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г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скл.: поло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ить — пол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0160"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с/ к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если суффикс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а-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44960"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с/раст (ращ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 перед </a:t>
                      </a: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с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А перед </a:t>
                      </a: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ст(щ)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скл.: отрасль, ростовщик, росток, Ростов, Ростисла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ь — р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и, выр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ще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Rectangle 2"/>
          <p:cNvSpPr/>
          <p:nvPr/>
        </p:nvSpPr>
        <p:spPr>
          <a:xfrm>
            <a:off x="0" y="1767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ЧЕРЕДОВАНИЕ ГЛАСНЫХ В КОР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Calibri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42920" y="785880"/>
          <a:ext cx="8858160" cy="5786280"/>
        </p:xfrm>
        <a:graphic>
          <a:graphicData uri="http://schemas.openxmlformats.org/drawingml/2006/table">
            <a:tbl>
              <a:tblPr/>
              <a:tblGrid>
                <a:gridCol w="7345440"/>
                <a:gridCol w="1512720"/>
              </a:tblGrid>
              <a:tr h="54756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804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Знание теоретического материал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Умение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пределять, в каких случаях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исходит чередование гласных в корнях -раст-, -ращ-, -рос-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60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Умение правильно писать слов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корнями -раст-, -ращ-, -рос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Умение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пределять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слово по его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ексическому значению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832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Умение конструировать словосочетания,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пользуя слова на изученное правил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3" descr=""/>
          <p:cNvPicPr/>
          <p:nvPr/>
        </p:nvPicPr>
        <p:blipFill>
          <a:blip r:embed="rId1"/>
          <a:stretch/>
        </p:blipFill>
        <p:spPr>
          <a:xfrm>
            <a:off x="-401760" y="743040"/>
            <a:ext cx="10039320" cy="3932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142920" y="240480"/>
            <a:ext cx="885816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  <a:ea typeface="Times New Roman"/>
              </a:rPr>
              <a:t>Домашнее задание по выбору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1. Выполнить упражнение из учебн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2. Составить карточку для соседа на изученное правило (10 слов с пропущенными буквами в корнях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3. Написать небольшой рассказ «Мой любимый уголок природы», употребляя слова и словосочетания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 корням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-раст-, -ращ-, -рос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4"/>
          <p:cNvSpPr/>
          <p:nvPr/>
        </p:nvSpPr>
        <p:spPr>
          <a:xfrm>
            <a:off x="142920" y="214200"/>
            <a:ext cx="87868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Разделите данные слова на группы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обоснуйте свое решени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вставьте пропущенные букв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500040" y="2857680"/>
            <a:ext cx="8286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С…довник, р…стение, р…сточек, прил…жить, изл...гать, выр...щенный, в...дяной, выр...с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2920" y="500040"/>
            <a:ext cx="8858160" cy="557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2060"/>
                </a:solidFill>
                <a:latin typeface="Arial Black"/>
              </a:rPr>
              <a:t>Правописание чередующихся гласных </a:t>
            </a:r>
            <a:r>
              <a:rPr b="1" lang="ru-RU" sz="7200" spc="-1" strike="noStrike">
                <a:solidFill>
                  <a:srgbClr val="ff0000"/>
                </a:solidFill>
                <a:latin typeface="Arial Black"/>
              </a:rPr>
              <a:t>о</a:t>
            </a: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7200" spc="-1" strike="noStrike">
                <a:solidFill>
                  <a:srgbClr val="002060"/>
                </a:solidFill>
                <a:latin typeface="Arial Black"/>
              </a:rPr>
              <a:t>и</a:t>
            </a: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7200" spc="-1" strike="noStrike">
                <a:solidFill>
                  <a:srgbClr val="ff0000"/>
                </a:solidFill>
                <a:latin typeface="Arial Black"/>
              </a:rPr>
              <a:t>а</a:t>
            </a:r>
            <a:r>
              <a:rPr b="1" lang="ru-RU" sz="7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7200" spc="-1" strike="noStrike">
                <a:solidFill>
                  <a:srgbClr val="002060"/>
                </a:solidFill>
                <a:latin typeface="Arial Black"/>
              </a:rPr>
              <a:t>в</a:t>
            </a:r>
            <a:r>
              <a:rPr b="0" i="1" lang="ru-RU" sz="72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0" lang="ru-RU" sz="7200" spc="-1" strike="noStrike">
                <a:solidFill>
                  <a:srgbClr val="002060"/>
                </a:solidFill>
                <a:latin typeface="Arial Black"/>
              </a:rPr>
              <a:t>корне</a:t>
            </a:r>
            <a:r>
              <a:rPr b="0" i="1" lang="ru-RU" sz="7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ru-RU" sz="7200" spc="-1" strike="noStrike">
                <a:solidFill>
                  <a:srgbClr val="ff0000"/>
                </a:solidFill>
                <a:latin typeface="Arial Black"/>
              </a:rPr>
              <a:t>-рос- </a:t>
            </a:r>
            <a:r>
              <a:rPr b="0" i="1" lang="ru-RU" sz="7200" spc="-1" strike="noStrike">
                <a:solidFill>
                  <a:srgbClr val="002060"/>
                </a:solidFill>
                <a:latin typeface="Arial Black"/>
              </a:rPr>
              <a:t>,</a:t>
            </a: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i="1" lang="ru-RU" sz="7200" spc="-1" strike="noStrike">
                <a:solidFill>
                  <a:srgbClr val="ff0000"/>
                </a:solidFill>
                <a:latin typeface="Arial Black"/>
              </a:rPr>
              <a:t>-раст-</a:t>
            </a:r>
            <a:r>
              <a:rPr b="0" i="1" lang="ru-RU" sz="7200" spc="-1" strike="noStrike">
                <a:solidFill>
                  <a:srgbClr val="002060"/>
                </a:solidFill>
                <a:latin typeface="Arial Black"/>
              </a:rPr>
              <a:t>,</a:t>
            </a:r>
            <a:r>
              <a:rPr b="0" i="1" lang="ru-RU" sz="7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ru-RU" sz="7200" spc="-1" strike="noStrike">
                <a:solidFill>
                  <a:srgbClr val="ff0000"/>
                </a:solidFill>
                <a:latin typeface="Arial Black"/>
              </a:rPr>
              <a:t>-ращ-</a:t>
            </a:r>
            <a:r>
              <a:rPr b="0" i="1" lang="ru-RU" sz="7200" spc="-1" strike="noStrike">
                <a:solidFill>
                  <a:srgbClr val="002060"/>
                </a:solidFill>
                <a:latin typeface="Arial Black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53735"/>
                </a:solidFill>
                <a:latin typeface="Calibri"/>
              </a:rPr>
              <a:t>Наблюд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000080"/>
            <a:ext cx="91440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братите внимание, перед каким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огласными в данных корнях стоя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уквы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А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, а перед какими –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О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-рА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ст-,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-рА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щ-,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-рО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??? </a:t>
            </a:r>
            <a:r>
              <a:rPr b="1" lang="ru-RU" sz="4000" spc="-1" strike="noStrike">
                <a:solidFill>
                  <a:srgbClr val="953735"/>
                </a:solidFill>
                <a:latin typeface="Calibri"/>
              </a:rPr>
              <a:t>Можно ли сделать вывод о правописании гласных в данных корнях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142920" y="385920"/>
            <a:ext cx="88581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  <a:ea typeface="Calibri"/>
              </a:rPr>
              <a:t>-раст-, -ращ-, </a:t>
            </a:r>
            <a:r>
              <a:rPr b="1" lang="ru-RU" sz="5400" spc="-1" strike="noStrike">
                <a:solidFill>
                  <a:srgbClr val="002060"/>
                </a:solidFill>
                <a:latin typeface="Arial"/>
                <a:ea typeface="Calibri"/>
              </a:rPr>
              <a:t>но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  <a:ea typeface="Calibri"/>
              </a:rPr>
              <a:t> - рос- —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Calibri"/>
              </a:rPr>
              <a:t>      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Calibri"/>
              </a:rPr>
              <a:t>Простой вопрос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Calibri"/>
              </a:rPr>
              <a:t>      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Calibri"/>
              </a:rPr>
              <a:t>Легко запомнить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  <a:ea typeface="Calibri"/>
              </a:rPr>
              <a:t>-раст-, -ращ-, </a:t>
            </a:r>
            <a:r>
              <a:rPr b="1" lang="ru-RU" sz="5400" spc="-1" strike="noStrike">
                <a:solidFill>
                  <a:srgbClr val="002060"/>
                </a:solidFill>
                <a:latin typeface="Arial"/>
                <a:ea typeface="Calibri"/>
              </a:rPr>
              <a:t>но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  <a:ea typeface="Calibri"/>
              </a:rPr>
              <a:t> - рос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Calibri"/>
              </a:rPr>
              <a:t>А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  <a:ea typeface="Calibri"/>
              </a:rPr>
              <a:t> — в -раст-, -ращ-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Calibri"/>
              </a:rPr>
              <a:t>О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  <a:ea typeface="Calibri"/>
              </a:rPr>
              <a:t> — только в - рос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142920" y="744840"/>
            <a:ext cx="9001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  <a:ea typeface="Calibri"/>
              </a:rPr>
              <a:t>ЗАПОМН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  <a:ea typeface="Calibri"/>
              </a:rPr>
              <a:t>Отрасль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отдельная область какого-либо рода деятельности, например металлургическая область промышл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  <a:ea typeface="Calibri"/>
              </a:rPr>
              <a:t>Росток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Calibri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стебель растения в самом начале его развития из зерна или кор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214200" y="357120"/>
            <a:ext cx="87156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  <a:ea typeface="Calibri"/>
              </a:rPr>
              <a:t>Ростовщик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человек, дающий деньги в долг под большие проценты.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  <a:ea typeface="Calibri"/>
              </a:rPr>
              <a:t>Ростов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один из старейших городов России, входящий в Золотое кольцо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  <a:ea typeface="Calibri"/>
              </a:rPr>
              <a:t>Ростислав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мужское имя, образовавшееся от двух корней: -рост- (росток) и –слав- (слав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4"/>
          <p:cNvSpPr/>
          <p:nvPr/>
        </p:nvSpPr>
        <p:spPr>
          <a:xfrm>
            <a:off x="542160" y="71280"/>
            <a:ext cx="738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i="1" lang="ru-RU" sz="3200" spc="-1" strike="noStrike">
                <a:solidFill>
                  <a:srgbClr val="0070c0"/>
                </a:solidFill>
                <a:latin typeface="Arial"/>
                <a:ea typeface="Aharoni"/>
              </a:rPr>
              <a:t>Лингвистическая физмину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500040" y="853560"/>
            <a:ext cx="86439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Calibri"/>
              </a:rPr>
              <a:t>Задание. </a:t>
            </a:r>
            <a:r>
              <a:rPr b="1" i="1" lang="ru-RU" sz="2800" spc="-1" strike="noStrike">
                <a:solidFill>
                  <a:srgbClr val="632523"/>
                </a:solidFill>
                <a:latin typeface="Arial"/>
                <a:ea typeface="Calibri"/>
              </a:rPr>
              <a:t>Ч</a:t>
            </a:r>
            <a:r>
              <a:rPr b="1" lang="ru-RU" sz="2800" spc="-1" strike="noStrike">
                <a:solidFill>
                  <a:srgbClr val="632523"/>
                </a:solidFill>
                <a:latin typeface="Arial"/>
                <a:ea typeface="Calibri"/>
              </a:rPr>
              <a:t>итаем предложения. Если встречаем слово с корнем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-рос-</a:t>
            </a:r>
            <a:r>
              <a:rPr b="1" lang="ru-RU" sz="2800" spc="-1" strike="noStrike">
                <a:solidFill>
                  <a:srgbClr val="632523"/>
                </a:solidFill>
                <a:latin typeface="Arial"/>
                <a:ea typeface="Calibri"/>
              </a:rPr>
              <a:t>, хлопаем в ладо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еяно с лукошко, так и выр..сло немнож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ово дерево, такова и отр..с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р..стешь – свое наживе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грайте же, дети, р..стите на воле. (Н. Некрасов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ри гордые пальмы высоко р..сли. (М.Лермонтов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р..сли кустарника образовали непроходимую чащ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ис р..стет на болотистых мест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ерег моря покрыт водор..сл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0" y="172800"/>
            <a:ext cx="9144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Arial"/>
                <a:ea typeface="Times New Roman"/>
              </a:rPr>
              <a:t>Игра «Угадай-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Молодой ле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  <a:ea typeface="Calibri"/>
              </a:rPr>
              <a:t>                          </a:t>
            </a:r>
            <a:r>
              <a:rPr b="1" i="1" lang="ru-RU" sz="4400" spc="-1" strike="noStrike">
                <a:solidFill>
                  <a:srgbClr val="c00000"/>
                </a:solidFill>
                <a:latin typeface="Arial"/>
                <a:ea typeface="Calibri"/>
              </a:rPr>
              <a:t>(поросль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отдельная область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производства, нау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  <a:ea typeface="Calibri"/>
              </a:rPr>
              <a:t>                          </a:t>
            </a:r>
            <a:r>
              <a:rPr b="1" i="1" lang="ru-RU" sz="4400" spc="-1" strike="noStrike">
                <a:solidFill>
                  <a:srgbClr val="c00000"/>
                </a:solidFill>
                <a:latin typeface="Arial"/>
                <a:ea typeface="Calibri"/>
              </a:rPr>
              <a:t>(отрасль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частый кустарник, которым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заросло какое-нибудь мест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  <a:ea typeface="Calibri"/>
              </a:rPr>
              <a:t>                           </a:t>
            </a:r>
            <a:r>
              <a:rPr b="1" i="1" lang="ru-RU" sz="4400" spc="-1" strike="noStrike">
                <a:solidFill>
                  <a:srgbClr val="c00000"/>
                </a:solidFill>
                <a:latin typeface="Arial"/>
                <a:ea typeface="Calibri"/>
              </a:rPr>
              <a:t>(заросли)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4T04:56:45Z</dcterms:created>
  <dc:creator>User</dc:creator>
  <dc:description/>
  <dc:language>en-US</dc:language>
  <cp:lastModifiedBy>User</cp:lastModifiedBy>
  <dcterms:modified xsi:type="dcterms:W3CDTF">2017-09-14T11:59:25Z</dcterms:modified>
  <cp:revision>26</cp:revision>
  <dc:subject/>
  <dc:title>Правописание чередующихся гласных о и а в корне -рос- ,       -раст-, рос.</dc:title>
</cp:coreProperties>
</file>