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AEE-A595-47C3-AA52-63284D6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CEF-AEDC-4D6B-B3DE-35E5CF3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400-B378-435E-A3B5-1AC45DA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A9E-9866-49D6-8D31-FC95E2C8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E7E5-9096-494B-A9CF-B18B1A9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A55-7194-4975-B072-7A00DA1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375-6876-4788-B6A1-31B605C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968E-5385-4155-A93E-8617B86C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9DCB-7B88-4AD0-B6FC-9969497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EA30-A6A8-45F5-AC4E-70D29BD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3426-F50C-4FD9-9E8F-B432088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95E-F561-4BEF-B0AB-8DD110B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712D-7C34-49FD-AF70-A104CF2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47D-3BA5-4239-800F-4DB44EF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583-562C-4AA8-8161-FE3B780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684B-741B-4ACA-ADE4-F22ACA17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CDA4-1943-412E-BF6E-C6A6B41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6A1-588C-4BD5-BF89-DD4BE24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EF7-6C19-4E24-812A-955904D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3B8-03AD-4858-8C35-98412AC4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CC6-BF16-4D94-9979-C9DDFCA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A81-FED8-4B5C-B845-A8E32E1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E14-C147-42AA-909F-27769C0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659-1B75-4D5D-BAB0-5AA19C8E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412-20DC-4965-A35C-3884D25FD5B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49A-B96E-4F07-8829-52F69228B30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для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шая груп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28680" y="66600"/>
            <a:ext cx="8553240" cy="17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к человеку проявляется в признании его достоинств, того, что ты считаешься с его взглядами, интересами и мнениями. С этим человеком можно посоветоваться о чем – то, с ним мы стараемся не ссориться, хотим с ним дружить, нам нравиться с ним игр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людать этикет – значит соблюдать правила поведения, которые придумали люди, чтобы всем было хорошо, чтобы было удобно общаться друг с дру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ТЕ ВЕЖЛИВЫ И ВНИМАТЕЛЬНЫ ДРУГ К ДРУГУ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65008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Искусство воспитания включает в себя, прежде всего искусство говорить, обращаться к человеческому сердц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– это свод конкретных, достаточно строгих правил поведения в обществе, это внешнее проявления культуры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является регулятором поведения, дает возможность многое узнать о соблюдающем его человек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способствует установлению успешных и доверительных связей между людьми, усиливает нравственное и эстетическое начало в жизни общества, наконец способствует совершенствованию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уля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ознав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дентификацион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ческ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09440" y="0"/>
            <a:ext cx="5711760" cy="19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омпьютер\Desktop\этикет\рр.jpg"/>
          <p:cNvPicPr/>
          <p:nvPr/>
        </p:nvPicPr>
        <p:blipFill>
          <a:blip r:embed="rId2"/>
          <a:stretch/>
        </p:blipFill>
        <p:spPr>
          <a:xfrm>
            <a:off x="5651640" y="11160"/>
            <a:ext cx="3673440" cy="2049480"/>
          </a:xfrm>
          <a:prstGeom prst="rect">
            <a:avLst/>
          </a:prstGeom>
          <a:ln w="0">
            <a:noFill/>
          </a:ln>
        </p:spPr>
      </p:pic>
      <p:sp>
        <p:nvSpPr>
          <p:cNvPr id="92" name="Блок-схема: альтернативный процесс 5"/>
          <p:cNvSpPr/>
          <p:nvPr/>
        </p:nvSpPr>
        <p:spPr>
          <a:xfrm>
            <a:off x="2124000" y="2276640"/>
            <a:ext cx="3816360" cy="504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воспитание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ый пример взросл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трелка вниз 6"/>
          <p:cNvSpPr/>
          <p:nvPr/>
        </p:nvSpPr>
        <p:spPr>
          <a:xfrm>
            <a:off x="4032360" y="2781360"/>
            <a:ext cx="395280" cy="39528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Блок-схема: альтернативный процесс 7"/>
          <p:cNvSpPr/>
          <p:nvPr/>
        </p:nvSpPr>
        <p:spPr>
          <a:xfrm>
            <a:off x="0" y="3284640"/>
            <a:ext cx="9144000" cy="612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ивный настрой детей, этические беседы, нравственно – этикетные игры, создание воспитывающих ситуаций, занятия по этик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Блок-схема: альтернативный процесс 2"/>
          <p:cNvSpPr/>
          <p:nvPr/>
        </p:nvSpPr>
        <p:spPr>
          <a:xfrm>
            <a:off x="1763640" y="4724280"/>
            <a:ext cx="4969080" cy="86544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родителей в воспитании культуры поведения у реб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Равно 3"/>
          <p:cNvSpPr/>
          <p:nvPr/>
        </p:nvSpPr>
        <p:spPr>
          <a:xfrm>
            <a:off x="3924360" y="5589720"/>
            <a:ext cx="792000" cy="360360"/>
          </a:xfrm>
          <a:custGeom>
            <a:avLst/>
            <a:gdLst/>
            <a:ahLst/>
            <a:rect l="l" t="t" r="r" b="b"/>
            <a:pathLst>
              <a:path w="792088" h="360040">
                <a:moveTo>
                  <a:pt x="104991" y="65221"/>
                </a:moveTo>
                <a:lnTo>
                  <a:pt x="687097" y="65221"/>
                </a:lnTo>
                <a:lnTo>
                  <a:pt x="687097" y="149903"/>
                </a:lnTo>
                <a:lnTo>
                  <a:pt x="104991" y="149903"/>
                </a:lnTo>
                <a:lnTo>
                  <a:pt x="104991" y="65221"/>
                </a:lnTo>
                <a:close/>
                <a:moveTo>
                  <a:pt x="104991" y="210137"/>
                </a:moveTo>
                <a:lnTo>
                  <a:pt x="687097" y="210137"/>
                </a:lnTo>
                <a:lnTo>
                  <a:pt x="687097" y="294819"/>
                </a:lnTo>
                <a:lnTo>
                  <a:pt x="104991" y="294819"/>
                </a:lnTo>
                <a:lnTo>
                  <a:pt x="104991" y="21013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4"/>
          <p:cNvSpPr/>
          <p:nvPr/>
        </p:nvSpPr>
        <p:spPr>
          <a:xfrm>
            <a:off x="2627280" y="6165720"/>
            <a:ext cx="3313080" cy="57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ание ребенка поступать в соответствии с правилами этик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62080" y="0"/>
            <a:ext cx="8742240" cy="252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13372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тивный настрой ребе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 взрослых (прежде всего родителей и воспитател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 семь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686800" cy="2494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учим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станавливать доброжелательные отношения с людьми (сверстниками и взрослыми с незнакомыми и знакомыми людьм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оявлять любовь и уважение к близким людям и друзь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хоти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 хорошие, дружеские отношения в нашей группе, чтобы каждому из нас здесь было приятно находить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хорошими людьми, красивыми и привлекательны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равиться тем кто нас окружа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-730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ояр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ши имен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ебен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Цветок любв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уче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слова самым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омплименты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ень рожден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Мне нравиться с тобой дружить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акончи высказывани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644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. Барто «Имя и фамилия», «Шла вчера я по Садовой…», «Друзья, вот вам на всякий случай стихи о мальчике одном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Голяховский «Одно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Дружинина «Кто знает 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ондратьев «Добрый день!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Маршак «Ежели вы вежливы…», «Знал одного ребенка я…», «Урок вежливост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Осеева «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Пивоварова «Был ослик очен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Погореловский «Что значит быт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Токмакова «Маша знала слов не мало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Яшин «Я люблю когда при встрече…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3:26:12Z</dcterms:created>
  <dc:creator>Компьютер</dc:creator>
  <dc:description/>
  <dc:language>en-US</dc:language>
  <cp:lastModifiedBy>Компьютер</cp:lastModifiedBy>
  <dcterms:modified xsi:type="dcterms:W3CDTF">2017-09-20T20:00:56Z</dcterms:modified>
  <cp:revision>21</cp:revision>
  <dc:subject/>
  <dc:title>Речевой этикет как средство развития ребенка</dc:title>
</cp:coreProperties>
</file>