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47F-6B78-4040-8F17-2C1A019D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CFF-489D-47D5-ADD6-ECDD34AD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85D-E5E3-46AA-AC2F-A87CC711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073-78D7-4AE0-AC4E-FE4D367B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F7B1-BA42-4564-BDD1-1A672244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D4BB-43B9-443C-B846-B403B6C3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0CE4-C2A4-4C70-A556-ABC2BACF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A1A6-2D47-445A-9DC1-2E711DF5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90FC-9DE9-42D1-ADC3-D30C8956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1FE0-0678-4FA2-914F-E4D8C72B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94CF-D62F-4B7F-A060-081207BF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B41-5B69-4A8D-B9AC-77996AE3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E5C5-5163-487B-B60C-9340FCFB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1305-008E-4AA3-9703-D4EAC1A3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9B2C-FD14-4FE0-B013-7A869085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6129-7410-469C-9873-91F60816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D3F6-102E-4D69-905F-F7C86B7A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67D-0CA8-40E1-B3A7-415CE2C6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91E-6978-485C-8A9D-FAA9B71B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C5A-8807-4A5E-B168-D3D007F0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FFE-AF7F-42B6-B105-190F0CBC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53E-C46F-4999-A549-11DF64AE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CD2-67D3-4904-BC72-34E0BB54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A96-C1E2-47F2-B46B-19B43102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0D03-3CB3-4690-97A2-0B819C172E6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9F6D-429A-432A-A6A0-38B231069DF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я для родител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ршая групп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328680" y="66600"/>
            <a:ext cx="8553240" cy="1743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ажение к человеку проявляется в признании его достоинств, того, что ты считаешься с его взглядами, интересами и мнениями. С этим человеком можно посоветоваться о чем – то, с ним мы стараемся не ссориться, хотим с ним дружить, нам нравиться с ним игр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людать этикет – значит соблюдать правила поведения, которые придумали люди, чтобы всем было хорошо, чтобы было удобно общаться друг с друг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УДТЕ ВЕЖЛИВЫ И ВНИМАТЕЛЬНЫ ДРУГ К ДРУГУ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371520" y="1066680"/>
            <a:ext cx="8650080" cy="2133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Искусство воспитания включает в себя, прежде всего искусство говорить, обращаться к человеческому сердцу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А. Сухомлинск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20840" y="0"/>
            <a:ext cx="8229600" cy="2133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Этикет – это свод конкретных, достаточно строгих правил поведения в обществе, это внешнее проявления культуры челове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Этикет является регулятором поведения, дает возможность многое узнать о соблюдающем его человек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н способствует установлению успешных и доверительных связей между людьми, усиливает нравственное и эстетическое начало в жизни общества, наконец способствует совершенствованию челове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20840" y="0"/>
            <a:ext cx="822960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гулятив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ознаватель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дентификацион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муникатив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ическ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атель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109440" y="0"/>
            <a:ext cx="5711760" cy="19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Компьютер\Desktop\этикет\рр.jpg"/>
          <p:cNvPicPr/>
          <p:nvPr/>
        </p:nvPicPr>
        <p:blipFill>
          <a:blip r:embed="rId2"/>
          <a:stretch/>
        </p:blipFill>
        <p:spPr>
          <a:xfrm>
            <a:off x="5651640" y="11160"/>
            <a:ext cx="3673440" cy="2049480"/>
          </a:xfrm>
          <a:prstGeom prst="rect">
            <a:avLst/>
          </a:prstGeom>
          <a:ln w="0">
            <a:noFill/>
          </a:ln>
        </p:spPr>
      </p:pic>
      <p:sp>
        <p:nvSpPr>
          <p:cNvPr id="92" name="Блок-схема: альтернативный процесс 5"/>
          <p:cNvSpPr/>
          <p:nvPr/>
        </p:nvSpPr>
        <p:spPr>
          <a:xfrm>
            <a:off x="2124000" y="2276640"/>
            <a:ext cx="3816360" cy="50472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воспитание педаго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чный пример взросл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Стрелка вниз 6"/>
          <p:cNvSpPr/>
          <p:nvPr/>
        </p:nvSpPr>
        <p:spPr>
          <a:xfrm>
            <a:off x="4032360" y="2781360"/>
            <a:ext cx="395280" cy="395280"/>
          </a:xfrm>
          <a:prstGeom prst="downArrow">
            <a:avLst>
              <a:gd name="adj1" fmla="val 50000"/>
              <a:gd name="adj2" fmla="val 40509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Блок-схема: альтернативный процесс 7"/>
          <p:cNvSpPr/>
          <p:nvPr/>
        </p:nvSpPr>
        <p:spPr>
          <a:xfrm>
            <a:off x="0" y="3284640"/>
            <a:ext cx="9144000" cy="61272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ивный настрой детей, этические беседы, нравственно – этикетные игры, создание воспитывающих ситуаций, занятия по этике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Блок-схема: альтернативный процесс 2"/>
          <p:cNvSpPr/>
          <p:nvPr/>
        </p:nvSpPr>
        <p:spPr>
          <a:xfrm>
            <a:off x="1763640" y="4724280"/>
            <a:ext cx="4969080" cy="86544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астие родителей в воспитании культуры поведения у ребе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Равно 3"/>
          <p:cNvSpPr/>
          <p:nvPr/>
        </p:nvSpPr>
        <p:spPr>
          <a:xfrm>
            <a:off x="3924360" y="5589720"/>
            <a:ext cx="792000" cy="360360"/>
          </a:xfrm>
          <a:custGeom>
            <a:avLst/>
            <a:gdLst/>
            <a:ahLst/>
            <a:rect l="l" t="t" r="r" b="b"/>
            <a:pathLst>
              <a:path w="792088" h="360040">
                <a:moveTo>
                  <a:pt x="104991" y="65221"/>
                </a:moveTo>
                <a:lnTo>
                  <a:pt x="687097" y="65221"/>
                </a:lnTo>
                <a:lnTo>
                  <a:pt x="687097" y="149903"/>
                </a:lnTo>
                <a:lnTo>
                  <a:pt x="104991" y="149903"/>
                </a:lnTo>
                <a:lnTo>
                  <a:pt x="104991" y="65221"/>
                </a:lnTo>
                <a:close/>
                <a:moveTo>
                  <a:pt x="104991" y="210137"/>
                </a:moveTo>
                <a:lnTo>
                  <a:pt x="687097" y="210137"/>
                </a:lnTo>
                <a:lnTo>
                  <a:pt x="687097" y="294819"/>
                </a:lnTo>
                <a:lnTo>
                  <a:pt x="104991" y="294819"/>
                </a:lnTo>
                <a:lnTo>
                  <a:pt x="104991" y="21013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Блок-схема: альтернативный процесс 4"/>
          <p:cNvSpPr/>
          <p:nvPr/>
        </p:nvSpPr>
        <p:spPr>
          <a:xfrm>
            <a:off x="2627280" y="6165720"/>
            <a:ext cx="3313080" cy="57636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Желание ребенка поступать в соответствии с правилами этикет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262080" y="0"/>
            <a:ext cx="8742240" cy="2523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213372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итивный настрой ребен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 взрослых (прежде всего родителей и воспитател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язь с семь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84120" y="0"/>
            <a:ext cx="8686800" cy="2494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79280" y="206064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ы учим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устанавливать доброжелательные отношения с людьми (сверстниками и взрослыми с незнакомыми и знакомыми людьми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проявлять любовь и уважение к близким людям и друзья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ы хоти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ть хорошие, дружеские отношения в нашей группе, чтобы каждому из нас здесь было приятно находитьс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хорошими людьми, красивыми и привлекательны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равиться тем кто нас окружа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20840" y="-730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Бояре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Наши имена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жливый ребено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Цветок любви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жливый ручее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обрые слова самым любим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Комплименты любим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оброе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ень рождения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Мне нравиться с тобой дружить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Закончи высказывание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326440" cy="1719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А. Барто «Имя и фамилия», «Шла вчера я по Садовой…», «Друзья, вот вам на всякий случай стихи о мальчике одном…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Голяховский «Одно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. Дружинина «Кто знает волшебное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Кондратьев «Добрый день!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. Маршак «Ежели вы вежливы…», «Знал одного ребенка я…», «Урок вежливости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Осеева «Волшебное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Пивоварова «Был ослик очень вежлив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. Погореловский «Что значит быть вежлив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Токмакова «Маша знала слов не мало…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Яшин «Я люблю когда при встрече…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13:26:12Z</dcterms:created>
  <dc:creator>Компьютер</dc:creator>
  <dc:description/>
  <dc:language>en-US</dc:language>
  <cp:lastModifiedBy>Компьютер</cp:lastModifiedBy>
  <dcterms:modified xsi:type="dcterms:W3CDTF">2017-09-20T20:00:56Z</dcterms:modified>
  <cp:revision>21</cp:revision>
  <dc:subject/>
  <dc:title>Речевой этикет как средство развития ребенка</dc:title>
</cp:coreProperties>
</file>