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E3F-5576-48A8-A0DC-6A609C51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82B9-5BAF-4322-B6A3-83DAE90E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9E5E-01B0-4878-99C4-40F00D66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DAC-858A-4B44-8BAE-C55C1A90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56A2-7C4C-4AC5-BEBD-787A3BB4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4BC4-8F5D-4AA0-8B08-FD6ADEED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1899-BDFD-4192-91DD-E6BD899A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C714-D2F6-47A7-A45C-BC49EAD1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7618-02BA-4E37-AE8C-D0D2C3CB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FDA7-36CC-49A6-B9C8-E921EDCB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880A-E2E6-4495-A3AE-660EEDA9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471-C664-4B19-A06E-63AA1356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EFD6-A4A8-456B-976F-094B242B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AD73-0598-4AC0-8F7D-ECC871F1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5B34-5B76-49AD-8FB7-2AD64D7E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305A-A659-4398-8D33-0AC620D2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469A-4DE3-4D6D-8D70-37F749C9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4AA4-0BE3-4857-9ADB-808765E8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041D-27B8-4CB7-9114-65D3272A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CE1-F9F4-4423-A9BF-114C2BDC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58D-2DB3-4BB9-9731-E7895913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ED8-2686-4E91-A5B9-BDCF4FA5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946-11A9-4A10-ADB6-BD32D29A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585-E043-4D40-B592-89368D4A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9D51-530A-4ECD-B922-5992E68FBA2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5BA6-7BB5-47E4-A4D8-766358106D4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8229600" cy="2664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я для родител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ршая групп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328680" y="66600"/>
            <a:ext cx="8553240" cy="1743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важение к человеку проявляется в признании его достоинств, того, что ты считаешься с его взглядами, интересами и мнениями. С этим человеком можно посоветоваться о чем – то, с ним мы стараемся не ссориться, хотим с ним дружить, нам нравиться с ним игр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блюдать этикет – значит соблюдать правила поведения, которые придумали люди, чтобы всем было хорошо, чтобы было удобно общаться друг с друг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УДТЕ ВЕЖЛИВЫ И ВНИМАТЕЛЬНЫ ДРУГ К ДРУГУ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371520" y="1066680"/>
            <a:ext cx="8650080" cy="2133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Искусство воспитания включает в себя, прежде всего искусство говорить, обращаться к человеческому сердцу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А. Сухомлинск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20840" y="0"/>
            <a:ext cx="8229600" cy="2133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Этикет – это свод конкретных, достаточно строгих правил поведения в обществе, это внешнее проявления культуры челове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Этикет является регулятором поведения, дает возможность многое узнать о соблюдающем его человек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н способствует установлению успешных и доверительных связей между людьми, усиливает нравственное и эстетическое начало в жизни общества, наконец способствует совершенствованию челове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20840" y="0"/>
            <a:ext cx="822960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гулятив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ознаватель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дентификацион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муникатив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ическ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стетическ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спитательна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109440" y="0"/>
            <a:ext cx="5711760" cy="195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Компьютер\Desktop\этикет\рр.jpg"/>
          <p:cNvPicPr/>
          <p:nvPr/>
        </p:nvPicPr>
        <p:blipFill>
          <a:blip r:embed="rId2"/>
          <a:stretch/>
        </p:blipFill>
        <p:spPr>
          <a:xfrm>
            <a:off x="5651640" y="11160"/>
            <a:ext cx="3673440" cy="2049480"/>
          </a:xfrm>
          <a:prstGeom prst="rect">
            <a:avLst/>
          </a:prstGeom>
          <a:ln w="0">
            <a:noFill/>
          </a:ln>
        </p:spPr>
      </p:pic>
      <p:sp>
        <p:nvSpPr>
          <p:cNvPr id="92" name="Блок-схема: альтернативный процесс 5"/>
          <p:cNvSpPr/>
          <p:nvPr/>
        </p:nvSpPr>
        <p:spPr>
          <a:xfrm>
            <a:off x="2124000" y="2276640"/>
            <a:ext cx="3816360" cy="50472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воспитание педагог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чный пример взросл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Стрелка вниз 6"/>
          <p:cNvSpPr/>
          <p:nvPr/>
        </p:nvSpPr>
        <p:spPr>
          <a:xfrm>
            <a:off x="4032360" y="2781360"/>
            <a:ext cx="395280" cy="395280"/>
          </a:xfrm>
          <a:prstGeom prst="downArrow">
            <a:avLst>
              <a:gd name="adj1" fmla="val 50000"/>
              <a:gd name="adj2" fmla="val 40509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Блок-схема: альтернативный процесс 7"/>
          <p:cNvSpPr/>
          <p:nvPr/>
        </p:nvSpPr>
        <p:spPr>
          <a:xfrm>
            <a:off x="0" y="3284640"/>
            <a:ext cx="9144000" cy="61272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итивный настрой детей, этические беседы, нравственно – этикетные игры, создание воспитывающих ситуаций, занятия по этикет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Блок-схема: альтернативный процесс 2"/>
          <p:cNvSpPr/>
          <p:nvPr/>
        </p:nvSpPr>
        <p:spPr>
          <a:xfrm>
            <a:off x="1763640" y="4724280"/>
            <a:ext cx="4969080" cy="86544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астие родителей в воспитании культуры поведения у ребен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Равно 3"/>
          <p:cNvSpPr/>
          <p:nvPr/>
        </p:nvSpPr>
        <p:spPr>
          <a:xfrm>
            <a:off x="3924360" y="5589720"/>
            <a:ext cx="792000" cy="360360"/>
          </a:xfrm>
          <a:custGeom>
            <a:avLst/>
            <a:gdLst/>
            <a:ahLst/>
            <a:rect l="l" t="t" r="r" b="b"/>
            <a:pathLst>
              <a:path w="792088" h="360040">
                <a:moveTo>
                  <a:pt x="104991" y="65221"/>
                </a:moveTo>
                <a:lnTo>
                  <a:pt x="687097" y="65221"/>
                </a:lnTo>
                <a:lnTo>
                  <a:pt x="687097" y="149903"/>
                </a:lnTo>
                <a:lnTo>
                  <a:pt x="104991" y="149903"/>
                </a:lnTo>
                <a:lnTo>
                  <a:pt x="104991" y="65221"/>
                </a:lnTo>
                <a:close/>
                <a:moveTo>
                  <a:pt x="104991" y="210137"/>
                </a:moveTo>
                <a:lnTo>
                  <a:pt x="687097" y="210137"/>
                </a:lnTo>
                <a:lnTo>
                  <a:pt x="687097" y="294819"/>
                </a:lnTo>
                <a:lnTo>
                  <a:pt x="104991" y="294819"/>
                </a:lnTo>
                <a:lnTo>
                  <a:pt x="104991" y="21013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Блок-схема: альтернативный процесс 4"/>
          <p:cNvSpPr/>
          <p:nvPr/>
        </p:nvSpPr>
        <p:spPr>
          <a:xfrm>
            <a:off x="2627280" y="6165720"/>
            <a:ext cx="3313080" cy="57636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Желание ребенка поступать в соответствии с правилами этикет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262080" y="0"/>
            <a:ext cx="8742240" cy="2523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2133720"/>
            <a:ext cx="8280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итивный настрой ребен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р взрослых (прежде всего родителей и воспитателя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язь с семь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384120" y="0"/>
            <a:ext cx="8686800" cy="2494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79280" y="2060640"/>
            <a:ext cx="896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ы учим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устанавливать доброжелательные отношения с людьми (сверстниками и взрослыми с незнакомыми и знакомыми людьми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проявлять любовь и уважение к близким людям и друзья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ы хоти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ть хорошие, дружеские отношения в нашей группе, чтобы каждому из нас здесь было приятно находитьс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ть хорошими людьми, красивыми и привлекательным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равиться тем кто нас окружа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20840" y="-73080"/>
            <a:ext cx="8229600" cy="2664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Бояре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Наши имена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Вежливый ребенок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Цветок любви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Вежливый ручеек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Добрые слова самым любимы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Комплименты любимы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Доброе слово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День рождения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Мне нравиться с тобой дружить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Закончи высказывание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326440" cy="1719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А. Барто «Имя и фамилия», «Шла вчера я по Садовой…», «Друзья, вот вам на всякий случай стихи о мальчике одном…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Голяховский «Одно слово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. Дружинина «Кто знает волшебное слово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Кондратьев «Добрый день!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. Маршак «Ежели вы вежливы…», «Знал одного ребенка я…», «Урок вежливости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Осеева «Волшебное слово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. Пивоварова «Был ослик очень вежливы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. Погореловский «Что значит быть вежливы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. Токмакова «Маша знала слов не мало…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Яшин «Я люблю когда при встрече…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7T13:26:12Z</dcterms:created>
  <dc:creator>Компьютер</dc:creator>
  <dc:description/>
  <dc:language>en-US</dc:language>
  <cp:lastModifiedBy>Компьютер</cp:lastModifiedBy>
  <dcterms:modified xsi:type="dcterms:W3CDTF">2017-09-20T20:00:56Z</dcterms:modified>
  <cp:revision>21</cp:revision>
  <dc:subject/>
  <dc:title>Речевой этикет как средство развития ребенка</dc:title>
</cp:coreProperties>
</file>