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D0C-7E0C-4823-AD9D-8C366654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70B-086D-4171-A53C-B19C2C97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41B-28DC-4685-8CA8-E2EE3BD4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40C-BF65-4C44-9FF9-9DB67D72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784E-ECC7-417A-85C5-EBF0E201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7A12-CB7A-489F-A111-92377087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4A78-A3F6-4264-B52B-5A7FD613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4543-B1A7-4014-844D-09C6302B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D1C9-0910-44B5-B00F-80014D50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DF37-513D-4CD8-9002-217DCE34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69FB-5058-410D-BB31-9F318E75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A85-1C86-4D85-B498-56551403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34DF-4CBC-458C-93D4-3E3E709A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5E8E-EB89-4F4A-8FAF-DA5D8224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2EB3-BF5D-44F9-889B-4097593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2DD8-D875-4D81-8921-A396DA31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1D3-44D1-41C3-9F6F-5A7AA03B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CB7-A0B3-446D-A6EE-260B48FC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CB2-E75D-40BC-8021-D723136B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D2B-48DE-4A87-912F-F071A699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760-AE80-432D-9729-1F56D141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506-3450-4C5A-87E1-52D44FFD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3A3-00B4-4718-8EFD-ED440CDB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C38-00F2-4F59-BCCC-85FEBE7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A225-5EAB-4B6E-A1E4-A40D21E3F3B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767B-2724-4CD7-873B-7AD2318E2DD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для родит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ршая групп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28680" y="66600"/>
            <a:ext cx="8553240" cy="1743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ение к человеку проявляется в признании его достоинств, того, что ты считаешься с его взглядами, интересами и мнениями. С этим человеком можно посоветоваться о чем – то, с ним мы стараемся не ссориться, хотим с ним дружить, нам нравиться с ним игр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людать этикет – значит соблюдать правила поведения, которые придумали люди, чтобы всем было хорошо, чтобы было удобно общаться друг с друг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ДТЕ ВЕЖЛИВЫ И ВНИМАТЕЛЬНЫ ДРУГ К ДРУГУ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71520" y="1066680"/>
            <a:ext cx="8650080" cy="2133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Искусство воспитания включает в себя, прежде всего искусство говорить, обращаться к человеческому сердц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А. Сухомлинск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29600" cy="2133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икет – это свод конкретных, достаточно строгих правил поведения в обществе, это внешнее проявления культуры челове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икет является регулятором поведения, дает возможность многое узнать о соблюдающем его человек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н способствует установлению успешных и доверительных связей между людьми, усиливает нравственное и эстетическое начало в жизни общества, наконец способствует совершенствованию челове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2960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гулятив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ознаватель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дентификацион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тив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ическ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атель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09440" y="0"/>
            <a:ext cx="5711760" cy="19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Компьютер\Desktop\этикет\рр.jpg"/>
          <p:cNvPicPr/>
          <p:nvPr/>
        </p:nvPicPr>
        <p:blipFill>
          <a:blip r:embed="rId2"/>
          <a:stretch/>
        </p:blipFill>
        <p:spPr>
          <a:xfrm>
            <a:off x="5651640" y="11160"/>
            <a:ext cx="3673440" cy="2049480"/>
          </a:xfrm>
          <a:prstGeom prst="rect">
            <a:avLst/>
          </a:prstGeom>
          <a:ln w="0">
            <a:noFill/>
          </a:ln>
        </p:spPr>
      </p:pic>
      <p:sp>
        <p:nvSpPr>
          <p:cNvPr id="92" name="Блок-схема: альтернативный процесс 5"/>
          <p:cNvSpPr/>
          <p:nvPr/>
        </p:nvSpPr>
        <p:spPr>
          <a:xfrm>
            <a:off x="2124000" y="2276640"/>
            <a:ext cx="3816360" cy="50472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воспитание педаго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ый пример взросл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Стрелка вниз 6"/>
          <p:cNvSpPr/>
          <p:nvPr/>
        </p:nvSpPr>
        <p:spPr>
          <a:xfrm>
            <a:off x="4032360" y="2781360"/>
            <a:ext cx="395280" cy="395280"/>
          </a:xfrm>
          <a:prstGeom prst="downArrow">
            <a:avLst>
              <a:gd name="adj1" fmla="val 50000"/>
              <a:gd name="adj2" fmla="val 40509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Блок-схема: альтернативный процесс 7"/>
          <p:cNvSpPr/>
          <p:nvPr/>
        </p:nvSpPr>
        <p:spPr>
          <a:xfrm>
            <a:off x="0" y="3284640"/>
            <a:ext cx="9144000" cy="61272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ивный настрой детей, этические беседы, нравственно – этикетные игры, создание воспитывающих ситуаций, занятия по этик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Блок-схема: альтернативный процесс 2"/>
          <p:cNvSpPr/>
          <p:nvPr/>
        </p:nvSpPr>
        <p:spPr>
          <a:xfrm>
            <a:off x="1763640" y="4724280"/>
            <a:ext cx="4969080" cy="86544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астие родителей в воспитании культуры поведения у ребе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Равно 3"/>
          <p:cNvSpPr/>
          <p:nvPr/>
        </p:nvSpPr>
        <p:spPr>
          <a:xfrm>
            <a:off x="3924360" y="5589720"/>
            <a:ext cx="792000" cy="360360"/>
          </a:xfrm>
          <a:custGeom>
            <a:avLst/>
            <a:gdLst/>
            <a:ahLst/>
            <a:rect l="l" t="t" r="r" b="b"/>
            <a:pathLst>
              <a:path w="792088" h="360040">
                <a:moveTo>
                  <a:pt x="104991" y="65221"/>
                </a:moveTo>
                <a:lnTo>
                  <a:pt x="687097" y="65221"/>
                </a:lnTo>
                <a:lnTo>
                  <a:pt x="687097" y="149903"/>
                </a:lnTo>
                <a:lnTo>
                  <a:pt x="104991" y="149903"/>
                </a:lnTo>
                <a:lnTo>
                  <a:pt x="104991" y="65221"/>
                </a:lnTo>
                <a:close/>
                <a:moveTo>
                  <a:pt x="104991" y="210137"/>
                </a:moveTo>
                <a:lnTo>
                  <a:pt x="687097" y="210137"/>
                </a:lnTo>
                <a:lnTo>
                  <a:pt x="687097" y="294819"/>
                </a:lnTo>
                <a:lnTo>
                  <a:pt x="104991" y="294819"/>
                </a:lnTo>
                <a:lnTo>
                  <a:pt x="104991" y="21013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Блок-схема: альтернативный процесс 4"/>
          <p:cNvSpPr/>
          <p:nvPr/>
        </p:nvSpPr>
        <p:spPr>
          <a:xfrm>
            <a:off x="2627280" y="6165720"/>
            <a:ext cx="3313080" cy="576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елание ребенка поступать в соответствии с правилами этике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262080" y="0"/>
            <a:ext cx="8742240" cy="2523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213372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итивный настрой ребен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 взрослых (прежде всего родителей и воспитател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ь с семь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84120" y="0"/>
            <a:ext cx="8686800" cy="2494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 учим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устанавливать доброжелательные отношения с людьми (сверстниками и взрослыми с незнакомыми и знакомыми людьм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проявлять любовь и уважение к близким людям и друзья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 хоти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ть хорошие, дружеские отношения в нашей группе, чтобы каждому из нас здесь было приятно находитьс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хорошими людьми, красивыми и привлекательны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равиться тем кто нас окружа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20840" y="-730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Бояре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Наши имена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жливый ребено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Цветок любв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жливый ручее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ые слова самым любим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Комплименты любим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ень рождения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Мне нравиться с тобой дружить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Закончи высказывание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326440" cy="171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А. Барто «Имя и фамилия», «Шла вчера я по Садовой…», «Друзья, вот вам на всякий случай стихи о мальчике одном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Голяховский «Одно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. Дружинина «Кто знает волшебн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Кондратьев «Добрый день!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. Маршак «Ежели вы вежливы…», «Знал одного ребенка я…», «Урок вежливост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Осеева «Волшебн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Пивоварова «Был ослик очень вежлив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. Погореловский «Что значит быть вежлив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Токмакова «Маша знала слов не мало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Яшин «Я люблю когда при встрече…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13:26:12Z</dcterms:created>
  <dc:creator>Компьютер</dc:creator>
  <dc:description/>
  <dc:language>en-US</dc:language>
  <cp:lastModifiedBy>Компьютер</cp:lastModifiedBy>
  <dcterms:modified xsi:type="dcterms:W3CDTF">2017-09-20T20:00:56Z</dcterms:modified>
  <cp:revision>21</cp:revision>
  <dc:subject/>
  <dc:title>Речевой этикет как средство развития ребенка</dc:title>
</cp:coreProperties>
</file>