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0A9-67E2-447F-9DF2-61172E01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2A5-54F4-45BA-AF32-B5E93CD9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F2B-9444-4A98-A771-AF5C02E9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759-A55E-4E25-9178-E4C509CE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6D5-91CD-4DF0-9787-D08F23B2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742-2C54-46AC-AA61-714D6DDE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82C-798F-4615-A395-8EC572DE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30A-1567-4600-82E6-6D15A293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11D-4048-47AB-8536-ACF30B28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84C-F3A9-41E4-8F2E-C67D7997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D4C-AA56-4C2C-80A9-8597A7E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AEC-236D-4C74-9272-7F78F1B0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4A15-8F82-4FDF-BBF5-7E453D27E8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6 декабря.</a:t>
            </a:r>
            <a:br>
              <a:rPr sz="4800"/>
            </a:b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Классная работ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93600" y="620640"/>
            <a:ext cx="898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33300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аблица умн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Достойна ува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на всегда во всём прав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Чтоб ни случилось в мир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 всё же будет дважды д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о-прежнему четы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аблицу каждый должен знать 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бязательно на «5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.Я. Марш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нь-ноч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071800" y="981000"/>
            <a:ext cx="589572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зовись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3·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6 ·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8: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20: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7: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54: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2:7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5 ·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5: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24: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 · 9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30: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 · 8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2 ·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6, 24, 18, 9, 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·      = 24            ·      =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·      = 24             ·       =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·      = 18             ·      =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·  ·      = 18             ·      = 2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468360" y="2365200"/>
            <a:ext cx="43164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1187280" y="2365200"/>
            <a:ext cx="43200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63680" y="292428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1187280" y="2949480"/>
            <a:ext cx="43200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195560" y="347040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68360" y="347040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3924360" y="227952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3203640" y="2281320"/>
            <a:ext cx="43164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4000680" y="2928960"/>
            <a:ext cx="43164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12"/>
          <p:cNvSpPr/>
          <p:nvPr/>
        </p:nvSpPr>
        <p:spPr>
          <a:xfrm>
            <a:off x="3203640" y="291132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468360" y="399096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1187280" y="3990960"/>
            <a:ext cx="43200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3979800" y="3471840"/>
            <a:ext cx="43200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16"/>
          <p:cNvSpPr/>
          <p:nvPr/>
        </p:nvSpPr>
        <p:spPr>
          <a:xfrm>
            <a:off x="3203640" y="3471840"/>
            <a:ext cx="43164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17"/>
          <p:cNvSpPr/>
          <p:nvPr/>
        </p:nvSpPr>
        <p:spPr>
          <a:xfrm>
            <a:off x="4000680" y="4000680"/>
            <a:ext cx="43164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8"/>
          <p:cNvSpPr/>
          <p:nvPr/>
        </p:nvSpPr>
        <p:spPr>
          <a:xfrm>
            <a:off x="3214800" y="4000680"/>
            <a:ext cx="43164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Цепоч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30216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Заполните пропу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 = … · 3 + …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8 = … · 6 +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4 – … = 2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 · … – … = 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аботаем в пар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2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3 = 18             8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9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= 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9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= 20             8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=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= 16               40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7 =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Реши приме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0 : 5 : 3 – 18 : 9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45+19) : 8 + 27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∙ 3 + 3 ∙ 5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0 – 8 ∙ 2 +30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йди площадь и периметр прямоугольника со сторонами 5 см и 3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= 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___________________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Реши приме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4 : 6 – 32 : 8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36+36) : 8 + 26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∙ 4 + 5 ∙4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0 – 7 ∙ 2 + 4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йди площадь и периметр прямоугольника со сторонами 6 см и 4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= 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___________________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2738520" y="5229360"/>
            <a:ext cx="3036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Euroset</cp:lastModifiedBy>
  <dcterms:modified xsi:type="dcterms:W3CDTF">2017-01-29T15:49:33Z</dcterms:modified>
  <cp:revision>58</cp:revision>
  <dc:subject/>
  <dc:title>Слайд 1</dc:title>
</cp:coreProperties>
</file>