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8E6-9AB3-4734-AD2F-8807BB6A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9B4-26AF-4942-9A35-01ACD3D6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762-1AFB-427F-8A14-A9B667A8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FDF-68A6-40DE-AD40-A4111BFE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B43-9434-4BFA-AD51-943A34FE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A05-E4CE-47C9-B42C-A4295ABC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D80-4881-410B-B241-27474247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4FA-95AA-45FD-BC3F-16E83B80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D7C-E641-410A-A110-EE2848E2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299-6521-400F-8300-E1C586F0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D563-C4AB-4937-8B8B-574700A5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7AF-A3D4-4DED-A4D7-A6CB8B26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5F91-8F15-4A16-87AA-03FA301A11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6 декабря.</a:t>
            </a:r>
            <a:br>
              <a:rPr sz="4800"/>
            </a:b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Классная работ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93600" y="620640"/>
            <a:ext cx="898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33300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аблица умн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Достойна ува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на всегда во всём прав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Чтоб ни случилось в мир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 всё же будет дважды д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о-прежнему четы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аблицу каждый должен знать 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бязательно на «5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С.Я. Марш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нь-ноч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071800" y="981000"/>
            <a:ext cx="589572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зовись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3·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6 ·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8: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20: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27: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54: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42:7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5 ·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25: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24: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4 · 9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30: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5 · 8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2 ·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6, 24, 18, 9, 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·      = 24            ·      =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·      = 24             ·       =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·      = 18             ·      =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·  ·      = 18             ·      = 2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468360" y="2365200"/>
            <a:ext cx="43164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1187280" y="2365200"/>
            <a:ext cx="43200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63680" y="2924280"/>
            <a:ext cx="43164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1187280" y="2949480"/>
            <a:ext cx="43200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195560" y="3470400"/>
            <a:ext cx="43164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468360" y="3470400"/>
            <a:ext cx="43164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3924360" y="2279520"/>
            <a:ext cx="43164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3203640" y="2281320"/>
            <a:ext cx="43164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4000680" y="2928960"/>
            <a:ext cx="43164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12"/>
          <p:cNvSpPr/>
          <p:nvPr/>
        </p:nvSpPr>
        <p:spPr>
          <a:xfrm>
            <a:off x="3203640" y="2911320"/>
            <a:ext cx="43164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468360" y="3990960"/>
            <a:ext cx="43164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1187280" y="3990960"/>
            <a:ext cx="432000" cy="4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15"/>
          <p:cNvSpPr/>
          <p:nvPr/>
        </p:nvSpPr>
        <p:spPr>
          <a:xfrm>
            <a:off x="3979800" y="3471840"/>
            <a:ext cx="43200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16"/>
          <p:cNvSpPr/>
          <p:nvPr/>
        </p:nvSpPr>
        <p:spPr>
          <a:xfrm>
            <a:off x="3203640" y="3471840"/>
            <a:ext cx="43164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17"/>
          <p:cNvSpPr/>
          <p:nvPr/>
        </p:nvSpPr>
        <p:spPr>
          <a:xfrm>
            <a:off x="4000680" y="4000680"/>
            <a:ext cx="43164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8"/>
          <p:cNvSpPr/>
          <p:nvPr/>
        </p:nvSpPr>
        <p:spPr>
          <a:xfrm>
            <a:off x="3214800" y="4000680"/>
            <a:ext cx="43164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Цепочк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30216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Заполните пропус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 = … · 3 + …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8 = … · 6 +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4 – … = 2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 · … – … = 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аботаем в пар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2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∙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3 = 18             8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∙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9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 = 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9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 = 20             8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∙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 = 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∙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 = 16               40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∙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7 =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55736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Реши пример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0 : 5 : 3 – 18 : 9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45+19) : 8 + 27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∙ 3 + 3 ∙ 5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0 – 8 ∙ 2 +30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йди площадь и периметр прямоугольника со сторонами 5 см и 3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= 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___________________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Реши пример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4 : 6 – 32 : 8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36+36) : 8 + 26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∙ 4 + 5 ∙4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0 – 7 ∙ 2 + 4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йди площадь и периметр прямоугольника со сторонами 6 см и 4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= 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___________________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2738520" y="5229360"/>
            <a:ext cx="3036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Euroset</cp:lastModifiedBy>
  <dcterms:modified xsi:type="dcterms:W3CDTF">2017-01-29T15:49:33Z</dcterms:modified>
  <cp:revision>58</cp:revision>
  <dc:subject/>
  <dc:title>Слайд 1</dc:title>
</cp:coreProperties>
</file>