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BE4-DDBD-4D18-AC29-EA570CDB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CBE-1FC0-41A2-B7E0-4CBB81D9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1F5-A037-42FF-8BA4-661EDFDA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020-3F19-46AF-98AB-628E6601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B46-6138-4D45-9C6B-27BCA6F8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D10-DC6D-4886-8BB1-FA97958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BB0-E58E-4986-AD2B-ACAC77CB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DED-1080-46C4-9769-CF879E3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B15-1369-4C12-8F2B-3BD7EFD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E06-1E58-4595-958A-F72FAA5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B74-E3D5-4297-B003-2578A0C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B35-5274-45B5-A249-44B1C96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3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BB7-4009-4D97-A6B4-0F6451267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2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" name="Picture 4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7" name="WordArt 6"/>
          <p:cNvSpPr txBox="1"/>
          <p:nvPr/>
        </p:nvSpPr>
        <p:spPr>
          <a:xfrm>
            <a:off x="990720" y="16002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 стране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ого детства"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14" descr="in6_barto1"/>
          <p:cNvPicPr/>
          <p:nvPr/>
        </p:nvPicPr>
        <p:blipFill>
          <a:blip r:embed="rId6"/>
          <a:stretch/>
        </p:blipFill>
        <p:spPr>
          <a:xfrm>
            <a:off x="3733920" y="4114800"/>
            <a:ext cx="1477800" cy="1619280"/>
          </a:xfrm>
          <a:prstGeom prst="rect">
            <a:avLst/>
          </a:prstGeom>
          <a:ln w="19080">
            <a:solidFill>
              <a:srgbClr val="990099"/>
            </a:solidFill>
            <a:miter/>
          </a:ln>
        </p:spPr>
      </p:pic>
      <p:sp>
        <p:nvSpPr>
          <p:cNvPr id="49" name="WordArt 12"/>
          <p:cNvSpPr txBox="1"/>
          <p:nvPr/>
        </p:nvSpPr>
        <p:spPr>
          <a:xfrm>
            <a:off x="2209680" y="57913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по  произведениям  А. Л. Барто )</a:t>
            </a:r>
            <a:endParaRPr b="1" i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27" descr="al_book_64803"/>
          <p:cNvPicPr/>
          <p:nvPr/>
        </p:nvPicPr>
        <p:blipFill>
          <a:blip r:embed="rId7"/>
          <a:stretch/>
        </p:blipFill>
        <p:spPr>
          <a:xfrm>
            <a:off x="7315200" y="4724280"/>
            <a:ext cx="121932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6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8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3800" y="5257440"/>
            <a:ext cx="9907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.Барт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Picture 8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142" name="WordArt 9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10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16002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детьми, награ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грады и преми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линская премия второй степени (1950),   Ленинская премия (1972),                                                                                              орден Ленина,  орден Октябрьской Революции, два ордена Трудового Красного Знамени, орден «Знак Почёта»,  медаль «За спасение утопающих»,                                                             орден Улы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ждународная Золотая медаль имени Льва Толстого «За заслуги в деле создания произведений для детей и юношества» (посмертн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мя Агнии Барто присвоено одной из малых планет (2279 Barto), расположенной между орбитами Марса и Юпитера, а также одному из кратеров на Вене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62120" y="532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чи уже знаменитым поэтом и общественным деятелем, Агния Львовна постоянно была окружена детьм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718f916dddde"/>
          <p:cNvPicPr/>
          <p:nvPr/>
        </p:nvPicPr>
        <p:blipFill>
          <a:blip r:embed="rId1"/>
          <a:stretch/>
        </p:blipFill>
        <p:spPr>
          <a:xfrm>
            <a:off x="685800" y="1523880"/>
            <a:ext cx="2895480" cy="245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8" name="Picture 8" descr="42_01_02"/>
          <p:cNvPicPr/>
          <p:nvPr/>
        </p:nvPicPr>
        <p:blipFill>
          <a:blip r:embed="rId2"/>
          <a:stretch/>
        </p:blipFill>
        <p:spPr>
          <a:xfrm>
            <a:off x="5943600" y="1447920"/>
            <a:ext cx="2444760" cy="2514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9" name="Rectangle 10"/>
          <p:cNvSpPr/>
          <p:nvPr/>
        </p:nvSpPr>
        <p:spPr>
          <a:xfrm>
            <a:off x="3657600" y="1600200"/>
            <a:ext cx="2362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встречалась со своими читателями          в школах,   детских садах, интернатах, библиотека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297144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тупление Бар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выступление Барто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52" name="выступление Барто.wmv" descr=""/>
          <p:cNvPicPr/>
          <p:nvPr/>
        </p:nvPicPr>
        <p:blipFill>
          <a:blip r:embed="rId2"/>
          <a:stretch/>
        </p:blipFill>
        <p:spPr>
          <a:xfrm>
            <a:off x="1523880" y="11271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53" name="выступление Барто.wmv" descr=""/>
          <p:cNvPicPr/>
          <p:nvPr/>
        </p:nvPicPr>
        <p:blipFill>
          <a:blip r:embed="rId3"/>
          <a:stretch/>
        </p:blipFill>
        <p:spPr>
          <a:xfrm>
            <a:off x="1519200" y="1123920"/>
            <a:ext cx="61768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5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7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60" name="Picture 8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161" name="WordArt 9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Picture 10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457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знай  наз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ы  не  заметили … ж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Дело  было  в … янв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Вовка  –  добрая … душ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Вот  так … защитник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  дороге  в … клас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48520" y="1905120"/>
            <a:ext cx="12952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334120" y="2590920"/>
            <a:ext cx="19810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962520" y="4114800"/>
            <a:ext cx="243828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5181480" y="4876920"/>
            <a:ext cx="1524240" cy="609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19920" y="3352680"/>
            <a:ext cx="1447560" cy="60984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БИТЕЛЬ-РЫБОЛ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5120" y="990720"/>
            <a:ext cx="5867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 утра сидит на озере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юбитель-рыболов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идит, мурлычет песенку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 песенка без сл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есня Любитель-рыболов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91520" y="7009920"/>
            <a:ext cx="8380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.   Озеро глубокое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Удачным будет лов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Сейчас поймает окуня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Любитель-рыболо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,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Тра-ля-ля…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57840" y="68576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3360" y="7621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.  Песенка чудесная –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И радость в ней, и грусть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И знает эту песенку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Вся рыба наизуст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76960" y="6858000"/>
            <a:ext cx="10666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9144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. Как песня начинаетс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Вся рыба расплывае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ра-ля-ля…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Тра-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0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2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85" name="WordArt 8"/>
          <p:cNvSpPr txBox="1"/>
          <p:nvPr/>
        </p:nvSpPr>
        <p:spPr>
          <a:xfrm>
            <a:off x="990720" y="16002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 стране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ого детства"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Picture 9" descr="in6_barto1"/>
          <p:cNvPicPr/>
          <p:nvPr/>
        </p:nvPicPr>
        <p:blipFill>
          <a:blip r:embed="rId6"/>
          <a:stretch/>
        </p:blipFill>
        <p:spPr>
          <a:xfrm>
            <a:off x="3733920" y="4114800"/>
            <a:ext cx="1477800" cy="1619280"/>
          </a:xfrm>
          <a:prstGeom prst="rect">
            <a:avLst/>
          </a:prstGeom>
          <a:ln w="19080">
            <a:solidFill>
              <a:srgbClr val="990099"/>
            </a:solidFill>
            <a:miter/>
          </a:ln>
        </p:spPr>
      </p:pic>
      <p:sp>
        <p:nvSpPr>
          <p:cNvPr id="187" name="WordArt 10"/>
          <p:cNvSpPr txBox="1"/>
          <p:nvPr/>
        </p:nvSpPr>
        <p:spPr>
          <a:xfrm>
            <a:off x="2209680" y="57913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по  произведениям  А. Л. Барто )</a:t>
            </a:r>
            <a:endParaRPr b="1" i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12" descr="al_book_64803"/>
          <p:cNvPicPr/>
          <p:nvPr/>
        </p:nvPicPr>
        <p:blipFill>
          <a:blip r:embed="rId7"/>
          <a:stretch/>
        </p:blipFill>
        <p:spPr>
          <a:xfrm>
            <a:off x="7238880" y="4724280"/>
            <a:ext cx="121932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4283b95c951b7a848419ddfe570b8088"/>
          <p:cNvPicPr/>
          <p:nvPr/>
        </p:nvPicPr>
        <p:blipFill>
          <a:blip r:embed="rId1"/>
          <a:stretch/>
        </p:blipFill>
        <p:spPr>
          <a:xfrm rot="20595000">
            <a:off x="6476760" y="380520"/>
            <a:ext cx="1184040" cy="1700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" name="Picture 10" descr="big"/>
          <p:cNvPicPr/>
          <p:nvPr/>
        </p:nvPicPr>
        <p:blipFill>
          <a:blip r:embed="rId2"/>
          <a:stretch/>
        </p:blipFill>
        <p:spPr>
          <a:xfrm rot="1033800">
            <a:off x="144792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mge827"/>
          <p:cNvPicPr/>
          <p:nvPr/>
        </p:nvPicPr>
        <p:blipFill>
          <a:blip r:embed="rId3"/>
          <a:stretch/>
        </p:blipFill>
        <p:spPr>
          <a:xfrm>
            <a:off x="685800" y="4724280"/>
            <a:ext cx="1204920" cy="1600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4" name="Picture 5" descr="2772950"/>
          <p:cNvPicPr/>
          <p:nvPr/>
        </p:nvPicPr>
        <p:blipFill>
          <a:blip r:embed="rId4"/>
          <a:stretch/>
        </p:blipFill>
        <p:spPr>
          <a:xfrm rot="20389800">
            <a:off x="533520" y="457200"/>
            <a:ext cx="149688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3960" y="1447560"/>
            <a:ext cx="9903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791alib"/>
          <p:cNvPicPr/>
          <p:nvPr/>
        </p:nvPicPr>
        <p:blipFill>
          <a:blip r:embed="rId5"/>
          <a:stretch/>
        </p:blipFill>
        <p:spPr>
          <a:xfrm rot="1671000">
            <a:off x="7010280" y="533520"/>
            <a:ext cx="1532160" cy="1981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7" name="Picture 9" descr="in6_barto1"/>
          <p:cNvPicPr/>
          <p:nvPr/>
        </p:nvPicPr>
        <p:blipFill>
          <a:blip r:embed="rId6"/>
          <a:stretch/>
        </p:blipFill>
        <p:spPr>
          <a:xfrm>
            <a:off x="2819520" y="1600200"/>
            <a:ext cx="3477960" cy="38098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58" name="WordArt 10"/>
          <p:cNvSpPr txBox="1"/>
          <p:nvPr/>
        </p:nvSpPr>
        <p:spPr>
          <a:xfrm>
            <a:off x="22096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гния  Львовна  Барто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06 - 1981 )</a:t>
            </a:r>
            <a:endParaRPr b="1" i="1" lang="en-US" sz="3200" spc="1" strike="noStrike">
              <a:ln w="9360">
                <a:solidFill>
                  <a:srgbClr val="5f5f5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11" descr="200px-Barto_toys"/>
          <p:cNvPicPr/>
          <p:nvPr/>
        </p:nvPicPr>
        <p:blipFill>
          <a:blip r:embed="rId7"/>
          <a:stretch/>
        </p:blipFill>
        <p:spPr>
          <a:xfrm>
            <a:off x="7315200" y="4724280"/>
            <a:ext cx="1233360" cy="1600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0640" y="6598800"/>
            <a:ext cx="11430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люстративные 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arados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Жадный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act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дный ег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sgreen.ru/index.php?cPath=1_20_23&amp;page=3&amp; в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ontent.mail.ru/arch/18765/2891217.html просто сти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hkola.tsu.ru/blog/index.php?page=history&amp;PAGEN_1=39  портрет с ру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earbooks.ru/book.asp?id=1047430 стих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toya.ru/lady/2009/08/25/4715/ барто с уча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siti.net.ru/books/7531425 обложка найт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avok.name/forum/topic_54/13 старая обло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ommunity.livejournal.com/ua_books/324873.html  иг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zon.ru/context/catalog/id/1113079/?sort=bests&amp;page=1 звени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31010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n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j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то в гор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urn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rickaj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вочка-рев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udiobuki.ru/barto.html молод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etoya.ru/lady/2009/08/25/471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u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но-музыкальная композиция "В стране счастливого детства", посвященная творчеству А.Барто   Захарова Анна Модестовна, учитель начальных классов -festival.1september.ru › articles/51827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карина О.В. Методическая разработка урока литературного чтения в 4 классе по теме «Мир детства в лирике Агнии Львовны Барто» - www.openclass.ru/io/26/mashka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Агния Барто и дети» Литературный праздник. - muslumovskilisey.narod.ru › documenty/01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«А Барто. Юмор и сатира.» - http://aleksandrova-el.ucoz.ru/load/metodicheskaja_kopil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ults.spb.ru   муль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mp3.ru пес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.c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h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t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1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сти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48720" y="6598800"/>
            <a:ext cx="129528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итульны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37160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Презентацию выполнил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учитель начальных класс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МБОУ «Гимназия № 126»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г. Казан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</a:rPr>
              <a:t>Масленникова Е.Ю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россвор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67080" y="1600200"/>
          <a:ext cx="3657600" cy="609480"/>
        </p:xfrm>
        <a:graphic>
          <a:graphicData uri="http://schemas.openxmlformats.org/drawingml/2006/table">
            <a:tbl>
              <a:tblPr/>
              <a:tblGrid>
                <a:gridCol w="596880"/>
                <a:gridCol w="622440"/>
                <a:gridCol w="609480"/>
                <a:gridCol w="609840"/>
                <a:gridCol w="60948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657600" y="2209680"/>
          <a:ext cx="4876920" cy="609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20640"/>
                <a:gridCol w="598680"/>
                <a:gridCol w="609480"/>
                <a:gridCol w="609480"/>
                <a:gridCol w="6098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76920" y="2819520"/>
          <a:ext cx="3657600" cy="579240"/>
        </p:xfrm>
        <a:graphic>
          <a:graphicData uri="http://schemas.openxmlformats.org/drawingml/2006/table">
            <a:tbl>
              <a:tblPr/>
              <a:tblGrid>
                <a:gridCol w="596880"/>
                <a:gridCol w="622080"/>
                <a:gridCol w="609840"/>
                <a:gridCol w="609480"/>
                <a:gridCol w="609480"/>
                <a:gridCol w="609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657600" y="4038480"/>
          <a:ext cx="4876920" cy="609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38280" y="5257800"/>
          <a:ext cx="4876920" cy="6094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86400" y="3429000"/>
          <a:ext cx="609480" cy="5796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876920" y="4648320"/>
          <a:ext cx="2438280" cy="579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7" descr="4283b95c951b7a848419ddfe570b8088"/>
          <p:cNvPicPr/>
          <p:nvPr/>
        </p:nvPicPr>
        <p:blipFill>
          <a:blip r:embed="rId1"/>
          <a:stretch/>
        </p:blipFill>
        <p:spPr>
          <a:xfrm rot="21006600">
            <a:off x="609480" y="1218960"/>
            <a:ext cx="2708280" cy="3886200"/>
          </a:xfrm>
          <a:prstGeom prst="rect">
            <a:avLst/>
          </a:prstGeom>
          <a:ln w="12600">
            <a:solidFill>
              <a:srgbClr val="3366cc"/>
            </a:solidFill>
            <a:miter/>
          </a:ln>
        </p:spPr>
      </p:pic>
      <p:sp>
        <p:nvSpPr>
          <p:cNvPr id="69" name="Text Box 348"/>
          <p:cNvSpPr/>
          <p:nvPr/>
        </p:nvSpPr>
        <p:spPr>
          <a:xfrm>
            <a:off x="4953600" y="16002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9"/>
          <p:cNvSpPr/>
          <p:nvPr/>
        </p:nvSpPr>
        <p:spPr>
          <a:xfrm>
            <a:off x="5564160" y="1600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0"/>
          <p:cNvSpPr/>
          <p:nvPr/>
        </p:nvSpPr>
        <p:spPr>
          <a:xfrm>
            <a:off x="6172920" y="16002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1"/>
          <p:cNvSpPr/>
          <p:nvPr/>
        </p:nvSpPr>
        <p:spPr>
          <a:xfrm>
            <a:off x="678276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2"/>
          <p:cNvSpPr/>
          <p:nvPr/>
        </p:nvSpPr>
        <p:spPr>
          <a:xfrm>
            <a:off x="4344840" y="22096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3"/>
          <p:cNvSpPr/>
          <p:nvPr/>
        </p:nvSpPr>
        <p:spPr>
          <a:xfrm>
            <a:off x="7392960" y="16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6"/>
          <p:cNvSpPr/>
          <p:nvPr/>
        </p:nvSpPr>
        <p:spPr>
          <a:xfrm>
            <a:off x="4953960" y="2209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7"/>
          <p:cNvSpPr/>
          <p:nvPr/>
        </p:nvSpPr>
        <p:spPr>
          <a:xfrm>
            <a:off x="5564520" y="22096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8"/>
          <p:cNvSpPr/>
          <p:nvPr/>
        </p:nvSpPr>
        <p:spPr>
          <a:xfrm>
            <a:off x="6173640" y="220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9"/>
          <p:cNvSpPr/>
          <p:nvPr/>
        </p:nvSpPr>
        <p:spPr>
          <a:xfrm>
            <a:off x="6706440" y="22096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0"/>
          <p:cNvSpPr/>
          <p:nvPr/>
        </p:nvSpPr>
        <p:spPr>
          <a:xfrm>
            <a:off x="7392600" y="220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1"/>
          <p:cNvSpPr/>
          <p:nvPr/>
        </p:nvSpPr>
        <p:spPr>
          <a:xfrm>
            <a:off x="7926120" y="22096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2"/>
          <p:cNvSpPr/>
          <p:nvPr/>
        </p:nvSpPr>
        <p:spPr>
          <a:xfrm>
            <a:off x="5563800" y="28195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3"/>
          <p:cNvSpPr/>
          <p:nvPr/>
        </p:nvSpPr>
        <p:spPr>
          <a:xfrm>
            <a:off x="61736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4"/>
          <p:cNvSpPr/>
          <p:nvPr/>
        </p:nvSpPr>
        <p:spPr>
          <a:xfrm>
            <a:off x="6783480" y="28195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5"/>
          <p:cNvSpPr/>
          <p:nvPr/>
        </p:nvSpPr>
        <p:spPr>
          <a:xfrm>
            <a:off x="7392600" y="281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66"/>
          <p:cNvSpPr/>
          <p:nvPr/>
        </p:nvSpPr>
        <p:spPr>
          <a:xfrm>
            <a:off x="80024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7"/>
          <p:cNvSpPr/>
          <p:nvPr/>
        </p:nvSpPr>
        <p:spPr>
          <a:xfrm>
            <a:off x="55641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8"/>
          <p:cNvSpPr/>
          <p:nvPr/>
        </p:nvSpPr>
        <p:spPr>
          <a:xfrm>
            <a:off x="4344840" y="40384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69"/>
          <p:cNvSpPr/>
          <p:nvPr/>
        </p:nvSpPr>
        <p:spPr>
          <a:xfrm>
            <a:off x="4954320" y="4038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70"/>
          <p:cNvSpPr/>
          <p:nvPr/>
        </p:nvSpPr>
        <p:spPr>
          <a:xfrm>
            <a:off x="5487120" y="40384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71"/>
          <p:cNvSpPr/>
          <p:nvPr/>
        </p:nvSpPr>
        <p:spPr>
          <a:xfrm>
            <a:off x="61736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2"/>
          <p:cNvSpPr/>
          <p:nvPr/>
        </p:nvSpPr>
        <p:spPr>
          <a:xfrm>
            <a:off x="6784200" y="40384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3"/>
          <p:cNvSpPr/>
          <p:nvPr/>
        </p:nvSpPr>
        <p:spPr>
          <a:xfrm>
            <a:off x="739260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74"/>
          <p:cNvSpPr/>
          <p:nvPr/>
        </p:nvSpPr>
        <p:spPr>
          <a:xfrm>
            <a:off x="8002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5"/>
          <p:cNvSpPr/>
          <p:nvPr/>
        </p:nvSpPr>
        <p:spPr>
          <a:xfrm>
            <a:off x="55638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6"/>
          <p:cNvSpPr/>
          <p:nvPr/>
        </p:nvSpPr>
        <p:spPr>
          <a:xfrm>
            <a:off x="6173280" y="4648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77"/>
          <p:cNvSpPr/>
          <p:nvPr/>
        </p:nvSpPr>
        <p:spPr>
          <a:xfrm>
            <a:off x="6782760" y="464832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8"/>
          <p:cNvSpPr/>
          <p:nvPr/>
        </p:nvSpPr>
        <p:spPr>
          <a:xfrm>
            <a:off x="312552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9"/>
          <p:cNvSpPr/>
          <p:nvPr/>
        </p:nvSpPr>
        <p:spPr>
          <a:xfrm>
            <a:off x="3735360" y="5257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0"/>
          <p:cNvSpPr/>
          <p:nvPr/>
        </p:nvSpPr>
        <p:spPr>
          <a:xfrm>
            <a:off x="4344480" y="5257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81"/>
          <p:cNvSpPr/>
          <p:nvPr/>
        </p:nvSpPr>
        <p:spPr>
          <a:xfrm>
            <a:off x="4954680" y="52578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2"/>
          <p:cNvSpPr/>
          <p:nvPr/>
        </p:nvSpPr>
        <p:spPr>
          <a:xfrm>
            <a:off x="5564160" y="5257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3"/>
          <p:cNvSpPr/>
          <p:nvPr/>
        </p:nvSpPr>
        <p:spPr>
          <a:xfrm>
            <a:off x="61736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4"/>
          <p:cNvSpPr/>
          <p:nvPr/>
        </p:nvSpPr>
        <p:spPr>
          <a:xfrm>
            <a:off x="678312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8"/>
          <p:cNvSpPr/>
          <p:nvPr/>
        </p:nvSpPr>
        <p:spPr>
          <a:xfrm>
            <a:off x="5486400" y="16002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9"/>
          <p:cNvSpPr/>
          <p:nvPr/>
        </p:nvSpPr>
        <p:spPr>
          <a:xfrm>
            <a:off x="6095880" y="160020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90"/>
          <p:cNvSpPr/>
          <p:nvPr/>
        </p:nvSpPr>
        <p:spPr>
          <a:xfrm>
            <a:off x="5486400" y="58672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1"/>
          <p:cNvSpPr/>
          <p:nvPr/>
        </p:nvSpPr>
        <p:spPr>
          <a:xfrm>
            <a:off x="5486400" y="16002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93" descr="Barto_toys"/>
          <p:cNvPicPr/>
          <p:nvPr/>
        </p:nvPicPr>
        <p:blipFill>
          <a:blip r:embed="rId2"/>
          <a:stretch/>
        </p:blipFill>
        <p:spPr>
          <a:xfrm>
            <a:off x="533520" y="1371600"/>
            <a:ext cx="2957400" cy="373392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10280" y="2895480"/>
            <a:ext cx="1067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ась А.Л.Барто 5 февраля 1906 года в Москве в семье ветеринарного врача. Получила хорошее домашнее воспитание, которым руководил отец. Училась в гимназии, где и начала писать стихи. Первым и очень строгим ценителем этих стихов был от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 Агния занималась в хореографическом училище, мечтала стать балериной. Но любовь к поэзии, к детям побед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49528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ния Бар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одос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barto"/>
          <p:cNvPicPr/>
          <p:nvPr/>
        </p:nvPicPr>
        <p:blipFill>
          <a:blip r:embed="rId1"/>
          <a:stretch/>
        </p:blipFill>
        <p:spPr>
          <a:xfrm>
            <a:off x="5867280" y="1600200"/>
            <a:ext cx="2270160" cy="32860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bart"/>
          <p:cNvPicPr/>
          <p:nvPr/>
        </p:nvPicPr>
        <p:blipFill>
          <a:blip r:embed="rId1"/>
          <a:stretch/>
        </p:blipFill>
        <p:spPr>
          <a:xfrm>
            <a:off x="4876920" y="457200"/>
            <a:ext cx="1904760" cy="1809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9400" y="2057400"/>
            <a:ext cx="12952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вые стих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е книжки стихов для детей – «Китайчонок Ван Ли», «Мишка-воришка» были опубликованы в 1925 году, когда Агнии было всего 19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 настоящей поэтессой   ей помогли К.И.Чуковский и    С.Я.Маршак. С большой благодарностью Агния Львовна всегда вспоминала своих поэтическ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in2_Pavel-i-Agnia"/>
          <p:cNvPicPr/>
          <p:nvPr/>
        </p:nvPicPr>
        <p:blipFill>
          <a:blip r:embed="rId2"/>
          <a:stretch/>
        </p:blipFill>
        <p:spPr>
          <a:xfrm>
            <a:off x="5486400" y="1963800"/>
            <a:ext cx="2914560" cy="220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7" name="Rectangle 7"/>
          <p:cNvSpPr/>
          <p:nvPr/>
        </p:nvSpPr>
        <p:spPr>
          <a:xfrm>
            <a:off x="380880" y="5257800"/>
            <a:ext cx="8458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ойны вышли сборники её стихов: "Братишки" (1928)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Мальчик наоборот"(1934), "Игрушки" (1936), "Снегирь" (1939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717520" y="419112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ния Барто с мужем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лом Бар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7280" y="5334120"/>
            <a:ext cx="914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й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А.Барто часто выступала по радио в Москве и Свердловске, писала военные стихи, статьи, очерки. В 1942 была корреспондентом газеты "Комсомольская правда" на Западном фро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на окончилась, но осталось                                                   много детей-сирот. Агния Львовна                                                                 ездила в детские дома, читала стихи.                                                 Общалась с детьми и воспитателями,                                                             над некоторыми детскими домами                                                 шефствов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47 году она опубликовала                                                                   поэму "Звенигород" –                                                          рассказ о детях, потерявших                                                                родных во время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1000373139"/>
          <p:cNvPicPr/>
          <p:nvPr/>
        </p:nvPicPr>
        <p:blipFill>
          <a:blip r:embed="rId1"/>
          <a:stretch/>
        </p:blipFill>
        <p:spPr>
          <a:xfrm>
            <a:off x="5334120" y="3505320"/>
            <a:ext cx="1834920" cy="2476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2" name="Picture 4" descr="in1_42_01_00"/>
          <p:cNvPicPr/>
          <p:nvPr/>
        </p:nvPicPr>
        <p:blipFill>
          <a:blip r:embed="rId2"/>
          <a:stretch/>
        </p:blipFill>
        <p:spPr>
          <a:xfrm>
            <a:off x="6324480" y="1981080"/>
            <a:ext cx="1501920" cy="1676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720" y="4952520"/>
            <a:ext cx="129564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йти челове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военные годы Агния Львовна стала организатором  движения в СССР по поиску разлученных во время войны семей. Она предложила разыскивать потерявшихся родителей по детским воспоминаниям. Через программу "Найти человека" на радио "Маяк" удалось соединить 927 разлученных семей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книга прозы писательницы так и                                                              называется "Найти человек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agniya-barto_2"/>
          <p:cNvPicPr/>
          <p:nvPr/>
        </p:nvPicPr>
        <p:blipFill>
          <a:blip r:embed="rId1"/>
          <a:stretch/>
        </p:blipFill>
        <p:spPr>
          <a:xfrm>
            <a:off x="5105520" y="3352680"/>
            <a:ext cx="1519200" cy="2235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6" name="Picture 8" descr="p1118550"/>
          <p:cNvPicPr/>
          <p:nvPr/>
        </p:nvPicPr>
        <p:blipFill>
          <a:blip r:embed="rId2"/>
          <a:stretch/>
        </p:blipFill>
        <p:spPr>
          <a:xfrm rot="19966800">
            <a:off x="3504960" y="3809520"/>
            <a:ext cx="1557360" cy="223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9"/>
          <p:cNvPicPr/>
          <p:nvPr/>
        </p:nvPicPr>
        <p:blipFill>
          <a:blip r:embed="rId3"/>
          <a:stretch/>
        </p:blipFill>
        <p:spPr>
          <a:xfrm rot="981000">
            <a:off x="6629040" y="3809520"/>
            <a:ext cx="1590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05360" y="3429000"/>
            <a:ext cx="9903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762120"/>
            <a:ext cx="6095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Художественные филь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ставленные по сценариям             Агнии Бар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Подкидыш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39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4607002721085"/>
          <p:cNvPicPr/>
          <p:nvPr/>
        </p:nvPicPr>
        <p:blipFill>
          <a:blip r:embed="rId1"/>
          <a:stretch/>
        </p:blipFill>
        <p:spPr>
          <a:xfrm>
            <a:off x="5867280" y="2666880"/>
            <a:ext cx="2489400" cy="3535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1" name="Picture 9" descr="4119"/>
          <p:cNvPicPr/>
          <p:nvPr/>
        </p:nvPicPr>
        <p:blipFill>
          <a:blip r:embed="rId2"/>
          <a:stretch/>
        </p:blipFill>
        <p:spPr>
          <a:xfrm>
            <a:off x="838080" y="457200"/>
            <a:ext cx="2303640" cy="388620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132" name="Rectangle 8"/>
          <p:cNvSpPr/>
          <p:nvPr/>
        </p:nvSpPr>
        <p:spPr>
          <a:xfrm>
            <a:off x="0" y="4575240"/>
            <a:ext cx="601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Слон и верёвочка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46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«Алёша Птицын вырабатывает                            характер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53 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                                          «Десять тысяч мальчиков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63г.),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                                        «Чёрный котёнок»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(1965г.)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742840"/>
            <a:ext cx="5257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льт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негирь.avi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32:54Z</dcterms:created>
  <dc:creator>bell</dc:creator>
  <dc:description/>
  <dc:language>en-US</dc:language>
  <cp:lastModifiedBy>Admin</cp:lastModifiedBy>
  <dcterms:modified xsi:type="dcterms:W3CDTF">2017-09-20T16:50:4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