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90866-112B-4514-8B5F-346C0697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C0025-5E15-4F4E-8CE6-560D7244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4F0E1-35F6-49D4-A6DC-EE34CD4C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633E5-B488-47C8-BF38-F68F855C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96C6-2BCD-400E-BC21-4F44424A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858B-DFB4-4BFC-B3D9-22ACFBBC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166E-C137-4376-A063-AF5FFF45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4E5C-A524-49DC-BB54-B9142798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7AD1-B40F-41C9-8906-092B0942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9C1C-4194-4C35-A4F0-22230F3B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373B-81C5-43CB-8AE5-A1BE2B34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C0FF-853D-4848-B328-7ED82D62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0DC9-7EE9-4AE5-870C-253A4E72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4329-70A9-479F-86DE-382E4DFC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93FE-84B3-46C4-BCA9-431B5A20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B764-24D3-468D-B4DC-ADD341FC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6687-517F-4F12-84EE-60C63419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8EFE7-D76D-4780-9113-7DD52F2A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50A33-4C3E-46B3-803B-12359103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47AFA-5B70-462C-84C6-409DC056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66E11-DB85-4337-BE5C-7BCEF527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035C-EB65-4E85-8D51-54EA8374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6BED6-F73D-46B1-A3E5-6B962D10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BF10D-4B8F-41E3-9308-990E712D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09B5-8677-4987-A880-95AAC6FA76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78A5-4C1B-4E82-A96F-4A6994E902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«История терроризма в России»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ерроризм второй половины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XIX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век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терроризму в его классическом варианте обратилась интеллигенция. Терроризм российской интеллигенции второй половины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ека имел ярко выраженную политическую окраску и четкие политические цели. Неослабляющийся террор снизу и усиление репрессивных мер против него сверху способствовали дальнейшей радикализации общественной и политической жизни российского обще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4" descr="attach"/>
          <p:cNvPicPr/>
          <p:nvPr/>
        </p:nvPicPr>
        <p:blipFill>
          <a:blip r:embed="rId1"/>
          <a:stretch/>
        </p:blipFill>
        <p:spPr>
          <a:xfrm>
            <a:off x="5148360" y="3676680"/>
            <a:ext cx="3241440" cy="3181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116-117"/>
          <p:cNvPicPr/>
          <p:nvPr/>
        </p:nvPicPr>
        <p:blipFill>
          <a:blip r:embed="rId2"/>
          <a:stretch/>
        </p:blipFill>
        <p:spPr>
          <a:xfrm>
            <a:off x="468360" y="3933720"/>
            <a:ext cx="39099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еволюционный террориз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иление, вспышка террора в России – государственного и антигосударственного произошла, начиная с расправы правительства 9 января 1905 г. с мирной демонстрацией у Зимнего дворца в Петербург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революцию 1917 г. и после нее во время «красного» террора уничтожали не только людей, боровшихся против «красных», но и сочувствующих им или принадлежащих к «подозрительным» слоям населения. Во время гражданской войны поддерживающие революцию подвергались ответному «белому» террор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4" descr="146018"/>
          <p:cNvPicPr/>
          <p:nvPr/>
        </p:nvPicPr>
        <p:blipFill>
          <a:blip r:embed="rId1"/>
          <a:stretch/>
        </p:blipFill>
        <p:spPr>
          <a:xfrm>
            <a:off x="684360" y="4437000"/>
            <a:ext cx="3492360" cy="2421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300px-Rastrel"/>
          <p:cNvPicPr/>
          <p:nvPr/>
        </p:nvPicPr>
        <p:blipFill>
          <a:blip r:embed="rId2"/>
          <a:stretch/>
        </p:blipFill>
        <p:spPr>
          <a:xfrm>
            <a:off x="4859280" y="4437000"/>
            <a:ext cx="3816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рроризм в СССР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ССР действовала уникальная система государственного терроризма. В 1937 – 1938 гг. было вынесено 681692 смертных приговора – около 1000 приговоров в день, в период 1950 – 1957 гг. примерно по 1000 приговоров в год. В 1934 – 1956 гг. действовала система ГУЛАГ, в которую входили миллионы заключенных на Крайнем Севере, Дальнем Востоке и в других отдаленных региона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4" descr="gulag1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ерроризм в современной Росси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распада СССР на постсоветском пространстве по периметру российских границ возникли очаги напряженности, ставшие «горячими точками» - Таджикистан, Приднестровье, Северный Кавказ. Средоточением  действий сил внутреннего и международного терроризма против России стала самопровозглашенная Чеченская республик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енно в последнее десятилетие в России борьба с терроризмом приобрела остроту и актуальность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300px-Gurianova2ntv"/>
          <p:cNvPicPr/>
          <p:nvPr/>
        </p:nvPicPr>
        <p:blipFill>
          <a:blip r:embed="rId1"/>
          <a:stretch/>
        </p:blipFill>
        <p:spPr>
          <a:xfrm>
            <a:off x="395280" y="4076640"/>
            <a:ext cx="3745080" cy="2781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n73n-s01"/>
          <p:cNvPicPr/>
          <p:nvPr/>
        </p:nvPicPr>
        <p:blipFill>
          <a:blip r:embed="rId2"/>
          <a:stretch/>
        </p:blipFill>
        <p:spPr>
          <a:xfrm>
            <a:off x="5003640" y="4127400"/>
            <a:ext cx="39610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озданию условий и росту терроризма в России способствуют следующие факторы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олитический беспредел, деятельность партий, движений, фронтов и организаций, прибегающих к методам насилия; преступная деятельность криминальных сообществ, получившая широкий размах; обострение криминогенной обстановки; появление и развитие институтов наемничества и профессиональных убийц; проникновение в Россию и деятельность на ее территории зарубежных экстремистских террористических организаций и религиозных сект; открытость российских границ и приток на территорию беженцев из стран СНГ и соседних государств; негативное влияние средств массовой информации, культивирующих насилие, создающих рекламу террориста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4" descr="48c0b556c47100"/>
          <p:cNvPicPr/>
          <p:nvPr/>
        </p:nvPicPr>
        <p:blipFill>
          <a:blip r:embed="rId1"/>
          <a:stretch/>
        </p:blipFill>
        <p:spPr>
          <a:xfrm>
            <a:off x="539640" y="4487760"/>
            <a:ext cx="3240360" cy="2370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беженцы"/>
          <p:cNvPicPr/>
          <p:nvPr/>
        </p:nvPicPr>
        <p:blipFill>
          <a:blip r:embed="rId2"/>
          <a:stretch/>
        </p:blipFill>
        <p:spPr>
          <a:xfrm>
            <a:off x="4284720" y="4149720"/>
            <a:ext cx="4535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496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мысление особенностей проявления терроризма в современной России приводит к выводу о том, что сегодня терроризм может выступать в качестве специфической разновидности националистического сепаратизма, воинствующего экстремизма и политического радикализм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8" descr="16"/>
          <p:cNvPicPr/>
          <p:nvPr/>
        </p:nvPicPr>
        <p:blipFill>
          <a:blip r:embed="rId1"/>
          <a:stretch/>
        </p:blipFill>
        <p:spPr>
          <a:xfrm>
            <a:off x="2195640" y="3429000"/>
            <a:ext cx="5113080" cy="3255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террористы гады"/>
          <p:cNvPicPr/>
          <p:nvPr/>
        </p:nvPicPr>
        <p:blipFill>
          <a:blip r:embed="rId2"/>
          <a:stretch/>
        </p:blipFill>
        <p:spPr>
          <a:xfrm>
            <a:off x="0" y="100080"/>
            <a:ext cx="91440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оциологический опрос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4" descr="Безымянный6"/>
          <p:cNvPicPr/>
          <p:nvPr/>
        </p:nvPicPr>
        <p:blipFill>
          <a:blip r:embed="rId1"/>
          <a:stretch/>
        </p:blipFill>
        <p:spPr>
          <a:xfrm>
            <a:off x="1042920" y="1125360"/>
            <a:ext cx="70581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Социологический опрос: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«Повышают ли мигранты опасность проявлений терроризма? »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4" name="Picture 4" descr="t_graf05"/>
          <p:cNvPicPr/>
          <p:nvPr/>
        </p:nvPicPr>
        <p:blipFill>
          <a:blip r:embed="rId1"/>
          <a:stretch/>
        </p:blipFill>
        <p:spPr>
          <a:xfrm>
            <a:off x="1116000" y="2038320"/>
            <a:ext cx="6840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рроризм, как антиобщественное явление, общесоциален и глобален. Миру и международной безопасности угрожает международный терроризм, а каждому государству угрожает и свой – внутренний терроризм. нарастание глобализации мирового устройства закономерно ведет и к глобализации терроризм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4" descr="10"/>
          <p:cNvPicPr/>
          <p:nvPr/>
        </p:nvPicPr>
        <p:blipFill>
          <a:blip r:embed="rId1"/>
          <a:stretch/>
        </p:blipFill>
        <p:spPr>
          <a:xfrm>
            <a:off x="2050920" y="2492280"/>
            <a:ext cx="48261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4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4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075520" cy="32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нная проблема очень многогранна, включает в себя много аспектов гуманитарного знания. Объемы реферата не позволяют осветить все вопросы, возникающие при характеристике терроризма как социального явлен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4" descr="4250"/>
          <p:cNvPicPr/>
          <p:nvPr/>
        </p:nvPicPr>
        <p:blipFill>
          <a:blip r:embed="rId1"/>
          <a:stretch/>
        </p:blipFill>
        <p:spPr>
          <a:xfrm>
            <a:off x="1979640" y="3716280"/>
            <a:ext cx="4968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тупление мира в эпоху техногенной цивилизации, информационного общества не только не разрешило многих социальных проблем, но и породило новые, одной из которых сегодня является борьба с международным и внутренним терроризм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07_53"/>
          <p:cNvPicPr/>
          <p:nvPr/>
        </p:nvPicPr>
        <p:blipFill>
          <a:blip r:embed="rId1"/>
          <a:stretch/>
        </p:blipFill>
        <p:spPr>
          <a:xfrm>
            <a:off x="1332000" y="2205000"/>
            <a:ext cx="6696000" cy="40323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4920" y="0"/>
            <a:ext cx="828036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рминологически «террор» в переводе с латинского языка означает ужас, страх, устрашение, но единого и общепринятого в мировой теории и практике определения терроризма нет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1936 по 1981 гг. в мире было предложено более 100 определений терроризм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Безымянный2"/>
          <p:cNvPicPr/>
          <p:nvPr/>
        </p:nvPicPr>
        <p:blipFill>
          <a:blip r:embed="rId1"/>
          <a:stretch/>
        </p:blipFill>
        <p:spPr>
          <a:xfrm>
            <a:off x="1763640" y="3573360"/>
            <a:ext cx="55450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Безымянный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ри финансовых источника и три составные части современного терроризм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4" descr="Финансы"/>
          <p:cNvPicPr/>
          <p:nvPr/>
        </p:nvPicPr>
        <p:blipFill>
          <a:blip r:embed="rId1"/>
          <a:stretch/>
        </p:blipFill>
        <p:spPr>
          <a:xfrm>
            <a:off x="468360" y="1989000"/>
            <a:ext cx="8207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Безымянный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Этапы развития терроризма в России 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(по мнению автора)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рроризм в России имеет глубокие исторические корни. Природа российского терроризма обладает спецификой цивилизационного развития страны, особенностями экономического уклада и политического строя России, характером социальных отношений и духовной жизни российского общества, а также геополитическими и даже в известной мере – природно-географическими факторами. Отмеченное вовсе не означает, что Россия является родиной терроризма. Речь идет о том, что российский терроризм имеет свои социальные корни, свою историю, философию и формы проявл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6" descr="1189012464"/>
          <p:cNvPicPr/>
          <p:nvPr/>
        </p:nvPicPr>
        <p:blipFill>
          <a:blip r:embed="rId1"/>
          <a:stretch/>
        </p:blipFill>
        <p:spPr>
          <a:xfrm>
            <a:off x="2050920" y="4869000"/>
            <a:ext cx="54738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причнина Ивана Грозного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764640"/>
            <a:ext cx="7859880" cy="23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вестно какую жестокость по отношению к собственному народу проявлял царь Иван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V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прозванный Грозным. Особенно невыносимые формы это приобрело в последние годы его царствования, после введения опричнины в 1565 год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4" descr="6943d-moski02001"/>
          <p:cNvPicPr/>
          <p:nvPr/>
        </p:nvPicPr>
        <p:blipFill>
          <a:blip r:embed="rId1"/>
          <a:stretch/>
        </p:blipFill>
        <p:spPr>
          <a:xfrm>
            <a:off x="250920" y="2924280"/>
            <a:ext cx="3816360" cy="360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1211347451_114172"/>
          <p:cNvPicPr/>
          <p:nvPr/>
        </p:nvPicPr>
        <p:blipFill>
          <a:blip r:embed="rId2"/>
          <a:stretch/>
        </p:blipFill>
        <p:spPr>
          <a:xfrm>
            <a:off x="4284720" y="2637000"/>
            <a:ext cx="4319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аскольничество русского православия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один из ярких примеров государственного терроризма в Росс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4" descr="05"/>
          <p:cNvPicPr/>
          <p:nvPr/>
        </p:nvPicPr>
        <p:blipFill>
          <a:blip r:embed="rId1"/>
          <a:stretch/>
        </p:blipFill>
        <p:spPr>
          <a:xfrm>
            <a:off x="395280" y="2349360"/>
            <a:ext cx="4248000" cy="431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06"/>
          <p:cNvPicPr/>
          <p:nvPr/>
        </p:nvPicPr>
        <p:blipFill>
          <a:blip r:embed="rId2"/>
          <a:stretch/>
        </p:blipFill>
        <p:spPr>
          <a:xfrm>
            <a:off x="4932360" y="2276640"/>
            <a:ext cx="3887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4:27:14Z</dcterms:created>
  <dc:creator>XP GAME 2007</dc:creator>
  <dc:description/>
  <dc:language>en-US</dc:language>
  <cp:lastModifiedBy>Admin</cp:lastModifiedBy>
  <dcterms:modified xsi:type="dcterms:W3CDTF">2017-02-06T07:03:49Z</dcterms:modified>
  <cp:revision>10</cp:revision>
  <dc:subject/>
  <dc:title>«История терроризма в России»</dc:title>
</cp:coreProperties>
</file>