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1.jpeg" ContentType="image/jpeg"/>
  <Override PartName="/ppt/media/image19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4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5.png" ContentType="image/png"/>
  <Override PartName="/ppt/media/image38.jpeg" ContentType="image/jpeg"/>
  <Override PartName="/ppt/media/image28.png" ContentType="image/png"/>
  <Override PartName="/ppt/media/image29.jpeg" ContentType="image/jpeg"/>
  <Override PartName="/ppt/media/image31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33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F97A-A262-4E39-99A3-09CD9BD82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91D7-44CB-4EE5-B654-3F5E64713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30AB-3670-4869-B4F3-E13936BEE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D497-D54C-43AE-A736-E1B95A9B6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FE5B0-CD3D-4F4A-9ABB-A760992C3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82D07-CE77-4F6B-AC8F-F0379B459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07FD9-28E6-4D63-8278-570590A70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817E7-9834-4E3C-AF41-BFE960C64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095E7-7EC2-4836-AA8F-C5C20FA8F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F9577-93B7-43D8-A832-9F568734F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5D12F-7EE9-4C50-B914-65A291230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ED49-606D-4EF3-8F8A-F1394F078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19095-B215-4236-9B7B-E01905E38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F205A-4085-4E85-A49A-9DCD3E0CA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95667-18F5-47EC-B0B4-9CC529D31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7924A-178A-4302-9E67-C83B37648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971ED-8746-4D6A-945E-B9C32D4D4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F36FA-058F-4CA7-BC61-92622CEC3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AA3C0-AE92-4ABA-AD59-03B9AAE6B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58F74-F59B-474D-AD0C-D22104AD2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76432-0317-45A9-9A18-00DE10E22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AE992-83FB-4D3D-8733-B81D926A2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BC7D-CC6F-4024-BC65-7674B76F0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6F917-B18F-4884-8893-A4A9938CB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AAF7E-AC3F-45C3-B88B-53B8EC11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6CB20-74AF-408E-AA19-B608AAEE6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1BD5E-6C59-4CE5-92D6-4A03CDA7C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641AE-8362-4A42-B225-DDE7551A6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101AA-EA69-4FE9-8698-5E0661F30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7BBAF-CD38-4ABF-A201-8F3DA05DC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B9CD6-C191-4025-86B5-CCD7B56AF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7DF82-A19E-4AB2-9A01-9AB791C2B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E4C6F-DED8-4958-BF1F-BE6752E63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2119-DCEF-4C52-9C6D-1B4BD2BB1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0EAD1-8554-4846-829E-36213B716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14FF8-3DAE-4188-A930-AAC918AF2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B3E0F-8265-4172-A86B-FDB00B096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17BC2-5FAA-4225-993B-E45E32C5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F8615-E7EC-4BD0-844C-3199E71A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9193B-6043-4DB6-AA83-4A38381E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33BA5-BEE6-487D-8D09-0BF3668F7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8E432-F766-4ADA-B60C-3936C6DE7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8742C-7692-4093-926B-B737601BE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AC1F-57C8-4A63-8F62-4382F386C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16F0-F477-4627-8F48-770B35FD5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94FD-08E7-4E7D-8C5D-1B2832FEA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3EDE-EE02-4491-BCEC-482DB07E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F5D2-F7D5-4B72-810D-D1DC281C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6a565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6a565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6a565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6a565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6a565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14E3B-5878-4DF0-90BF-0C21D4212E0D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6a565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6a565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6a565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6a565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6a565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7E284-46CA-4C86-A9E5-4D82142A1342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6a565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6a565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6a565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6a565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6a565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EA51B-60DB-45C7-BED7-9CF7A65266BA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6a565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6a565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6a565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6a565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6a565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43175-6EF3-4F86-9369-7343050040C9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Заголовок 1" descr=""/>
          <p:cNvPicPr/>
          <p:nvPr/>
        </p:nvPicPr>
        <p:blipFill>
          <a:blip r:embed="rId1"/>
          <a:stretch/>
        </p:blipFill>
        <p:spPr>
          <a:xfrm>
            <a:off x="4998960" y="1359000"/>
            <a:ext cx="3859200" cy="3573360"/>
          </a:xfrm>
          <a:prstGeom prst="rect">
            <a:avLst/>
          </a:prstGeom>
          <a:ln w="0">
            <a:noFill/>
          </a:ln>
        </p:spPr>
      </p:pic>
      <p:sp>
        <p:nvSpPr>
          <p:cNvPr id="215" name="TextBox 2"/>
          <p:cNvSpPr/>
          <p:nvPr/>
        </p:nvSpPr>
        <p:spPr>
          <a:xfrm>
            <a:off x="6143760" y="5786280"/>
            <a:ext cx="2571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rebuchet MS"/>
              </a:rPr>
              <a:t>Проект подготовила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rebuchet MS"/>
              </a:rPr>
              <a:t>Мухаметшина Диля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rebuchet MS"/>
              </a:rPr>
              <a:t>      </a:t>
            </a:r>
            <a:r>
              <a:rPr b="1" i="1" lang="ru-RU" sz="1400" spc="-1" strike="noStrike">
                <a:solidFill>
                  <a:srgbClr val="000000"/>
                </a:solidFill>
                <a:latin typeface="Trebuchet MS"/>
              </a:rPr>
              <a:t>3 «Б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4" descr="http://nikoare.com/images/stories/historyarts/hudozniki/0007kramskoy/p_kramskoy11.jpg"/>
          <p:cNvPicPr/>
          <p:nvPr/>
        </p:nvPicPr>
        <p:blipFill>
          <a:blip r:embed="rId2"/>
          <a:stretch/>
        </p:blipFill>
        <p:spPr>
          <a:xfrm>
            <a:off x="428760" y="357120"/>
            <a:ext cx="4383000" cy="61200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Прямоугольник 1"/>
          <p:cNvGrpSpPr/>
          <p:nvPr/>
        </p:nvGrpSpPr>
        <p:grpSpPr>
          <a:xfrm>
            <a:off x="3260880" y="5864400"/>
            <a:ext cx="3036600" cy="639720"/>
            <a:chOff x="3260880" y="5864400"/>
            <a:chExt cx="3036600" cy="639720"/>
          </a:xfrm>
        </p:grpSpPr>
        <p:pic>
          <p:nvPicPr>
            <p:cNvPr id="252" name="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3260880" y="5864400"/>
              <a:ext cx="303660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3286080" y="5929200"/>
              <a:ext cx="292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rebuchet MS"/>
                </a:rPr>
                <a:t>Первый</a:t>
              </a:r>
              <a:r>
                <a:rPr b="0" lang="ru-RU" sz="2000" spc="-1" strike="noStrike">
                  <a:solidFill>
                    <a:srgbClr val="000000"/>
                  </a:solidFill>
                  <a:latin typeface="Trebuchet MS"/>
                </a:rPr>
                <a:t> </a:t>
              </a:r>
              <a:r>
                <a:rPr b="1" lang="ru-RU" sz="2000" spc="-1" strike="noStrike">
                  <a:solidFill>
                    <a:srgbClr val="000000"/>
                  </a:solidFill>
                  <a:latin typeface="Trebuchet MS"/>
                </a:rPr>
                <a:t>снег.187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4" name="Picture 2" descr="http://www.gallery-nn.ru/wp-content/gallery/winter/shishkin-wn035.jpg"/>
          <p:cNvPicPr/>
          <p:nvPr/>
        </p:nvPicPr>
        <p:blipFill>
          <a:blip r:embed="rId2"/>
          <a:stretch/>
        </p:blipFill>
        <p:spPr>
          <a:xfrm>
            <a:off x="1143000" y="500040"/>
            <a:ext cx="7064280" cy="50403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Прямоугольник 1"/>
          <p:cNvGrpSpPr/>
          <p:nvPr/>
        </p:nvGrpSpPr>
        <p:grpSpPr>
          <a:xfrm>
            <a:off x="2835360" y="6151680"/>
            <a:ext cx="3674880" cy="639720"/>
            <a:chOff x="2835360" y="6151680"/>
            <a:chExt cx="3674880" cy="639720"/>
          </a:xfrm>
        </p:grpSpPr>
        <p:pic>
          <p:nvPicPr>
            <p:cNvPr id="256" name="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2835360" y="6151680"/>
              <a:ext cx="36748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2857680" y="6215040"/>
              <a:ext cx="357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rebuchet MS"/>
                </a:rPr>
                <a:t>На севере диком…  189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8" name="Picture 2" descr="http://www.bertc.com/subfive/g171/images/shishkin.jpg"/>
          <p:cNvPicPr/>
          <p:nvPr/>
        </p:nvPicPr>
        <p:blipFill>
          <a:blip r:embed="rId2"/>
          <a:stretch/>
        </p:blipFill>
        <p:spPr>
          <a:xfrm>
            <a:off x="2571840" y="428760"/>
            <a:ext cx="4114800" cy="54007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Прямоугольник 1"/>
          <p:cNvGrpSpPr/>
          <p:nvPr/>
        </p:nvGrpSpPr>
        <p:grpSpPr>
          <a:xfrm>
            <a:off x="2975040" y="6010200"/>
            <a:ext cx="3176640" cy="639720"/>
            <a:chOff x="2975040" y="6010200"/>
            <a:chExt cx="3176640" cy="639720"/>
          </a:xfrm>
        </p:grpSpPr>
        <p:pic>
          <p:nvPicPr>
            <p:cNvPr id="260" name="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2975040" y="6010200"/>
              <a:ext cx="317664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3000240" y="6072120"/>
              <a:ext cx="307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rebuchet MS"/>
                </a:rPr>
                <a:t>Дубовая роща. 188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2" name="Picture 2" descr="http://f.rodon.org/p/14/080429112123.jpg"/>
          <p:cNvPicPr/>
          <p:nvPr/>
        </p:nvPicPr>
        <p:blipFill>
          <a:blip r:embed="rId2"/>
          <a:stretch/>
        </p:blipFill>
        <p:spPr>
          <a:xfrm>
            <a:off x="571680" y="357120"/>
            <a:ext cx="8111880" cy="54007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4" descr="http://s61.radikal.ru/i174/1106/e8/6b01edc5adf0.jpg"/>
          <p:cNvPicPr/>
          <p:nvPr/>
        </p:nvPicPr>
        <p:blipFill>
          <a:blip r:embed="rId1"/>
          <a:stretch/>
        </p:blipFill>
        <p:spPr>
          <a:xfrm>
            <a:off x="1071720" y="285840"/>
            <a:ext cx="7286400" cy="54007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grpSp>
        <p:nvGrpSpPr>
          <p:cNvPr id="264" name="Прямоугольник 4"/>
          <p:cNvGrpSpPr/>
          <p:nvPr/>
        </p:nvGrpSpPr>
        <p:grpSpPr>
          <a:xfrm>
            <a:off x="3187800" y="6010200"/>
            <a:ext cx="3109680" cy="639720"/>
            <a:chOff x="3187800" y="6010200"/>
            <a:chExt cx="3109680" cy="639720"/>
          </a:xfrm>
        </p:grpSpPr>
        <p:pic>
          <p:nvPicPr>
            <p:cNvPr id="265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3187800" y="6010200"/>
              <a:ext cx="31096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3214800" y="6072120"/>
              <a:ext cx="300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rebuchet MS"/>
                </a:rPr>
                <a:t>Перед</a:t>
              </a:r>
              <a:r>
                <a:rPr b="0" lang="ru-RU" sz="2000" spc="-1" strike="noStrike">
                  <a:solidFill>
                    <a:srgbClr val="000000"/>
                  </a:solidFill>
                  <a:latin typeface="Trebuchet MS"/>
                </a:rPr>
                <a:t> </a:t>
              </a:r>
              <a:r>
                <a:rPr b="1" lang="ru-RU" sz="2000" spc="-1" strike="noStrike">
                  <a:solidFill>
                    <a:srgbClr val="000000"/>
                  </a:solidFill>
                  <a:latin typeface="Trebuchet MS"/>
                </a:rPr>
                <a:t>грозой. 188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http://four-vlast.narod.ru/MinCult/image/kartina/shish_utro.jpg"/>
          <p:cNvPicPr/>
          <p:nvPr/>
        </p:nvPicPr>
        <p:blipFill>
          <a:blip r:embed="rId1"/>
          <a:stretch/>
        </p:blipFill>
        <p:spPr>
          <a:xfrm>
            <a:off x="1357200" y="357120"/>
            <a:ext cx="6240600" cy="46800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grpSp>
        <p:nvGrpSpPr>
          <p:cNvPr id="268" name="Прямоугольник 2"/>
          <p:cNvGrpSpPr/>
          <p:nvPr/>
        </p:nvGrpSpPr>
        <p:grpSpPr>
          <a:xfrm>
            <a:off x="281160" y="5151600"/>
            <a:ext cx="8637480" cy="1559520"/>
            <a:chOff x="281160" y="5151600"/>
            <a:chExt cx="8637480" cy="1559520"/>
          </a:xfrm>
        </p:grpSpPr>
        <p:pic>
          <p:nvPicPr>
            <p:cNvPr id="269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281160" y="5151600"/>
              <a:ext cx="8637480" cy="145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357120" y="5214960"/>
              <a:ext cx="8429760" cy="14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rebuchet MS"/>
                </a:rPr>
                <a:t>Утро в сосновом бору.  188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rebuchet MS"/>
                </a:rPr>
                <a:t>Это картина русских художников Ивана Шишкина и Константина Савицкого. Савицкий написал медведей, но коллекционер Павел Третьяков стёр его подпись, так что автором картины часто указывается один Шишкин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Прямоугольник 1"/>
          <p:cNvGrpSpPr/>
          <p:nvPr/>
        </p:nvGrpSpPr>
        <p:grpSpPr>
          <a:xfrm>
            <a:off x="420840" y="268200"/>
            <a:ext cx="8442000" cy="1402560"/>
            <a:chOff x="420840" y="268200"/>
            <a:chExt cx="8442000" cy="1402560"/>
          </a:xfrm>
        </p:grpSpPr>
        <p:pic>
          <p:nvPicPr>
            <p:cNvPr id="218" name="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420840" y="268200"/>
              <a:ext cx="8442000" cy="124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500040" y="357120"/>
              <a:ext cx="82152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rebuchet MS"/>
                </a:rPr>
                <a:t>Шишкин Иван Иванович великий русский художник и живописец 19 века. Он родился 25 января (13 по ст. стилю) 1832 года в городе Елабуга Вятской губернии. Ныне это республика Татарстан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0" name="Picture 2" descr="http://gidtravel.com/images/1_1285248426.jpg"/>
          <p:cNvPicPr/>
          <p:nvPr/>
        </p:nvPicPr>
        <p:blipFill>
          <a:blip r:embed="rId2"/>
          <a:stretch/>
        </p:blipFill>
        <p:spPr>
          <a:xfrm>
            <a:off x="2000160" y="1714680"/>
            <a:ext cx="5077080" cy="43621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wipe dir="r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Прямоугольник 1"/>
          <p:cNvGrpSpPr/>
          <p:nvPr/>
        </p:nvGrpSpPr>
        <p:grpSpPr>
          <a:xfrm>
            <a:off x="554040" y="365040"/>
            <a:ext cx="8010360" cy="1682280"/>
            <a:chOff x="554040" y="365040"/>
            <a:chExt cx="8010360" cy="1682280"/>
          </a:xfrm>
        </p:grpSpPr>
        <p:pic>
          <p:nvPicPr>
            <p:cNvPr id="222" name="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554040" y="365040"/>
              <a:ext cx="8010360" cy="155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642960" y="428760"/>
              <a:ext cx="777708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rebuchet MS"/>
                </a:rPr>
                <a:t>В 12 лет Иван Шишкин был отдан в Казанскую гимназию, где обнаружил страсть к рисованию, а в 1852 году поступил в Московское училище живописи, ваяния и зодчества. В 1856 году начал обучение в Петербуржской академии художеств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4" name="Picture 4" descr="http://moidom.zp.ua/PHOTO-Philosophy%20of%20Architecture%201/028.jpg"/>
          <p:cNvPicPr/>
          <p:nvPr/>
        </p:nvPicPr>
        <p:blipFill>
          <a:blip r:embed="rId2"/>
          <a:stretch/>
        </p:blipFill>
        <p:spPr>
          <a:xfrm>
            <a:off x="500040" y="4000680"/>
            <a:ext cx="3983040" cy="25192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http://www.leningradschool.com/AcademyofArts-AIC-chu38.jpg"/>
          <p:cNvPicPr/>
          <p:nvPr/>
        </p:nvPicPr>
        <p:blipFill>
          <a:blip r:embed="rId3"/>
          <a:stretch/>
        </p:blipFill>
        <p:spPr>
          <a:xfrm>
            <a:off x="4714920" y="4000680"/>
            <a:ext cx="3892680" cy="25192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http://e-kazan.ru/upload/places/photo_big_358.jpg"/>
          <p:cNvPicPr/>
          <p:nvPr/>
        </p:nvPicPr>
        <p:blipFill>
          <a:blip r:embed="rId4"/>
          <a:stretch/>
        </p:blipFill>
        <p:spPr>
          <a:xfrm>
            <a:off x="2714760" y="1928880"/>
            <a:ext cx="3711600" cy="2519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Прямоугольник 1"/>
          <p:cNvGrpSpPr/>
          <p:nvPr/>
        </p:nvGrpSpPr>
        <p:grpSpPr>
          <a:xfrm>
            <a:off x="341280" y="219240"/>
            <a:ext cx="8589960" cy="2599920"/>
            <a:chOff x="341280" y="219240"/>
            <a:chExt cx="8589960" cy="2599920"/>
          </a:xfrm>
        </p:grpSpPr>
        <p:pic>
          <p:nvPicPr>
            <p:cNvPr id="228" name="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341280" y="219240"/>
              <a:ext cx="8589960" cy="247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428760" y="285840"/>
              <a:ext cx="835812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rebuchet MS"/>
                </a:rPr>
                <a:t>Иван Иванович Шишкин один из крупнейших русских пейзажистов. Проникнутый бесконечной любовью к Родине, мастер на протяжении всей своей жизни воспевал ее необыкновенные по красоте образы, передавая особый, величественный дух русской природы. Полотна художника по праву считаются шедеврами сокровищницы мирового искусства, а его талант явил собой новую эпоху отечественного пейзажа XIX столетия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0" name="Picture 2" descr="http://upload.wikimedia.org/wikipedia/commons/thumb/0/0c/Iwan_Nikolajewitsch_Kramskoj_005.jpg/220px-Iwan_Nikolajewitsch_Kramskoj_005.jpg"/>
          <p:cNvPicPr/>
          <p:nvPr/>
        </p:nvPicPr>
        <p:blipFill>
          <a:blip r:embed="rId2"/>
          <a:stretch/>
        </p:blipFill>
        <p:spPr>
          <a:xfrm>
            <a:off x="3286080" y="2857680"/>
            <a:ext cx="2666880" cy="36003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wipe dir="r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Прямоугольник 1"/>
          <p:cNvGrpSpPr/>
          <p:nvPr/>
        </p:nvGrpSpPr>
        <p:grpSpPr>
          <a:xfrm>
            <a:off x="3121200" y="6010200"/>
            <a:ext cx="2889000" cy="639720"/>
            <a:chOff x="3121200" y="6010200"/>
            <a:chExt cx="2889000" cy="639720"/>
          </a:xfrm>
        </p:grpSpPr>
        <p:pic>
          <p:nvPicPr>
            <p:cNvPr id="232" name="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3121200" y="6010200"/>
              <a:ext cx="288900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3143160" y="6072120"/>
              <a:ext cx="278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rebuchet MS"/>
                </a:rPr>
                <a:t>Мухоморы. 187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4" name="Picture 2" descr="http://photo.fabrikaglamura.ru/photo/2/963/gd/769900.jpg"/>
          <p:cNvPicPr/>
          <p:nvPr/>
        </p:nvPicPr>
        <p:blipFill>
          <a:blip r:embed="rId2"/>
          <a:stretch/>
        </p:blipFill>
        <p:spPr>
          <a:xfrm>
            <a:off x="500040" y="428760"/>
            <a:ext cx="8182080" cy="54007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Прямоугольник 2"/>
          <p:cNvGrpSpPr/>
          <p:nvPr/>
        </p:nvGrpSpPr>
        <p:grpSpPr>
          <a:xfrm>
            <a:off x="2901960" y="6010200"/>
            <a:ext cx="3108240" cy="639720"/>
            <a:chOff x="2901960" y="6010200"/>
            <a:chExt cx="3108240" cy="639720"/>
          </a:xfrm>
        </p:grpSpPr>
        <p:pic>
          <p:nvPicPr>
            <p:cNvPr id="236" name="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2901960" y="6010200"/>
              <a:ext cx="310824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928960" y="6072120"/>
              <a:ext cx="300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rebuchet MS"/>
                </a:rPr>
                <a:t>Камни. 1880-189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Picture 2" descr="http://rexstar.ru/uploads/content/file75d724b69fc2e939a67922078d36780d.jpg"/>
          <p:cNvPicPr/>
          <p:nvPr/>
        </p:nvPicPr>
        <p:blipFill>
          <a:blip r:embed="rId2"/>
          <a:stretch/>
        </p:blipFill>
        <p:spPr>
          <a:xfrm>
            <a:off x="857160" y="428760"/>
            <a:ext cx="7451640" cy="54007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Прямоугольник 1"/>
          <p:cNvGrpSpPr/>
          <p:nvPr/>
        </p:nvGrpSpPr>
        <p:grpSpPr>
          <a:xfrm>
            <a:off x="2835360" y="6010200"/>
            <a:ext cx="3101760" cy="639720"/>
            <a:chOff x="2835360" y="6010200"/>
            <a:chExt cx="3101760" cy="639720"/>
          </a:xfrm>
        </p:grpSpPr>
        <p:pic>
          <p:nvPicPr>
            <p:cNvPr id="240" name="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2835360" y="6010200"/>
              <a:ext cx="31017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2857680" y="6072120"/>
              <a:ext cx="300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rebuchet MS"/>
                </a:rPr>
                <a:t>Сосновый бор. 187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2" name="Picture 2" descr="http://turnir.ua/uploads/contentimages/d8af71e693.jpg"/>
          <p:cNvPicPr/>
          <p:nvPr/>
        </p:nvPicPr>
        <p:blipFill>
          <a:blip r:embed="rId2"/>
          <a:stretch/>
        </p:blipFill>
        <p:spPr>
          <a:xfrm>
            <a:off x="857160" y="428760"/>
            <a:ext cx="7581960" cy="54007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Прямоугольник 2"/>
          <p:cNvGrpSpPr/>
          <p:nvPr/>
        </p:nvGrpSpPr>
        <p:grpSpPr>
          <a:xfrm>
            <a:off x="3548160" y="5651640"/>
            <a:ext cx="2176200" cy="639720"/>
            <a:chOff x="3548160" y="5651640"/>
            <a:chExt cx="2176200" cy="639720"/>
          </a:xfrm>
        </p:grpSpPr>
        <p:pic>
          <p:nvPicPr>
            <p:cNvPr id="244" name="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3548160" y="5651640"/>
              <a:ext cx="217620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3571920" y="5715000"/>
              <a:ext cx="207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rebuchet MS"/>
                </a:rPr>
                <a:t>Рожь. 187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6" name="Picture 2" descr="http://biography.sgu.ru/bio/data/files/pictures/image/39402.jpg"/>
          <p:cNvPicPr/>
          <p:nvPr/>
        </p:nvPicPr>
        <p:blipFill>
          <a:blip r:embed="rId2"/>
          <a:stretch/>
        </p:blipFill>
        <p:spPr>
          <a:xfrm>
            <a:off x="428760" y="428760"/>
            <a:ext cx="8258040" cy="46796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Прямоугольник 1"/>
          <p:cNvGrpSpPr/>
          <p:nvPr/>
        </p:nvGrpSpPr>
        <p:grpSpPr>
          <a:xfrm>
            <a:off x="2048040" y="6010200"/>
            <a:ext cx="5248080" cy="639720"/>
            <a:chOff x="2048040" y="6010200"/>
            <a:chExt cx="5248080" cy="639720"/>
          </a:xfrm>
        </p:grpSpPr>
        <p:pic>
          <p:nvPicPr>
            <p:cNvPr id="248" name="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2048040" y="6010200"/>
              <a:ext cx="52480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2071800" y="6072120"/>
              <a:ext cx="5143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rebuchet MS"/>
                </a:rPr>
                <a:t>Сосны, освещенные солнцем.  188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0" name="Picture 2" descr="http://library.by/portalus/modules/culture/special/russian_art/www.auburn.edu/academic/liberal_arts/foreign/russian/art/shishkin-trees.jpg"/>
          <p:cNvPicPr/>
          <p:nvPr/>
        </p:nvPicPr>
        <p:blipFill>
          <a:blip r:embed="rId2"/>
          <a:stretch/>
        </p:blipFill>
        <p:spPr>
          <a:xfrm>
            <a:off x="2857680" y="428760"/>
            <a:ext cx="3800160" cy="54007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3T08:14:51Z</dcterms:created>
  <dc:creator>User</dc:creator>
  <dc:description/>
  <dc:language>en-US</dc:language>
  <cp:lastModifiedBy>Admin</cp:lastModifiedBy>
  <dcterms:modified xsi:type="dcterms:W3CDTF">2017-09-20T18:50:15Z</dcterms:modified>
  <cp:revision>101</cp:revision>
  <dc:subject/>
  <dc:title>Презентация PowerPoint</dc:title>
</cp:coreProperties>
</file>