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1630-B4BF-49A8-B4A0-7611FD0E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DC1D-F01B-4F3D-B65E-3FE6A112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E6B3-3A82-4493-BBBF-69E10CF4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1A02-80B6-4C3F-AD09-DF33056E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7DFF-3AA7-4E8C-A8D9-02EF1BD4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3F04-840B-41CF-BCE8-E006162F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E44A-3F80-49CF-906D-AB121F87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878-6195-4E24-A720-6E9192FB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C868-3262-4A98-97C3-355EC391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6FF7-BD94-4C31-9F48-DDF4D5A6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B91F-B362-412F-8B02-266FAF17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CF6A-BC1B-498B-AC57-FA38F659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6FED-26B9-4EB8-8F44-F11B6556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C755-672E-4018-B44B-33E5CFE9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9863-3C14-41FD-9B17-A9031FF8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6B70-A791-4C44-B1EB-0237A711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2851-7813-4368-B008-F05DE029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2515-4A3E-4AAD-B189-024DA63A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6C26-1917-42F2-AAA2-3D05335E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E5B1-9A3C-4B7E-B03F-733E7328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1F43-05A9-4406-AF7B-FCC64952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6F40-40B9-49D8-95E1-075B65F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4691-368B-4572-B007-0062AA0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62E5-57A4-45D9-A7E4-06BB5507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064-DFFF-4CD9-B3BF-63C57A264A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ABF5-5DD4-4069-A101-C61E6C12BCD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Cambria"/>
              </a:rPr>
              <a:t>Кто нас защищает.</a:t>
            </a:r>
            <a:br>
              <a:rPr sz="4800"/>
            </a:br>
            <a:r>
              <a:rPr b="1" i="1" lang="ru-RU" sz="5400" spc="-1" strike="noStrike" u="sng">
                <a:solidFill>
                  <a:srgbClr val="ffffcc"/>
                </a:solidFill>
                <a:uFillTx/>
                <a:latin typeface="Cambria"/>
              </a:rPr>
              <a:t>Противопожарная</a:t>
            </a:r>
            <a:r>
              <a:rPr b="1" i="1" lang="ru-RU" sz="4800" spc="-1" strike="noStrike" u="sng">
                <a:solidFill>
                  <a:srgbClr val="ffffcc"/>
                </a:solidFill>
                <a:uFillTx/>
                <a:latin typeface="Cambria"/>
              </a:rPr>
              <a:t> служба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514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Ученик  3 «Б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Кукушкин Ег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Пожарная служб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является основной действующей структурой, защищающей каждого человека и общество от пожаров, а также аварий и катастро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1" i="1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Борьба с огнем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–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это война в мирное время, а профессия огнеборца – одна из самых опасных и в то же время самых гуманных.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30 апрел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– День работников пожарной охраны. В этот день в 1649 г. царь Алексей Михайлович подписал указ о создании первой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оссийской противопожарной службы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7" descr="_XL"/>
          <p:cNvPicPr/>
          <p:nvPr/>
        </p:nvPicPr>
        <p:blipFill>
          <a:blip r:embed="rId1"/>
          <a:stretch/>
        </p:blipFill>
        <p:spPr>
          <a:xfrm>
            <a:off x="2133720" y="2527200"/>
            <a:ext cx="5454360" cy="3926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-main-pic" descr="Картинка 5 из 2776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Развитие пожарной техники.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жарные автомобили являются основными средствами пожарной охраны, обеспечивающими доставку сил и средств к месту пожара.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ак же есть корабли и катера, специальные вертолеты и даже поезда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4" descr="nasos1"/>
          <p:cNvPicPr/>
          <p:nvPr/>
        </p:nvPicPr>
        <p:blipFill>
          <a:blip r:embed="rId1"/>
          <a:stretch/>
        </p:blipFill>
        <p:spPr>
          <a:xfrm>
            <a:off x="1600200" y="3429000"/>
            <a:ext cx="234000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ire"/>
          <p:cNvPicPr/>
          <p:nvPr/>
        </p:nvPicPr>
        <p:blipFill>
          <a:blip r:embed="rId2"/>
          <a:stretch/>
        </p:blipFill>
        <p:spPr>
          <a:xfrm>
            <a:off x="7105680" y="464832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FREZE_1"/>
          <p:cNvPicPr/>
          <p:nvPr/>
        </p:nvPicPr>
        <p:blipFill>
          <a:blip r:embed="rId3"/>
          <a:stretch/>
        </p:blipFill>
        <p:spPr>
          <a:xfrm>
            <a:off x="5486400" y="3733920"/>
            <a:ext cx="2057400" cy="1428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AM-35"/>
          <p:cNvPicPr/>
          <p:nvPr/>
        </p:nvPicPr>
        <p:blipFill>
          <a:blip r:embed="rId4"/>
          <a:stretch/>
        </p:blipFill>
        <p:spPr>
          <a:xfrm>
            <a:off x="0" y="4343400"/>
            <a:ext cx="2266920" cy="1676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fireexpo-2005_07"/>
          <p:cNvPicPr/>
          <p:nvPr/>
        </p:nvPicPr>
        <p:blipFill>
          <a:blip r:embed="rId5"/>
          <a:stretch/>
        </p:blipFill>
        <p:spPr>
          <a:xfrm>
            <a:off x="2743200" y="5429160"/>
            <a:ext cx="19810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AKP50-1"/>
          <p:cNvPicPr/>
          <p:nvPr/>
        </p:nvPicPr>
        <p:blipFill>
          <a:blip r:embed="rId6"/>
          <a:stretch/>
        </p:blipFill>
        <p:spPr>
          <a:xfrm>
            <a:off x="4191120" y="4800600"/>
            <a:ext cx="2133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временная Государственная противопожарная служба Российской Федерации является крупнейшей оперативной службой, входящую в состав МЧС России. Каждый год пожарная служба делает более двух миллионов выездов и спасают жизни более ста тысяч человек.</a:t>
            </a:r>
            <a:br>
              <a:rPr sz="38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612"/>
          <p:cNvPicPr/>
          <p:nvPr/>
        </p:nvPicPr>
        <p:blipFill>
          <a:blip r:embed="rId1"/>
          <a:stretch/>
        </p:blipFill>
        <p:spPr>
          <a:xfrm>
            <a:off x="3219480" y="3657600"/>
            <a:ext cx="229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http://pochemu4ka.ru/_ld/17/86495426.jpg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ПОЖАР</a:t>
            </a: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— неконтролируемое горение, причиняющее материальный ущерб, вред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жизни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здоровью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люд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i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Причины возникновения пожа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неосторожное обращение с огнё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несоблюдение правил эксплуатации  электрических устройст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амовозгорание материал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оджог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lightboxImage" descr="плакат 6"/>
          <p:cNvPicPr/>
          <p:nvPr/>
        </p:nvPicPr>
        <p:blipFill>
          <a:blip r:embed="rId1"/>
          <a:srcRect l="0" t="0" r="0" b="8981"/>
          <a:stretch/>
        </p:blipFill>
        <p:spPr>
          <a:xfrm>
            <a:off x="762120" y="380880"/>
            <a:ext cx="7238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</cp:lastModifiedBy>
  <dcterms:modified xsi:type="dcterms:W3CDTF">2017-09-19T22:17:07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