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3D0140-167C-415E-993C-6FCE7AE1E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314644-FB03-4774-BBAD-46921732D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F7163D-A84F-45D5-926A-4A523C505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6486AD-EF53-4EF2-BA8C-22C27E148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9A211-D1D5-40CA-89E7-3FDB563C3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45D7B-AB2E-4176-833D-A264EA477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8CF09-68A8-4147-9627-DF98CEBB8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05F7F-1724-465C-8495-2FCC7AD43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A494E-0199-43C3-9EE0-365965A47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D6975-49E9-40D9-99BA-728826EC7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9110C-0231-4AF0-9EF5-4F7031B22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0D7FDB-476D-4EA8-948B-4D491FF15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891D7-8D16-4CA3-8ACF-49812933E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C164F-C28E-44A8-A4EB-003C1B31F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21ED6-7358-467D-ADBD-0F9A70B0F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05557-9F7E-4310-924C-CA20FE194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2A058-C1D4-4DDD-A317-D62773374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894D54-43BE-4CDC-80E6-133D96EBF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12B7D9-749E-46AC-A05F-E489F6958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CCC34D-89F0-4F8F-9EB0-B0706D1B2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CFC796-2AEA-45BB-A693-D82EDCE55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ABEF99-A1BE-411F-B117-5D8320E44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93CF28-30C6-46C8-A7DE-63519C9E7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BCEBBE-0663-4894-9F92-8B2D4648A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C5A75-9539-4541-A2D8-5AACDA4E56C4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EF304-0A36-4ED5-814A-4D0F0C2FB895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696080" cy="28195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ffcc"/>
                </a:solidFill>
                <a:latin typeface="Cambria"/>
              </a:rPr>
              <a:t>Кто нас защищает.</a:t>
            </a:r>
            <a:br>
              <a:rPr sz="4800"/>
            </a:br>
            <a:r>
              <a:rPr b="1" i="1" lang="ru-RU" sz="5400" spc="-1" strike="noStrike" u="sng">
                <a:solidFill>
                  <a:srgbClr val="ffffcc"/>
                </a:solidFill>
                <a:uFillTx/>
                <a:latin typeface="Cambria"/>
              </a:rPr>
              <a:t>Противопожарная</a:t>
            </a:r>
            <a:r>
              <a:rPr b="1" i="1" lang="ru-RU" sz="4800" spc="-1" strike="noStrike" u="sng">
                <a:solidFill>
                  <a:srgbClr val="ffffcc"/>
                </a:solidFill>
                <a:uFillTx/>
                <a:latin typeface="Cambria"/>
              </a:rPr>
              <a:t> служба.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2514600" y="4495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Cambria"/>
              </a:rPr>
              <a:t>Выполнил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Cambria"/>
              </a:rPr>
              <a:t>Ученик  3 «Б» класс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Cambria"/>
              </a:rPr>
              <a:t>Кукушкин Егор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	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0" y="152280"/>
            <a:ext cx="91440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ru-RU" sz="3600" spc="-1" strike="noStrike" u="sng">
                <a:solidFill>
                  <a:srgbClr val="ffffcc"/>
                </a:solidFill>
                <a:uFillTx/>
                <a:latin typeface="Tahoma"/>
              </a:rPr>
              <a:t>Пожарная служба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является основной действующей структурой, защищающей каждого человека и общество от пожаров, а также аварий и катастроф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     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       </a:t>
            </a:r>
            <a:r>
              <a:rPr b="1" i="1" lang="ru-RU" sz="3600" spc="-1" strike="noStrike" u="sng">
                <a:solidFill>
                  <a:srgbClr val="ffffcc"/>
                </a:solidFill>
                <a:uFillTx/>
                <a:latin typeface="Tahoma"/>
              </a:rPr>
              <a:t>Борьба с огнем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 –  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это война в мирное время, а профессия огнеборца – одна из самых опасных и в то же время самых гуманных.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3048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cc"/>
                </a:solidFill>
                <a:uFillTx/>
                <a:latin typeface="Tahoma"/>
              </a:rPr>
              <a:t>30 апреля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 – День работников пожарной охраны. В этот день в 1649 г. царь Алексей Михайлович подписал указ о создании первой 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российской противопожарной службы.</a:t>
            </a:r>
            <a:br>
              <a:rPr sz="3200"/>
            </a:b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1" name="Picture 7" descr="_XL"/>
          <p:cNvPicPr/>
          <p:nvPr/>
        </p:nvPicPr>
        <p:blipFill>
          <a:blip r:embed="rId1"/>
          <a:stretch/>
        </p:blipFill>
        <p:spPr>
          <a:xfrm>
            <a:off x="2133720" y="2527200"/>
            <a:ext cx="5454360" cy="392616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i-main-pic" descr="Картинка 5 из 2776"/>
          <p:cNvPicPr/>
          <p:nvPr/>
        </p:nvPicPr>
        <p:blipFill>
          <a:blip r:embed="rId1"/>
          <a:stretch/>
        </p:blipFill>
        <p:spPr>
          <a:xfrm>
            <a:off x="380880" y="380880"/>
            <a:ext cx="845820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0" y="533520"/>
            <a:ext cx="9144000" cy="3581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ffffcc"/>
                </a:solidFill>
                <a:uFillTx/>
                <a:latin typeface="Tahoma"/>
              </a:rPr>
              <a:t>Развитие пожарной техники.</a:t>
            </a:r>
            <a:r>
              <a:rPr b="0" lang="ru-RU" sz="2800" spc="-1" strike="noStrike" u="sng">
                <a:solidFill>
                  <a:srgbClr val="ffffcc"/>
                </a:solidFill>
                <a:uFillTx/>
                <a:latin typeface="Tahoma"/>
              </a:rPr>
              <a:t> </a:t>
            </a:r>
            <a:br>
              <a:rPr sz="2800"/>
            </a:b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Пожарные автомобили являются основными средствами пожарной охраны, обеспечивающими доставку сил и средств к месту пожара. </a:t>
            </a:r>
            <a:br>
              <a:rPr sz="2800"/>
            </a:b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Так же есть корабли и катера, специальные вертолеты и даже поезда. 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5" name="Picture 4" descr="nasos1"/>
          <p:cNvPicPr/>
          <p:nvPr/>
        </p:nvPicPr>
        <p:blipFill>
          <a:blip r:embed="rId1"/>
          <a:stretch/>
        </p:blipFill>
        <p:spPr>
          <a:xfrm>
            <a:off x="1600200" y="3429000"/>
            <a:ext cx="2340000" cy="15238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5" descr="fire"/>
          <p:cNvPicPr/>
          <p:nvPr/>
        </p:nvPicPr>
        <p:blipFill>
          <a:blip r:embed="rId2"/>
          <a:stretch/>
        </p:blipFill>
        <p:spPr>
          <a:xfrm>
            <a:off x="7105680" y="4648320"/>
            <a:ext cx="2038320" cy="14284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6" descr="FREZE_1"/>
          <p:cNvPicPr/>
          <p:nvPr/>
        </p:nvPicPr>
        <p:blipFill>
          <a:blip r:embed="rId3"/>
          <a:stretch/>
        </p:blipFill>
        <p:spPr>
          <a:xfrm>
            <a:off x="5486400" y="3733920"/>
            <a:ext cx="2057400" cy="14284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7" descr="AM-35"/>
          <p:cNvPicPr/>
          <p:nvPr/>
        </p:nvPicPr>
        <p:blipFill>
          <a:blip r:embed="rId4"/>
          <a:stretch/>
        </p:blipFill>
        <p:spPr>
          <a:xfrm>
            <a:off x="0" y="4343400"/>
            <a:ext cx="2266920" cy="16765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8" descr="fireexpo-2005_07"/>
          <p:cNvPicPr/>
          <p:nvPr/>
        </p:nvPicPr>
        <p:blipFill>
          <a:blip r:embed="rId5"/>
          <a:stretch/>
        </p:blipFill>
        <p:spPr>
          <a:xfrm>
            <a:off x="2743200" y="5429160"/>
            <a:ext cx="1981080" cy="14288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9" descr="AKP50-1"/>
          <p:cNvPicPr/>
          <p:nvPr/>
        </p:nvPicPr>
        <p:blipFill>
          <a:blip r:embed="rId6"/>
          <a:stretch/>
        </p:blipFill>
        <p:spPr>
          <a:xfrm>
            <a:off x="4191120" y="4800600"/>
            <a:ext cx="213336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915400" cy="44956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Современная Государственная противопожарная служба Российской Федерации является крупнейшей оперативной службой, входящую в состав МЧС России. Каждый год пожарная служба делает более двух миллионов выездов и спасают жизни более ста тысяч человек.</a:t>
            </a:r>
            <a:br>
              <a:rPr sz="3800"/>
            </a:b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2666520"/>
            <a:ext cx="8534520" cy="31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3" name="Picture 6" descr="612"/>
          <p:cNvPicPr/>
          <p:nvPr/>
        </p:nvPicPr>
        <p:blipFill>
          <a:blip r:embed="rId1"/>
          <a:stretch/>
        </p:blipFill>
        <p:spPr>
          <a:xfrm>
            <a:off x="3219480" y="3657600"/>
            <a:ext cx="22939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45" name="Picture 4" descr="http://pochemu4ka.ru/_ld/17/86495426.jpg"/>
          <p:cNvPicPr/>
          <p:nvPr/>
        </p:nvPicPr>
        <p:blipFill>
          <a:blip r:embed="rId1"/>
          <a:stretch/>
        </p:blipFill>
        <p:spPr>
          <a:xfrm>
            <a:off x="228600" y="0"/>
            <a:ext cx="8915400" cy="663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151920" y="152280"/>
            <a:ext cx="899172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i="1" lang="ru-RU" sz="3600" spc="-1" strike="noStrike" u="sng">
                <a:solidFill>
                  <a:srgbClr val="ffffcc"/>
                </a:solidFill>
                <a:uFillTx/>
                <a:latin typeface="Tahoma"/>
              </a:rPr>
              <a:t>ПОЖАР</a:t>
            </a:r>
            <a:r>
              <a:rPr b="1" i="1" lang="ru-RU" sz="36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ffffcc"/>
                </a:solidFill>
                <a:latin typeface="Tahoma"/>
              </a:rPr>
              <a:t>— неконтролируемое горение, причиняющее материальный ущерб, вред </a:t>
            </a:r>
            <a:r>
              <a:rPr b="1" lang="ru-RU" sz="3200" spc="-1" strike="noStrike" u="sng">
                <a:solidFill>
                  <a:srgbClr val="ffffcc"/>
                </a:solidFill>
                <a:uFillTx/>
                <a:latin typeface="Tahoma"/>
              </a:rPr>
              <a:t>жизни</a:t>
            </a:r>
            <a:r>
              <a:rPr b="1" lang="ru-RU" sz="3200" spc="-1" strike="noStrike">
                <a:solidFill>
                  <a:srgbClr val="ffffcc"/>
                </a:solidFill>
                <a:latin typeface="Tahoma"/>
              </a:rPr>
              <a:t> и </a:t>
            </a:r>
            <a:r>
              <a:rPr b="1" lang="ru-RU" sz="3200" spc="-1" strike="noStrike" u="sng">
                <a:solidFill>
                  <a:srgbClr val="ffffcc"/>
                </a:solidFill>
                <a:uFillTx/>
                <a:latin typeface="Tahoma"/>
              </a:rPr>
              <a:t>здоровью</a:t>
            </a:r>
            <a:r>
              <a:rPr b="1" lang="ru-RU" sz="3200" spc="-1" strike="noStrike">
                <a:solidFill>
                  <a:srgbClr val="ffffcc"/>
                </a:solidFill>
                <a:latin typeface="Tahoma"/>
              </a:rPr>
              <a:t> людей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Tahoma"/>
              </a:rPr>
              <a:t>     </a:t>
            </a:r>
            <a:r>
              <a:rPr b="1" i="1" lang="ru-RU" sz="3200" spc="-1" strike="noStrike" u="sng">
                <a:solidFill>
                  <a:srgbClr val="ffffcc"/>
                </a:solidFill>
                <a:uFillTx/>
                <a:latin typeface="Tahoma"/>
              </a:rPr>
              <a:t>Причины возникновения пожаров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Tahoma"/>
              </a:rPr>
              <a:t>неосторожное обращение с огнём;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Tahoma"/>
              </a:rPr>
              <a:t>несоблюдение правил эксплуатации  электрических устройств;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Tahoma"/>
              </a:rPr>
              <a:t>самовозгорание материалов;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Tahoma"/>
              </a:rPr>
              <a:t>поджоги;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lightboxImage" descr="плакат 6"/>
          <p:cNvPicPr/>
          <p:nvPr/>
        </p:nvPicPr>
        <p:blipFill>
          <a:blip r:embed="rId1"/>
          <a:srcRect l="0" t="0" r="0" b="8981"/>
          <a:stretch/>
        </p:blipFill>
        <p:spPr>
          <a:xfrm>
            <a:off x="762120" y="380880"/>
            <a:ext cx="723888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Натали</cp:lastModifiedBy>
  <dcterms:modified xsi:type="dcterms:W3CDTF">2017-09-19T22:17:07Z</dcterms:modified>
  <cp:revision>10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