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82A-982F-478E-B60B-857158F9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FB0-4BB2-4876-9F96-3469FB27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B81-48BD-4AC2-BDBD-BF472756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A51-F9CD-4511-BD91-B3685E82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840-4BDF-43E1-9A8A-DE070483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5C3D-1A6F-4C0E-AF75-1C66B43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E10D-98B4-4D20-BF72-31E5CFC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9DF-BB3B-476B-AE4C-0784BA49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DA8F-5C31-4EF3-813E-6664D5D5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E1AD-42D1-4D18-99B8-A64A204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FFC-DBCE-4D3F-8595-2F7E2FA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04E-8168-4A20-963E-67BB1A4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10B6-95C8-4A4A-BD50-591AEE4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B5F4-ACE7-420A-BADD-9DC7E0AF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F11A-AB89-488E-BBE0-2BFDB27C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C69D-3520-4049-8F0B-9663F19F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158-76A3-4CBB-954D-6453850F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CA7-7E7E-4528-8351-4D0BCB5E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5F3-C907-42EF-9EAE-280AF770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3CE-245A-42AB-ACDD-DDC09FB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CE7-32D5-44E4-A8FD-FD6A312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592-F172-4F23-AE94-49989EF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CBE-A3B9-494B-AB39-81AB85A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9B7-45BB-4FCB-AF24-A1D2228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70E-2E67-4BB1-99EF-F1EF0B26D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22C-8D4F-4D5C-93D5-46AC13219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Пользователь\Desktop\доска.jpg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428200" y="692280"/>
            <a:ext cx="410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 сентяб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15880" y="3141720"/>
            <a:ext cx="859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Распространённые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нераспространённые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6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75680" cy="1146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835200" y="2492280"/>
            <a:ext cx="430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е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852120" y="3645000"/>
            <a:ext cx="805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ели в теплые кр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7240" y="256536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327240" y="364500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2" descr=""/>
          <p:cNvPicPr/>
          <p:nvPr/>
        </p:nvPicPr>
        <p:blipFill>
          <a:blip r:embed="rId1"/>
          <a:stretch/>
        </p:blipFill>
        <p:spPr>
          <a:xfrm>
            <a:off x="365040" y="480960"/>
            <a:ext cx="8467920" cy="1139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918000" y="2924280"/>
            <a:ext cx="359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 3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Пользователь\Desktop\седения.jpg"/>
          <p:cNvPicPr/>
          <p:nvPr/>
        </p:nvPicPr>
        <p:blipFill>
          <a:blip r:embed="rId2"/>
          <a:stretch/>
        </p:blipFill>
        <p:spPr>
          <a:xfrm>
            <a:off x="4500720" y="2057400"/>
            <a:ext cx="3816360" cy="4133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7"/>
          <p:cNvSpPr/>
          <p:nvPr/>
        </p:nvSpPr>
        <p:spPr>
          <a:xfrm>
            <a:off x="835200" y="2492280"/>
            <a:ext cx="430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е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52120" y="3645000"/>
            <a:ext cx="805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ели в теплые кр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27240" y="256536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27240" y="364500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13" descr=""/>
          <p:cNvPicPr/>
          <p:nvPr/>
        </p:nvPicPr>
        <p:blipFill>
          <a:blip r:embed="rId1"/>
          <a:stretch/>
        </p:blipFill>
        <p:spPr>
          <a:xfrm>
            <a:off x="401760" y="201600"/>
            <a:ext cx="8686800" cy="19130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15"/>
          <p:cNvSpPr/>
          <p:nvPr/>
        </p:nvSpPr>
        <p:spPr>
          <a:xfrm>
            <a:off x="971640" y="4365720"/>
            <a:ext cx="17287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6"/>
          <p:cNvSpPr/>
          <p:nvPr/>
        </p:nvSpPr>
        <p:spPr>
          <a:xfrm>
            <a:off x="2916360" y="4365720"/>
            <a:ext cx="19429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8"/>
          <p:cNvSpPr/>
          <p:nvPr/>
        </p:nvSpPr>
        <p:spPr>
          <a:xfrm>
            <a:off x="2916360" y="4508640"/>
            <a:ext cx="19429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Пользователь\Desktop\рефлексия.jpe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8862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2382840" y="85680"/>
            <a:ext cx="4597560" cy="1103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Пользователь\Desktop\мин чис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755640" y="333360"/>
            <a:ext cx="79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пиши только те слова, которые можно разделить для переноса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 Обозначь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есто переноса чёрточкой (например, не-б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59800" y="2637000"/>
            <a:ext cx="177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264480" y="2637000"/>
            <a:ext cx="14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652280" y="2637000"/>
            <a:ext cx="190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6526800" y="2637000"/>
            <a:ext cx="16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176480" y="2637000"/>
            <a:ext cx="22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- лё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430440" y="2637000"/>
            <a:ext cx="24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– р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6096960" y="2637000"/>
            <a:ext cx="220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– р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5" descr=""/>
          <p:cNvPicPr/>
          <p:nvPr/>
        </p:nvPicPr>
        <p:blipFill>
          <a:blip r:embed="rId1"/>
          <a:stretch/>
        </p:blipFill>
        <p:spPr>
          <a:xfrm>
            <a:off x="96840" y="2419200"/>
            <a:ext cx="8839080" cy="21956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6" descr=""/>
          <p:cNvPicPr/>
          <p:nvPr/>
        </p:nvPicPr>
        <p:blipFill>
          <a:blip r:embed="rId2"/>
          <a:stretch/>
        </p:blipFill>
        <p:spPr>
          <a:xfrm>
            <a:off x="176040" y="6480"/>
            <a:ext cx="8894880" cy="195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Пользователь\Desktop\чашка.jpg"/>
          <p:cNvPicPr/>
          <p:nvPr/>
        </p:nvPicPr>
        <p:blipFill>
          <a:blip r:embed="rId3"/>
          <a:stretch/>
        </p:blipFill>
        <p:spPr>
          <a:xfrm>
            <a:off x="2843280" y="4221000"/>
            <a:ext cx="2813040" cy="2111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1139760"/>
            <a:ext cx="8351640" cy="216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C:\Users\Пользователь\Desktop\щука.jpg"/>
          <p:cNvPicPr/>
          <p:nvPr/>
        </p:nvPicPr>
        <p:blipFill>
          <a:blip r:embed="rId2"/>
          <a:stretch/>
        </p:blipFill>
        <p:spPr>
          <a:xfrm>
            <a:off x="1403280" y="3141720"/>
            <a:ext cx="6015240" cy="2598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4" descr=""/>
          <p:cNvPicPr/>
          <p:nvPr/>
        </p:nvPicPr>
        <p:blipFill>
          <a:blip r:embed="rId1"/>
          <a:stretch/>
        </p:blipFill>
        <p:spPr>
          <a:xfrm>
            <a:off x="103320" y="219240"/>
            <a:ext cx="8888400" cy="390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Пользователь\Desktop\шиповник.jpg"/>
          <p:cNvPicPr/>
          <p:nvPr/>
        </p:nvPicPr>
        <p:blipFill>
          <a:blip r:embed="rId2"/>
          <a:stretch/>
        </p:blipFill>
        <p:spPr>
          <a:xfrm>
            <a:off x="5435640" y="3540240"/>
            <a:ext cx="3317760" cy="3317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1652760"/>
            <a:ext cx="7443720" cy="292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Пользователь\Desktop\жираф.png"/>
          <p:cNvPicPr/>
          <p:nvPr/>
        </p:nvPicPr>
        <p:blipFill>
          <a:blip r:embed="rId2"/>
          <a:stretch/>
        </p:blipFill>
        <p:spPr>
          <a:xfrm>
            <a:off x="7165800" y="1989000"/>
            <a:ext cx="197820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-42840" y="762120"/>
            <a:ext cx="6535800" cy="432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Пользователь\Desktop\чучело.png"/>
          <p:cNvPicPr/>
          <p:nvPr/>
        </p:nvPicPr>
        <p:blipFill>
          <a:blip r:embed="rId2"/>
          <a:stretch/>
        </p:blipFill>
        <p:spPr>
          <a:xfrm>
            <a:off x="5275440" y="2781360"/>
            <a:ext cx="3868560" cy="3290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6" descr=""/>
          <p:cNvPicPr/>
          <p:nvPr/>
        </p:nvPicPr>
        <p:blipFill>
          <a:blip r:embed="rId1"/>
          <a:stretch/>
        </p:blipFill>
        <p:spPr>
          <a:xfrm>
            <a:off x="2414520" y="42840"/>
            <a:ext cx="4211640" cy="1146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12" descr=""/>
          <p:cNvPicPr/>
          <p:nvPr/>
        </p:nvPicPr>
        <p:blipFill>
          <a:blip r:embed="rId2"/>
          <a:stretch/>
        </p:blipFill>
        <p:spPr>
          <a:xfrm>
            <a:off x="208080" y="1584360"/>
            <a:ext cx="8942400" cy="1762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18680" y="4365720"/>
            <a:ext cx="780516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ните в этих словах изуч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м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5"/>
          <p:cNvSpPr/>
          <p:nvPr/>
        </p:nvSpPr>
        <p:spPr>
          <a:xfrm>
            <a:off x="684360" y="2492280"/>
            <a:ext cx="64764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7"/>
          <p:cNvSpPr/>
          <p:nvPr/>
        </p:nvSpPr>
        <p:spPr>
          <a:xfrm>
            <a:off x="3132000" y="2492280"/>
            <a:ext cx="79236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5219640" y="2492280"/>
            <a:ext cx="79236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>
            <a:off x="2050920" y="3213000"/>
            <a:ext cx="79236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3"/>
          <p:cNvSpPr/>
          <p:nvPr/>
        </p:nvSpPr>
        <p:spPr>
          <a:xfrm>
            <a:off x="4716360" y="3213000"/>
            <a:ext cx="687600" cy="144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Пользователь</cp:lastModifiedBy>
  <dcterms:modified xsi:type="dcterms:W3CDTF">2017-09-20T19:21:03Z</dcterms:modified>
  <cp:revision>48</cp:revision>
  <dc:subject/>
  <dc:title>Слайд 1</dc:title>
</cp:coreProperties>
</file>