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702F-B2AF-4C4D-BCF9-D6F7A092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AE5E-0AD4-4127-902E-97FDE555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0EDE-9B42-4CC3-888A-6AE15955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95F6-B804-4186-AC97-B37E736D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EA03-684F-4C3E-AC57-31BFE909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887E-CE85-4490-B976-7971504B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2A20-C493-4CA5-A9CE-5BF35545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546E-780E-416A-A160-27F47A0D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DE0D-FD93-44D1-9E27-C295177D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C3D4-A7BE-4824-83F8-969D04A8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8599-780B-4271-A847-32EE11C0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42E-91F6-4D36-8696-391F13A3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31DC-F5EA-4C49-9ED7-311DE33B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585C-2214-4485-9FFE-FAF2C7B9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1F32-4C7D-48E8-BB60-1BBD768F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7A54-A315-401D-BF22-A0506762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9583-09B4-440B-8533-BEC04A24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9F7-0765-4363-8C6E-46F44718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9E1A-970A-490D-B1EA-ADCE9137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9952-2ECF-4C31-AA97-F5F0614A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DB3-DE09-4145-A043-03A4C24A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4D5F-BC51-45E4-93C6-E75A3AA7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6CB0-2C73-4570-8C32-4BAFF2FE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DDEA-E830-410E-8BD4-86608264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C71E-8BA8-4994-BB27-669B745601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96AA-BFDF-4757-9724-3150DC1563E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2" descr="G:\урок\Безымянный.bmp"/>
          <p:cNvPicPr/>
          <p:nvPr/>
        </p:nvPicPr>
        <p:blipFill>
          <a:blip r:embed="rId1"/>
          <a:stretch/>
        </p:blipFill>
        <p:spPr>
          <a:xfrm>
            <a:off x="0" y="2052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айдите и исправьте ошибки в употреблении глагол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) Я дочитал книгу и шел спа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) Учащиеся задерживались в школе, но все же решили задач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) Я долго переписал сочин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) Ребенок горько плакал и никак не успокоил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) Слушатели долго аплодировали, и пианист играл еще одну пьес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2" descr="G:\урок\Безымянный.bmp"/>
          <p:cNvPicPr/>
          <p:nvPr/>
        </p:nvPicPr>
        <p:blipFill>
          <a:blip r:embed="rId1"/>
          <a:stretch/>
        </p:blipFill>
        <p:spPr>
          <a:xfrm>
            <a:off x="0" y="2052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машнее задание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) Выучить правила на стр.11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) Напишите сочинение-миниатюру на тему: « Весна в нашем городе », используя глаголы совершенного и несовершенного ви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) Упр. 639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олнце за день нагуляется,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Arial"/>
              </a:rPr>
              <a:t>З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а кудрявый лес спускается.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Arial"/>
              </a:rPr>
              <a:t>Лес стоит под шапкой темною,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Arial"/>
              </a:rPr>
              <a:t>В золотом огне купается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1332000" y="2276640"/>
            <a:ext cx="590544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гуляетс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пускае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68360" y="2924280"/>
            <a:ext cx="82296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какие вопросы отвечают глаголы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 думаете, почему виды глаголов получили такое назва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лаголы совершенного вида отвечают в инфинитиве на вопрос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что сделать?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обозначают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законченно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или действие,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достигше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енног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реде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лаголы несовершенного вида отвечают в инфинитиве на вопрос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что делать?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не обозначаю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онченность действ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ли действия, достигшег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енног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реде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Виды глагол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Цел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360" y="1125000"/>
            <a:ext cx="770400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комиться с видом глагола как постоянным морфологическим признак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иться определять вид глаго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комиться с особенностями глаголов совершенного и несовершенного вид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иться правильно употреблять глаголы разных видов в реч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2" descr="G:\урок\Безымянный.bmp"/>
          <p:cNvPicPr/>
          <p:nvPr/>
        </p:nvPicPr>
        <p:blipFill>
          <a:blip r:embed="rId1"/>
          <a:stretch/>
        </p:blipFill>
        <p:spPr>
          <a:xfrm>
            <a:off x="0" y="2052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54756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-360"/>
            <a:ext cx="51944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а перестала писать письма подруг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е надоело повторять одно и то ж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 продолжал читать, несмотря на шу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ы забыл отправить письм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ы научились переводить английский текст без словар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Рисунок 3" descr=""/>
          <p:cNvPicPr/>
          <p:nvPr/>
        </p:nvPicPr>
        <p:blipFill>
          <a:blip r:embed="rId1"/>
          <a:stretch/>
        </p:blipFill>
        <p:spPr>
          <a:xfrm>
            <a:off x="5580000" y="299736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2" descr="G:\урок\Безымянный.bmp"/>
          <p:cNvPicPr/>
          <p:nvPr/>
        </p:nvPicPr>
        <p:blipFill>
          <a:blip r:embed="rId1"/>
          <a:stretch/>
        </p:blipFill>
        <p:spPr>
          <a:xfrm>
            <a:off x="0" y="2052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13:37:12Z</dcterms:created>
  <dc:creator>SuperUser</dc:creator>
  <dc:description/>
  <dc:language>en-US</dc:language>
  <cp:lastModifiedBy>Учитель</cp:lastModifiedBy>
  <dcterms:modified xsi:type="dcterms:W3CDTF">2015-04-15T07:10:14Z</dcterms:modified>
  <cp:revision>56</cp:revision>
  <dc:subject/>
  <dc:title>Совершенный и несовершенный вид глагола</dc:title>
</cp:coreProperties>
</file>