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56E-992A-4CCB-9B7F-79633A2F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652-BBCC-48DD-ABDA-5AD0A008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8CB-A3BD-4DEA-AD2D-19F74D53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0F3-020F-45A7-9A17-B01A6917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7C6-73F0-431C-80DF-9E0B6C49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FCF1-8C8F-41F4-8C8C-0587F731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D401-1711-4BDB-B959-57B3684C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E224-3912-4490-9C3B-037508C4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61FC-A8E2-45A3-90D0-A48039D0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92CB-4950-445E-8E1D-BF83C6B0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CF85-218C-421C-9C3D-09A545B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DD6-9CB2-4727-9FE6-E7F6E6A7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96F8-05E4-463F-9219-7CC219AC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4AB0-ED37-4920-B12B-6368F20B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83C0-5E03-4758-8566-1C85CC73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2C27-A17B-4D7C-BD0D-4963B87A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6EC4-B06D-4681-B5FE-F69EC07C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ED9-D572-495E-A230-72A2B2A3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320-4A8E-4B3E-9B03-E21F0C7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B48-DE2D-43D2-85AF-FAEE755B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BB2-3CB0-480A-B188-32990570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051-E5A4-4570-81EB-E3969C8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41D-36DE-4342-8E2F-905B2FF5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7DF-BF95-4445-B946-3E4ED423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9D9B-C184-467F-97A1-7523ADEA1B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0174-F770-4589-9D4E-E5A6D1F2B6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G:\урок\Безымянный.bmp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йдите и исправьте ошибки в употреблении глаго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Я дочитал книгу и шел сп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Учащиеся задерживались в школе, но все же решили задач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Я долго переписал сочин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Ребенок горько плакал и никак не успокоил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Слушатели долго аплодировали, и пианист играл еще одну пьес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G:\урок\Безымянный.bmp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Выучить правила на стр.11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Напишите сочинение-миниатюру на тему: « Весна в нашем городе », используя глаголы совершенного и несовершенного ви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Упр. 63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олнце за день нагуляется,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а кудрявый лес спускается.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Arial"/>
              </a:rPr>
              <a:t>Лес стоит под шапкой темною,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Arial"/>
              </a:rPr>
              <a:t>В золотом огне купаетс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590544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гуляетс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уска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8360" y="292428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акие вопросы отвечают глагол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почему виды глаголов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голы совершенного вида отвечают в инфинитиве на вопрос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что сделать?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обозначают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законченно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ли действие,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остигше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еде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голы несовершенного вида отвечают в инфинитиве на вопрос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что делать?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е обозначаю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ченность действ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ли действия, достигше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реде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иды глагол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1125000"/>
            <a:ext cx="7704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видом глагола как постоянным морфологическим призна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ся определять вид глаго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особенностями глаголов совершенного и несовершенного вид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ся правильно употреблять глаголы разных видов в реч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G:\урок\Безымянный.bmp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4756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-360"/>
            <a:ext cx="5194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а перестала писать письма подруг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е надоело повторять одно и то ж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продолжал читать, несмотря на шу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ы забыл отправить письм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научились переводить английский текст без словар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G:\урок\Безымянный.bmp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13:37:12Z</dcterms:created>
  <dc:creator>SuperUser</dc:creator>
  <dc:description/>
  <dc:language>en-US</dc:language>
  <cp:lastModifiedBy>Учитель</cp:lastModifiedBy>
  <dcterms:modified xsi:type="dcterms:W3CDTF">2015-04-15T07:10:14Z</dcterms:modified>
  <cp:revision>56</cp:revision>
  <dc:subject/>
  <dc:title>Совершенный и несовершенный вид глагола</dc:title>
</cp:coreProperties>
</file>