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6C4-E9FF-490B-8652-4BE6EC53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6B0-EECA-4EF1-97C8-243EABE3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A7F-D21A-4139-A9A8-76A7CCF7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07F-AD92-4409-A6F2-A3545521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66D6-1EA0-4FFD-B88B-683A8A61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429F-B92D-4776-890B-8C0A232D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28C1-A226-4082-86D8-61743DFF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91F6-8BDE-4EE2-A0D7-1B7321F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1601-C374-47BE-8894-9792F968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0C84-BEA7-413C-A892-34A01F6F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105F-9449-4A54-8C12-3EF33F62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E69-1D8F-4488-97AE-27137C7D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C037-A1DE-4F63-BD66-E998768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AF9A-162A-469D-A33E-1833190D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9FAB-7878-4C32-AF10-02A2E00F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C0F6-6093-46D4-A98C-031CFADF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FCB7-A152-486C-A72D-F61052A2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DC8-8287-499D-A4B4-3A8CCFDA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4CE-09A5-4BD0-A2A0-42C244D3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FFE-42DA-474F-8126-F17D41B3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056-950A-4B13-BDB9-9FD9EA27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911-EB54-4AA5-8CD4-FB2C4BD1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610-D9FF-4D6C-B9B7-E629E2E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DEF-31F4-4989-90F6-184A9246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B95E-C01D-464E-BAF7-6C142F53F44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800D-92ED-41A8-8151-A8305A7E109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4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Verdana"/>
              </a:rPr>
              <a:t>ЗДРАВСТВУЙ, ДЕТСКИЙ САД!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Кому адаптироваться легче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Детям, чьи родители готовили их к посещению сада заранее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Детям, имеющим навыки самостоятельности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Детям, чей режим близок к режиму сада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Детям, чей рацион питания приближен к рациону сада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РЕЖИМ ДНЯ В ДЕТСКОМ САДУ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Правильный режим – основа жизни ребенка, главное условие сохранения его здоровья.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ИЕМ ДЕТЕЙ 7.00 – 8.15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Рано утром детский сад, малышей встречает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5238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УТРЕННЯЯ ГИМНАСТИКА 8.25 – 8.35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тобы день твой был в порядке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чинай его с зарядки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аниматься не ленись 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физкультура это жизнь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40780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АВТРАК 8.30 – 8.5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Кушай правильно, дружок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Вовремя и в меру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Подрастать ты будешь в ср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Здоровым непременн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1844640"/>
            <a:ext cx="40384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Образовательная деятельность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 с 9.00 до 10.1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31800" y="1600200"/>
            <a:ext cx="60804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торой завтрак в 10.1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436840" y="1600200"/>
            <a:ext cx="42688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гулк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28920" y="239868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дготовка к обед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14680" y="1789200"/>
            <a:ext cx="5715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бед в 12.0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Дошкольный возраст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это яркая неповторимая страница в жизни каждого ребенк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910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Times New Roman"/>
              </a:rPr>
              <a:t>Дневной сон с 12.30 до 15.00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одъем, воздушные ванны, подготовка к полднику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59040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лдник в 15.3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гры, самостоятельная деятельность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ечерняя прогу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43164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Учите малыша играть!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грайте с ребенком в детский сад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56000" y="198288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иучайте ребенка к самостоятельности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58800" y="1600200"/>
            <a:ext cx="6024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817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Укрепляйте здоровье ребенка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44520" y="1600200"/>
            <a:ext cx="66549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522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Задача воспитателя состоит в том, чтобы каждый ребенок чувствовал себя комфортно в атмосфере детского сада.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756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Times New Roman"/>
              </a:rPr>
              <a:t>Список необходимых вещей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32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Сменная обувь (подписать)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запасная одежда (трусики, колготки, кофточки);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одежду для группы (платья, юбки - у девочек; шорты, штаны – у мальчиков)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пижама – подписать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спортивная форма (штаны, носки, футболка, кофточка - ветровка)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чешки – подписать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расческа в чехле – подписать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фотография для шкафчика.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30848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9152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Младший возраст – это переход малыша к новым отношениям со взрослыми и сверстниками, с предметным миром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Tahoma"/>
              </a:rPr>
              <a:t>Задача воспитателя пробудить творческую активность детей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608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1629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 нашем садике, друзья,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сто замечательно!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ы - как дружная семья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 нашим воспитателем: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месте песенки поём.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еселимся, празднуем,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 общем, здорово живём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 смеёмся радостно!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Я. Сысоева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Чем может помочь мама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В присутствии ребенка всегда отзывайтесь положительно о воспитателях и садик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В выходные дни не меняйте режим дня ребенк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Постарайтесь, чтобы дома малыша окружала спокойная и бесконфликтная атмосфер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Будьте терпимее к каприза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Дайте в сад любимую игруш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Спокойное утро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 Главное правило таково: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«Спокойна мама – спокоен малыш».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94200" y="3365640"/>
            <a:ext cx="6049800" cy="3492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97120" y="3016440"/>
            <a:ext cx="57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Times New Roman"/>
              </a:rPr>
              <a:t>Состояние ребенка в период адаптации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4581360"/>
            <a:ext cx="281304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6T16:15:29Z</dcterms:created>
  <dc:creator>Admin</dc:creator>
  <dc:description/>
  <dc:language>en-US</dc:language>
  <cp:lastModifiedBy>user</cp:lastModifiedBy>
  <dcterms:modified xsi:type="dcterms:W3CDTF">2017-09-19T11:07:01Z</dcterms:modified>
  <cp:revision>7</cp:revision>
  <dc:subject/>
  <dc:title>ЗДРАВСТВУЙ ДЕТСКИЙ САД!</dc:title>
</cp:coreProperties>
</file>