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516-2F91-4E25-8A04-19AFF7A1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561-B52F-44F5-B125-D6DD273A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4E2BC-EA87-41A5-B4CB-17AB6753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95792-B080-494C-99CF-50AA6A47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C1472-C595-425A-8DE5-A5328DC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BCEC5-4B59-4FF8-AD02-CC59A43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6172E-F1BD-476A-9C61-E8043EE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62C44-3DAE-4AC9-B3EE-460395C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FF28-E6C2-4805-9EDE-84083233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A3C39-5DED-4339-B7D1-8346BF74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2703-457F-46DD-8F26-CAE17B1C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C7E-D8FB-4DFF-87E9-27543FCA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350-A3CA-49BC-9011-F5501870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A4B-1477-484C-850D-6F4D1BD5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CCE5-871D-4F35-B88F-A40CA94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50F3-2A81-4D19-A110-07F1AB4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8A84-FA5C-41DF-8321-D7DB2AC2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3C5-3349-48BF-B47E-1DBA451E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4B8-ABBB-4E6B-A495-CD0B1EC3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92E-957C-4784-B99A-6CA7819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B15-0447-4D9F-90A9-DF21CA33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60CB-9325-49D3-B943-717C8D62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693-A682-4B3D-9D38-C8D8DB4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FC4F-9D36-45F6-A4DE-F5F3294C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4634-CFD3-4133-9938-A9B21B1A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E1E7-0213-4C33-B75C-2EE16633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33BF-FA5C-4F5A-AFC4-38DFEE44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741A-957E-4D86-A7B3-2D887E1B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A614-18E2-49C5-BC97-B5F5D431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0069-E21B-49C2-8084-D395465E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718B-81E2-46CE-B7D9-CB67B91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F85-7800-4EA8-A444-2294D1C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4947-A8A1-413B-998A-7AB1C5E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9377-2E1F-4FC5-8911-6581604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1E12-A4F7-457A-9CD7-0E096C2F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CA7A-BA19-495A-BABC-527D83D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475C-C13B-4214-85B7-87EB23E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845A-33D6-4172-B471-ED1ECEDB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A974-62BC-4FD1-AE7B-3D35E9E1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3BDA9-8527-4CA9-BFA2-8407F79A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969BA-796B-4A9C-8703-1D28772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A6065-5791-4FAA-903C-7C9CF591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6E0-6E11-40E3-8C9E-4088D0A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8C4EE-1BE9-4CA5-B926-FC0EF7D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03FC9-71CD-4A57-BD89-277FF36C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30691-D13B-4A83-B4A0-69BFC13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ED831-067D-4988-B4BA-76CF26EB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D0A8F-0313-4064-9C46-C93D3C9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AD70B-50D0-49DD-86E2-F5B2919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C81C5-FA9A-4A21-A633-A5FCF81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79ADB-7DAF-4ABC-850F-02298757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1ACF0-2822-4A18-BEA9-F41BEFB4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E016-C6E0-40D1-AAA1-6CFC17A3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131-D5B2-46F2-B1B3-E257C6E2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1C5B-D7A0-415B-9DF6-5E180892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7D4D-363D-4604-A33C-5E06B6A8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F62C-7ED8-488E-B2C8-575C189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CFF0-8E5C-4563-8C05-160C7FB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9D95-9CEA-420C-AA25-F300920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3CA3-D055-4B24-8673-BD36B45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A6A6-F12F-4BC5-A498-246B7E55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3F15-BB85-4A9E-A99D-838C5F7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586E-C9B6-4145-B958-053DFA36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4730-00DA-4E3B-96DA-7A392057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E33-DC36-43A4-8E84-0352BC45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B552-F37F-44A4-9605-6E455EB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95D05-C598-42D7-8457-5302B632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E45D0-1CA9-4C53-91C9-43DACC8D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67112-635F-42E1-923F-90377AE8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5BE47-9BE4-4751-B06C-1E1E7B58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7F500-9D8F-47D5-B08F-A2062D99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CE2FA-C51F-42E2-ABC2-FFC015F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D9B92-E2B4-4B4C-8C17-68A7076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CB319-EAB7-4AF0-8BC6-AB7EAEE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40BAB-3D25-4CFE-A0CE-0BAE493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F65-9FAD-4DAD-AF81-B03BDE9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539A2-D9BA-412A-8EA5-D16EDCB3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50873-DBB1-4EB0-9D51-B520C273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00F7F-3169-48AB-9389-2F519B17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E1CD5-4654-4AF3-A539-0381AA11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B6E11-16D6-4370-92A5-04348E9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5C158-E998-40F8-83E7-6C49EA7B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0AD76-BEF4-4059-A64E-3FA7347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FDB98-A60B-486A-A165-50F88C2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700E0-16F1-40ED-AF9B-6294D35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40557-25B1-455B-91C9-B0B9AB39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EF9-1320-473C-88AF-7AA9F47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EE94E-9B73-487D-A9BB-36B6C6D8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BE754-1AF2-43E1-95FB-4117EE7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285F1-0490-41E1-8A5E-7ED2186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ED3E3-9128-4290-AEC2-1653C966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5AEE2-B8CA-4C78-91F5-1FF69BC3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CB1C3-ABA1-4E67-93C2-0719914E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C64C2-5E0C-477E-94B7-23C2DDD7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A35BC-7F90-4B58-80A1-E41DD172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DD4A7-4FFB-43A5-B4DE-BADF22AB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D1943-BB27-4BD8-B57B-834F7D10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562-F2D8-45CE-92F1-B9F9DC6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1165C-73B5-410C-91AC-883CB2A3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67D99-5E8F-4518-B45E-EC5611C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8F98A9-EA13-4D1C-9F08-3865E69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D2FD3-10E7-49B0-A4D6-53EB8BDA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63B75-3FB7-4CC6-ACAD-F026D91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5A5FE-C67B-4E60-90DA-5E9EEC70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76C43-6591-4579-94BB-924C9C6F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49395-AB7F-403D-8F61-13D8727A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7B894-5BEB-432C-BC21-7E03E37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3D781-289C-456E-AD53-427A267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4934C2-32C2-43B7-8A34-98C06A3826D2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20DB87-C2B9-4A39-9972-160A981CBD0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D34081-04EC-4784-846A-D14216EAD88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7C1EA2-FDD1-4FD1-A5A5-76956A352DC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6B5336-22A4-49B2-A255-EC4A9FB5AE7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F7AB4E-7C09-4541-BE49-3A9BFEB5DED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90551F-BE11-46C8-923D-E46C08FE844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ECA331-BE32-4BC3-96E2-87D3200A326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000DD9-6DBA-4ADD-ACAF-1FC032F9DB1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ЭЛЕКТРОЛИТЫ И НЕЭЛЕКТРОЛИТЫ . ЭЛЕКТРОЛИТИЧЕСКАЯ ДИССОЦИАЦ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40370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Электролитами называют вещества, растворы или расплавы которых проводят электрический то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Н/р: соли, кислоты, основания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6160" y="1980720"/>
            <a:ext cx="4038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Неэлектролитами называются вещества, растворы или расплавы которых не проводят электрический то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Н/р: многие органические вещества  (сахар, эфир, бензол и д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entury Schoolbook"/>
              </a:rPr>
              <a:t>ГИДРОЛИЗ</a:t>
            </a:r>
            <a:r>
              <a:rPr b="1" lang="ru-RU" sz="4400" spc="-1" strike="noStrike">
                <a:solidFill>
                  <a:srgbClr val="0000ff"/>
                </a:solidFill>
                <a:latin typeface="Century Schoolbook"/>
              </a:rPr>
              <a:t> СОЛЕЙ </a:t>
            </a:r>
            <a:r>
              <a:rPr b="1" lang="en-GB" sz="4400" spc="-1" strike="noStrike">
                <a:solidFill>
                  <a:srgbClr val="0000ff"/>
                </a:solidFill>
                <a:latin typeface="Century Schoolbook"/>
              </a:rPr>
              <a:t> –</a:t>
            </a:r>
            <a:r>
              <a:rPr b="0" lang="en-GB" sz="4400" spc="-1" strike="noStrike">
                <a:solidFill>
                  <a:srgbClr val="0000ff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0720"/>
            <a:ext cx="82296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Century Schoolbook"/>
              </a:rPr>
              <a:t>реакция обмена между солью и водой,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Century Schoolbook"/>
              </a:rPr>
              <a:t>приводящая к образованию слабого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Century Schoolbook"/>
              </a:rPr>
              <a:t>электроли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8" name="Picture 7" descr="C:\Users\1\AppData\Local\Temp\Rar$DI23.1419\686062126.gif"/>
          <p:cNvPicPr/>
          <p:nvPr/>
        </p:nvPicPr>
        <p:blipFill>
          <a:blip r:embed="rId1"/>
          <a:stretch/>
        </p:blipFill>
        <p:spPr>
          <a:xfrm>
            <a:off x="642960" y="3786120"/>
            <a:ext cx="2200320" cy="24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0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Century Schoolbook"/>
              </a:rPr>
              <a:t>4 ТИПА СОЛЕЙ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entury Schoolbook"/>
              </a:rPr>
              <a:t>соль, образованная</a:t>
            </a: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ильной кислотой и слабым основанием                 (</a:t>
            </a:r>
            <a:r>
              <a:rPr b="1" i="1" lang="en-US" sz="2400" spc="-1" strike="noStrike">
                <a:solidFill>
                  <a:srgbClr val="0033cc"/>
                </a:solidFill>
                <a:latin typeface="Century Schoolbook"/>
              </a:rPr>
              <a:t>AL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Cl</a:t>
            </a:r>
            <a:r>
              <a:rPr b="1" i="1" lang="en-GB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ильным основанием и слабой кислотой (Na</a:t>
            </a:r>
            <a:r>
              <a:rPr b="1" i="1" lang="en-GB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 S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ильным основанием и сильной кислотой (NaCl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лабым основанием и слабой кислотой (</a:t>
            </a:r>
            <a:r>
              <a:rPr b="1" i="1" lang="ru-RU" sz="2400" spc="-1" strike="noStrike">
                <a:solidFill>
                  <a:srgbClr val="0033cc"/>
                </a:solidFill>
                <a:latin typeface="Century Schoolbook"/>
              </a:rPr>
              <a:t>СН3СОО</a:t>
            </a:r>
            <a:r>
              <a:rPr b="1" i="1" lang="en-US" sz="2400" spc="-1" strike="noStrike">
                <a:solidFill>
                  <a:srgbClr val="0033cc"/>
                </a:solidFill>
                <a:latin typeface="Century Schoolbook"/>
              </a:rPr>
              <a:t>NH4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4450320" y="324324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78588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 сильной кислотой и слабым основа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AlCl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3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→  </a:t>
            </a:r>
            <a:r>
              <a:rPr b="1" i="1" lang="en-GB" sz="3200" spc="-1" strike="noStrike" u="sng">
                <a:solidFill>
                  <a:srgbClr val="862110"/>
                </a:solidFill>
                <a:uFillTx/>
                <a:latin typeface="Century Schoolbook"/>
              </a:rPr>
              <a:t>Al</a:t>
            </a:r>
            <a:r>
              <a:rPr b="1" i="1" lang="en-GB" sz="3200" spc="-1" strike="noStrike" u="sng" baseline="30000">
                <a:solidFill>
                  <a:srgbClr val="862110"/>
                </a:solidFill>
                <a:uFillTx/>
                <a:latin typeface="Century Schoolbook"/>
              </a:rPr>
              <a:t>3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3Cl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-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Н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2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О  → 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ОН 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–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Al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3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ОН 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–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→  AlО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2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+  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в растворе в свободном виде остался ион водорода (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), значит среда раствора кисл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entury Schoolbook"/>
              </a:rPr>
              <a:t>полное уравнение гидролиз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AlCl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3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+  Н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2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О  →  AlОНCl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2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+  </a:t>
            </a:r>
            <a:r>
              <a:rPr b="1" i="1" lang="en-GB" sz="3200" spc="-1" strike="noStrike">
                <a:solidFill>
                  <a:srgbClr val="ff0000"/>
                </a:solidFill>
                <a:latin typeface="Century Schoolbook"/>
              </a:rPr>
              <a:t>НCl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, сильным основанием и слабой кислото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i="1" lang="en-US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S            2Na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+S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Н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О  → Н</a:t>
            </a:r>
            <a:r>
              <a:rPr b="1" i="1" lang="ru-RU" sz="32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+ ОН </a:t>
            </a:r>
            <a:r>
              <a:rPr b="1" i="1" lang="ru-RU" sz="3200" spc="-1" strike="noStrike" baseline="30000">
                <a:solidFill>
                  <a:srgbClr val="c00000"/>
                </a:solidFill>
                <a:latin typeface="Century Schoolbook"/>
              </a:rPr>
              <a:t>–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S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2-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 + H</a:t>
            </a:r>
            <a:r>
              <a:rPr b="1" i="1" lang="en-US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O         HS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 + OH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baseline="30000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растворе в свободном виде остался гидроксид ион (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OH</a:t>
            </a:r>
            <a:r>
              <a:rPr b="1" i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), значит среда раствора щелочная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entury Schoolbook"/>
              </a:rPr>
              <a:t>Полное уравнение гидролиз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+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H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O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NaHS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+ </a:t>
            </a:r>
            <a:r>
              <a:rPr b="1" i="1" lang="en-US" sz="3200" spc="-1" strike="noStrike">
                <a:solidFill>
                  <a:srgbClr val="0033cc"/>
                </a:solidFill>
                <a:latin typeface="Century Schoolbook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94" name="Прямая со стрелкой 7"/>
          <p:cNvCxnSpPr/>
          <p:nvPr/>
        </p:nvCxnSpPr>
        <p:spPr>
          <a:xfrm>
            <a:off x="2143080" y="1499760"/>
            <a:ext cx="9295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95" name="Прямая со стрелкой 9"/>
          <p:cNvCxnSpPr/>
          <p:nvPr/>
        </p:nvCxnSpPr>
        <p:spPr>
          <a:xfrm>
            <a:off x="2786040" y="2642760"/>
            <a:ext cx="71496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96" name="Прямая со стрелкой 11"/>
          <p:cNvCxnSpPr/>
          <p:nvPr/>
        </p:nvCxnSpPr>
        <p:spPr>
          <a:xfrm>
            <a:off x="3143160" y="5072040"/>
            <a:ext cx="8582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428760"/>
            <a:ext cx="8115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 сильным основанием и сильной кислот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Schoolbook"/>
              </a:rPr>
              <a:t>                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КС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l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+ Н</a:t>
            </a:r>
            <a:r>
              <a:rPr b="0" lang="ru-RU" sz="32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О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↔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           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КС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↔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 К </a:t>
            </a:r>
            <a:r>
              <a:rPr b="0" lang="en-US" sz="3200" spc="-1" strike="noStrike" baseline="30000">
                <a:solidFill>
                  <a:srgbClr val="0033cc"/>
                </a:solidFill>
                <a:latin typeface="Century Schoolbook"/>
                <a:ea typeface="Arial"/>
              </a:rPr>
              <a:t>+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+ С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l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             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Н</a:t>
            </a:r>
            <a:r>
              <a:rPr b="0" lang="ru-RU" sz="32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О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↔ OH¯ + H</a:t>
            </a:r>
            <a:r>
              <a:rPr b="0" lang="en-US" sz="3200" spc="-1" strike="noStrike" baseline="30000">
                <a:solidFill>
                  <a:srgbClr val="0033cc"/>
                </a:solidFill>
                <a:latin typeface="Century Schoolbook"/>
                <a:ea typeface="Arial"/>
              </a:rPr>
              <a:t> +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entury Schoolbook"/>
                <a:ea typeface="Arial"/>
              </a:rPr>
              <a:t>Все ионы остаются в раствор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</a:t>
            </a:r>
            <a:r>
              <a:rPr b="0" lang="ru-RU" sz="2800" spc="-1" strike="noStrike">
                <a:solidFill>
                  <a:srgbClr val="d74229"/>
                </a:solidFill>
                <a:latin typeface="Century Schoolbook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r>
              <a:rPr b="0" lang="ru-RU" sz="2800" spc="-1" strike="noStrike">
                <a:solidFill>
                  <a:srgbClr val="0066cc"/>
                </a:solidFill>
                <a:latin typeface="Century Schoolbook"/>
                <a:ea typeface="Arial"/>
              </a:rPr>
              <a:t>Среда нейтральная, рН =7, т.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Century Schoolbook"/>
                <a:ea typeface="Arial"/>
              </a:rPr>
              <a:t>концентрации катионов водорода и гидроксид - анионов в растворе равны, как в чистой воде</a:t>
            </a:r>
            <a:r>
              <a:rPr b="0" lang="ru-RU" sz="2400" spc="-1" strike="noStrike">
                <a:solidFill>
                  <a:srgbClr val="0066cc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356760"/>
            <a:ext cx="79009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 слабым основанием и сильной кислот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OON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4                  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OO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 +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N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4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Н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О  → Н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+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 + ОН 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–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OO</a:t>
            </a:r>
            <a:r>
              <a:rPr b="1" lang="en-US" sz="24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 + N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US" sz="24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 +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O            C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OOH + N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*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OON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4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+ 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O         C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OOH + N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*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В этом случае гидролизу подвергаются как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катион,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 так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анион,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образуются слабые электролиты, и среда раствора оказывается близкой к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нейтральной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  или слабокислая, или слабощелочная, что зависит от констант диссоциации кислоты и осн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99" name="Прямая со стрелкой 4"/>
          <p:cNvCxnSpPr/>
          <p:nvPr/>
        </p:nvCxnSpPr>
        <p:spPr>
          <a:xfrm>
            <a:off x="2857680" y="1428840"/>
            <a:ext cx="714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>
            <a:off x="4142880" y="2286000"/>
            <a:ext cx="7153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501" name="Прямая со стрелкой 9"/>
          <p:cNvCxnSpPr/>
          <p:nvPr/>
        </p:nvCxnSpPr>
        <p:spPr>
          <a:xfrm>
            <a:off x="3571920" y="2714760"/>
            <a:ext cx="6433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Индикаторы</a:t>
            </a:r>
            <a:r>
              <a:rPr b="0" lang="ru-RU" sz="4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r>
              <a:rPr b="1" lang="ru-RU" sz="4400" spc="-1" strike="noStrike">
                <a:solidFill>
                  <a:srgbClr val="0033cc"/>
                </a:solidFill>
                <a:latin typeface="Century Schoolbook"/>
              </a:rPr>
              <a:t>вещества, которые меняют окраску в зависимости от среды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Picture 3" descr="C:\Users\1\AppData\Local\Temp\Rar$DI56.240\686062126.jpg"/>
          <p:cNvPicPr/>
          <p:nvPr/>
        </p:nvPicPr>
        <p:blipFill>
          <a:blip r:embed="rId1"/>
          <a:stretch/>
        </p:blipFill>
        <p:spPr>
          <a:xfrm>
            <a:off x="4500720" y="3571920"/>
            <a:ext cx="3786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Box 5"/>
          <p:cNvSpPr/>
          <p:nvPr/>
        </p:nvSpPr>
        <p:spPr>
          <a:xfrm>
            <a:off x="2643120" y="3643200"/>
            <a:ext cx="1643040" cy="370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ИЗМЕНЕНИЕ ЦВЕТА  РАЗЛИЧНЫХ ИНДИКАТОРОВ ПРИ ДЕЙСТВИИ РАСТВОРОВ КИСЛОТ И ЩЕЛОЧЕЙ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85840" y="1285920"/>
          <a:ext cx="8643960" cy="458640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2214720"/>
                <a:gridCol w="20718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Индикато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Кислая сред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рН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Нейтральная среда рН = 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Щелочная среда  рН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акму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олетовый</a:t>
                      </a:r>
                      <a:r>
                        <a:rPr b="1" lang="ru-RU" sz="24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енолфталеи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сцвет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сцвет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лино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тиловый оранже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зо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ранже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ел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7"/>
          <p:cNvSpPr/>
          <p:nvPr/>
        </p:nvSpPr>
        <p:spPr>
          <a:xfrm>
            <a:off x="6286680" y="2857680"/>
            <a:ext cx="1357200" cy="9169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4929120" y="2857680"/>
            <a:ext cx="1357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TextBox 8"/>
          <p:cNvGrpSpPr/>
          <p:nvPr/>
        </p:nvGrpSpPr>
        <p:grpSpPr>
          <a:xfrm>
            <a:off x="3432240" y="2809800"/>
            <a:ext cx="1560600" cy="1055880"/>
            <a:chOff x="3432240" y="2809800"/>
            <a:chExt cx="1560600" cy="1055880"/>
          </a:xfrm>
        </p:grpSpPr>
        <p:pic>
          <p:nvPicPr>
            <p:cNvPr id="510" name="TextBox 8" descr=""/>
            <p:cNvPicPr/>
            <p:nvPr/>
          </p:nvPicPr>
          <p:blipFill>
            <a:blip r:embed="rId1"/>
            <a:stretch/>
          </p:blipFill>
          <p:spPr>
            <a:xfrm>
              <a:off x="3432240" y="2809800"/>
              <a:ext cx="156060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3500280" y="2857680"/>
              <a:ext cx="142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"/>
          <p:cNvSpPr txBox="1"/>
          <p:nvPr/>
        </p:nvSpPr>
        <p:spPr>
          <a:xfrm>
            <a:off x="500040" y="428760"/>
            <a:ext cx="8043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Демонстрационный опыт: </a:t>
            </a: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к раствору соды 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O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  приливаем поочерёдно индикаторы лакмус и метилоранж, фенолфталеи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71280" y="1928880"/>
          <a:ext cx="9072720" cy="1857240"/>
        </p:xfrm>
        <a:graphic>
          <a:graphicData uri="http://schemas.openxmlformats.org/drawingml/2006/table">
            <a:tbl>
              <a:tblPr/>
              <a:tblGrid>
                <a:gridCol w="1370160"/>
                <a:gridCol w="1152360"/>
                <a:gridCol w="835200"/>
                <a:gridCol w="1500120"/>
                <a:gridCol w="1357560"/>
                <a:gridCol w="1357200"/>
                <a:gridCol w="150012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Катион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Анион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Лакм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метилоран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Фенолфтале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Сред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Na</a:t>
                      </a:r>
                      <a:r>
                        <a:rPr b="1" lang="en-US" sz="1800" spc="-1" strike="noStrike" baseline="30000">
                          <a:solidFill>
                            <a:srgbClr val="0000ff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елт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линов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Щело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TextBox 5"/>
          <p:cNvSpPr/>
          <p:nvPr/>
        </p:nvSpPr>
        <p:spPr>
          <a:xfrm>
            <a:off x="214200" y="2928960"/>
            <a:ext cx="135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entury Schoolbook"/>
              </a:rPr>
              <a:t>Na</a:t>
            </a:r>
            <a:r>
              <a:rPr b="1" lang="ru-RU" sz="18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Century Schoolbook"/>
              </a:rPr>
              <a:t>CO</a:t>
            </a:r>
            <a:r>
              <a:rPr b="1" lang="ru-RU" sz="18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ru-RU" sz="18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4857840" y="2857680"/>
            <a:ext cx="22003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15"/>
          <p:cNvSpPr/>
          <p:nvPr/>
        </p:nvSpPr>
        <p:spPr>
          <a:xfrm>
            <a:off x="5643720" y="5072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16"/>
          <p:cNvSpPr/>
          <p:nvPr/>
        </p:nvSpPr>
        <p:spPr>
          <a:xfrm>
            <a:off x="6286680" y="5143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39" descr="C:\Users\1\AppData\Local\Temp\Rar$DI24.7547\image001.gif"/>
          <p:cNvPicPr/>
          <p:nvPr/>
        </p:nvPicPr>
        <p:blipFill>
          <a:blip r:embed="rId2"/>
          <a:stretch/>
        </p:blipFill>
        <p:spPr>
          <a:xfrm>
            <a:off x="6643800" y="4214880"/>
            <a:ext cx="171432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428760"/>
            <a:ext cx="80438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Каждой группе предлагаю по одному примеру  провести исследование солей: 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Al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)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,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H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,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uS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,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P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,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Cl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и на основании наблюдений сделать вывод о сред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85840" y="2500200"/>
          <a:ext cx="8643960" cy="2036880"/>
        </p:xfrm>
        <a:graphic>
          <a:graphicData uri="http://schemas.openxmlformats.org/drawingml/2006/table">
            <a:tbl>
              <a:tblPr/>
              <a:tblGrid>
                <a:gridCol w="1649160"/>
                <a:gridCol w="1398600"/>
                <a:gridCol w="1398600"/>
                <a:gridCol w="1400400"/>
                <a:gridCol w="1398600"/>
                <a:gridCol w="13986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Вещест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Катио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Анио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Лакму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Метилоран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71680" y="49968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роцесс распада электролитов на ионы в водном растворе или расплаве называется электролитической диссоциацией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 Schoolbook"/>
              </a:rPr>
              <a:t>Положительные ионы называют катионами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 Schoolbook"/>
              </a:rPr>
              <a:t>отрицательные ионы – анионам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 катионам относятся: ион водорода и ионы металлов, катионы основных солей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 анионам относятся: гидроксид-ион, ионы кислотных остатков, анионы кислых солей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Задание №1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а) используя метилоранж и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ли </a:t>
            </a: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 лакмус, определите среду раствора соли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сульфата алюми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6840" y="713880"/>
            <a:ext cx="7467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 Schoolbook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entury Schoolbook"/>
              </a:rPr>
              <a:t>раствор соли, образованной слабым основанием и сильной кислотой имеет кислую сред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ЗАДАНИЕ №2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а) используя метилоранж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 или </a:t>
            </a: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 лакмус, определите среду раствора сол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и фосфата натр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9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Century Schoolbook"/>
              </a:rPr>
              <a:t>КАКОЙ ВЫВОД МОЖНО СДЕЛАТЬ, ИСХОДЯ ИЗ СОСТАВА СОЛИ И СРЕДОЙ ЕЁ РАСТВОРА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00040" y="1500120"/>
            <a:ext cx="7858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Раствор соли, образованной сильным основанием и слабой кислотой имеет щелочную сред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Задание №3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а</a:t>
            </a: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) определить среду раствора соли, образованной сильной кислотой и сильным основанием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entury Schoolbook"/>
              </a:rPr>
              <a:t>NaCI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б</a:t>
            </a: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) обосновать свой отве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 Schoolbook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Среда нейтральная,т.к. не образуется слабый электролит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такие соли гидролизу не подвергаю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285840" y="428760"/>
          <a:ext cx="8358120" cy="4043160"/>
        </p:xfrm>
        <a:graphic>
          <a:graphicData uri="http://schemas.openxmlformats.org/drawingml/2006/table">
            <a:tbl>
              <a:tblPr/>
              <a:tblGrid>
                <a:gridCol w="1285920"/>
                <a:gridCol w="1000080"/>
                <a:gridCol w="1063440"/>
                <a:gridCol w="1067040"/>
                <a:gridCol w="1060200"/>
                <a:gridCol w="1667160"/>
                <a:gridCol w="1214280"/>
              </a:tblGrid>
              <a:tr h="78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щ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т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км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ил-оран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нол-фтале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во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о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ё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ин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ло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ов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анже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285840" y="4572000"/>
          <a:ext cx="8501040" cy="185724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00080"/>
                <a:gridCol w="1285920"/>
                <a:gridCol w="1141200"/>
                <a:gridCol w="1433520"/>
                <a:gridCol w="1497240"/>
              </a:tblGrid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30000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анж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йтра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800" spc="-1" strike="noStrike" baseline="-25000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800" spc="-1" strike="noStrike" baseline="30000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ин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лоч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MgCI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r>
                        <a:rPr b="1" lang="ru-RU" sz="1800" spc="-1" strike="noStrike" baseline="30000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СИЛУ УМУ ПРИДАЮТ УПРАЖНЕ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.Кислую среду имеет водный раств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P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K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ZnS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2.Щелочную среду имеет водный раств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Fe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K</a:t>
            </a:r>
            <a:r>
              <a:rPr b="1" lang="ru-RU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Ba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8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2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3.Нейтральную  среду имеет раств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i="1" lang="ru-RU" sz="2400" spc="-1" strike="noStrike">
                <a:solidFill>
                  <a:srgbClr val="00cc66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. Нитрата меди (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II) Cu(N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)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Нитрата бар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BaN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Ацетата кал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CH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OONH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Карбоната натрия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(C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)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4.Одинаковую реакцию среды имеют растворы </a:t>
            </a: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карбоната натрия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нитрата бар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BaN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сульфита кал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K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сульфата натр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S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хлорида алюмин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AICI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0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285480"/>
            <a:ext cx="840096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5.Кислую  реакцию среды имеет каждый из двух раствор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Ba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и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Zn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Al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и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Fe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Fe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и 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KCl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и 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a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6.Соль, образованная сильным основанием и сильной кислот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Гидролизуется по катио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Гидролизуется по анио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Не подвергается гидролиз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Полностью разлагается вод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00" fill="hold"/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entury Schoolbook"/>
              </a:rPr>
              <a:t>ДИССОЦИАЦИЯ КИСЛОТ: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H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S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→ 2H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+ S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HCl → H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+ Cl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HN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→ H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+ N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68" name="Прямая со стрелкой 4"/>
          <p:cNvCxnSpPr/>
          <p:nvPr/>
        </p:nvCxnSpPr>
        <p:spPr>
          <a:xfrm flipH="1" flipV="1">
            <a:off x="3714480" y="264240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9" name="Прямая со стрелкой 8"/>
          <p:cNvCxnSpPr/>
          <p:nvPr/>
        </p:nvCxnSpPr>
        <p:spPr>
          <a:xfrm flipH="1" flipV="1">
            <a:off x="3785760" y="53575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70" name="Прямая со стрелкой 9"/>
          <p:cNvCxnSpPr/>
          <p:nvPr/>
        </p:nvCxnSpPr>
        <p:spPr>
          <a:xfrm flipH="1" flipV="1">
            <a:off x="3928680" y="40003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28400" y="428760"/>
            <a:ext cx="81867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7. Установите соответствие между составом соли  и реакцией среды её водного раств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00040" y="1397160"/>
          <a:ext cx="8072640" cy="2103120"/>
        </p:xfrm>
        <a:graphic>
          <a:graphicData uri="http://schemas.openxmlformats.org/drawingml/2006/table">
            <a:tbl>
              <a:tblPr/>
              <a:tblGrid>
                <a:gridCol w="4035600"/>
                <a:gridCol w="40370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Состав со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Реакция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6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А.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NaN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Б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AI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(S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В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NaN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Г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К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N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1.Кисл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2. Щело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3. Нейтраль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1285920" y="421488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6840" y="214200"/>
            <a:ext cx="8115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8. Установите соответствие между названием соли  и средой её водного раство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571680" y="1397160"/>
          <a:ext cx="7858080" cy="229212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Название со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Среда раствор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21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. нитрат свинца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b(NO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. карбонат калия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. нитрат натрия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aNO</a:t>
                      </a:r>
                      <a:r>
                        <a:rPr b="0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.сульфид лития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(Li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.Кисл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. Щелоч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. Нейтраль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500120" y="4286160"/>
          <a:ext cx="6096240" cy="943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571320"/>
            <a:ext cx="79725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. Установите соответствие между названием соли  и отношением её к гидроли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42960" y="1571760"/>
          <a:ext cx="7286760" cy="183492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Название со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Отношение к гидролизу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А) хлорид ци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Б) сульфид ка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В) нитрат нат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) нитрат меди (</a:t>
                      </a: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идролизуется по кат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идролизуется по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идролизуется по катиону и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Не гидролизу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1285920" y="400068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6840" y="571320"/>
            <a:ext cx="81867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.Установите соответствие между названием соли  и отношением её к гидроли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714240" y="1643040"/>
          <a:ext cx="7715520" cy="2673360"/>
        </p:xfrm>
        <a:graphic>
          <a:graphicData uri="http://schemas.openxmlformats.org/drawingml/2006/table">
            <a:tbl>
              <a:tblPr/>
              <a:tblGrid>
                <a:gridCol w="3857760"/>
                <a:gridCol w="38577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НАЗВАНИЕ С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ОТНОШЕНИЕ К ГИДРОЛИЗ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) сульфид цез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) сульфат алюми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) карбонат нат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)ацетат аммо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.Гидролизуется по кат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.Гидролизуется по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.Гидролизуется по катиону и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.Не гидролизу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571760" y="471492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28400" y="499680"/>
            <a:ext cx="74674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11. Установите соответствие между веществом и продуктами его гидроли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42960" y="1500120"/>
          <a:ext cx="7572240" cy="285768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Формула 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Продукты гидро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l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K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ZnCl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aC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.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Zn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OH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l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и 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H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l(OH)S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l(OH)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a(OH)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C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a(OH)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C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aHCO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a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1571760" y="471492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ДОМ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Заполните технологические карты и напишите уравнения гидролиза в ионном и молекулярном вид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ДИССОЦИАЦИЯ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ОСНОВАНИЙ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NaOH → Na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+ OH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Ca(OH)</a:t>
            </a:r>
            <a:r>
              <a:rPr b="1" lang="en-GB" sz="4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→ Ca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2+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+ 2OH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6840" y="642600"/>
            <a:ext cx="74674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Диссоциация растворимых солей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NaCI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 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Na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+ </a:t>
            </a:r>
            <a:r>
              <a:rPr b="1" lang="ru-RU" sz="4000" spc="-1" strike="noStrike" baseline="30000">
                <a:solidFill>
                  <a:srgbClr val="0033cc"/>
                </a:solidFill>
                <a:latin typeface="Century Schoolbook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 +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CI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AI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(SO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)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2AI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3+ 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3SO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74" name="Прямая со стрелкой 8"/>
          <p:cNvCxnSpPr/>
          <p:nvPr/>
        </p:nvCxnSpPr>
        <p:spPr>
          <a:xfrm>
            <a:off x="1785600" y="2142720"/>
            <a:ext cx="4294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5" name="Прямая со стрелкой 11"/>
          <p:cNvCxnSpPr/>
          <p:nvPr/>
        </p:nvCxnSpPr>
        <p:spPr>
          <a:xfrm>
            <a:off x="2571840" y="3785760"/>
            <a:ext cx="4291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c00000"/>
                </a:solidFill>
                <a:uFillTx/>
                <a:latin typeface="Century Schoolbook"/>
              </a:rPr>
              <a:t>ДИССОЦИАЦИЯ ВОД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98108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entury Schoolbook"/>
              </a:rPr>
              <a:t>Н</a:t>
            </a:r>
            <a:r>
              <a:rPr b="1" lang="en-GB" sz="5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GB" sz="5400" spc="-1" strike="noStrike">
                <a:solidFill>
                  <a:srgbClr val="0033cc"/>
                </a:solidFill>
                <a:latin typeface="Century Schoolbook"/>
              </a:rPr>
              <a:t>О  → Н</a:t>
            </a:r>
            <a:r>
              <a:rPr b="1" lang="en-GB" sz="54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5400" spc="-1" strike="noStrike">
                <a:solidFill>
                  <a:srgbClr val="0033cc"/>
                </a:solidFill>
                <a:latin typeface="Century Schoolbook"/>
              </a:rPr>
              <a:t> + ОН </a:t>
            </a:r>
            <a:r>
              <a:rPr b="1" lang="en-GB" sz="5400" spc="-1" strike="noStrike" baseline="30000">
                <a:solidFill>
                  <a:srgbClr val="0033cc"/>
                </a:solidFill>
                <a:latin typeface="Century Schoolbook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78" name="Прямая со стрелкой 4"/>
          <p:cNvCxnSpPr/>
          <p:nvPr/>
        </p:nvCxnSpPr>
        <p:spPr>
          <a:xfrm flipH="1" flipV="1">
            <a:off x="3499920" y="3642480"/>
            <a:ext cx="5011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ransition>
    <p:split dir="in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760" y="-360"/>
            <a:ext cx="8229600" cy="662940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entury Schoolbook"/>
              </a:rPr>
              <a:t>В чистой воде соотношение ионов водорода и гидроксид-ионов равное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Century Schoolbook"/>
              </a:rPr>
              <a:t>Н</a:t>
            </a:r>
            <a:r>
              <a:rPr b="0" lang="en-GB" sz="3200" spc="-1" strike="noStrike" baseline="30000">
                <a:solidFill>
                  <a:srgbClr val="660066"/>
                </a:solidFill>
                <a:latin typeface="Century Schoolbook"/>
              </a:rPr>
              <a:t>+</a:t>
            </a:r>
            <a:r>
              <a:rPr b="0" lang="en-GB" sz="3200" spc="-1" strike="noStrike">
                <a:solidFill>
                  <a:srgbClr val="660066"/>
                </a:solidFill>
                <a:latin typeface="Century Schoolbook"/>
              </a:rPr>
              <a:t> = ОН</a:t>
            </a:r>
            <a:r>
              <a:rPr b="0" lang="en-GB" sz="3200" spc="-1" strike="noStrike" baseline="30000">
                <a:solidFill>
                  <a:srgbClr val="660066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entury Schoolbook"/>
              </a:rPr>
              <a:t>среда</a:t>
            </a: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Century Schoolbook"/>
              </a:rPr>
              <a:t>нейтральн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entury Schoolbook"/>
              </a:rPr>
              <a:t>При добавлении кислоты равновесие нарушается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Century Schoolbook"/>
              </a:rPr>
              <a:t>Н</a:t>
            </a:r>
            <a:r>
              <a:rPr b="0" lang="en-GB" sz="3200" spc="-1" strike="noStrike" baseline="30000">
                <a:solidFill>
                  <a:srgbClr val="ff3300"/>
                </a:solidFill>
                <a:latin typeface="Century Schoolbook"/>
              </a:rPr>
              <a:t>+</a:t>
            </a:r>
            <a:r>
              <a:rPr b="0" lang="en-GB" sz="3200" spc="-1" strike="noStrike">
                <a:solidFill>
                  <a:srgbClr val="ff3300"/>
                </a:solidFill>
                <a:latin typeface="Century Schoolbook"/>
              </a:rPr>
              <a:t> &gt; ОН</a:t>
            </a:r>
            <a:r>
              <a:rPr b="0" lang="en-GB" sz="3200" spc="-1" strike="noStrike" baseline="30000">
                <a:solidFill>
                  <a:srgbClr val="ff3300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9933ff"/>
                </a:solidFill>
                <a:latin typeface="Century Schoolbook"/>
              </a:rPr>
              <a:t>среда раствора </a:t>
            </a:r>
            <a:r>
              <a:rPr b="0" lang="en-GB" sz="3200" spc="-1" strike="noStrike">
                <a:solidFill>
                  <a:srgbClr val="ff0000"/>
                </a:solidFill>
                <a:latin typeface="Century Schoolbook"/>
              </a:rPr>
              <a:t>кислая</a:t>
            </a:r>
            <a:r>
              <a:rPr b="0" lang="en-GB" sz="3200" spc="-1" strike="noStrike">
                <a:solidFill>
                  <a:srgbClr val="ff3300"/>
                </a:solidFill>
                <a:latin typeface="Century Schoolbook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При добавлении щёлочи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Н</a:t>
            </a:r>
            <a:r>
              <a:rPr b="0" lang="en-GB" sz="32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 &lt; ОН</a:t>
            </a:r>
            <a:r>
              <a:rPr b="0" lang="en-GB" sz="32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9933ff"/>
                </a:solidFill>
                <a:latin typeface="Century Schoolbook"/>
              </a:rPr>
              <a:t>среда раствора </a:t>
            </a: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щелочна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32040"/>
            <a:ext cx="8229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33cc"/>
                </a:solidFill>
                <a:latin typeface="Bauhaus 93"/>
              </a:rPr>
              <a:t>ГИДРОЛИЗ СОЛЕЙ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1" name="Picture 10" descr="L01p1p02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5008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1"/>
          <p:cNvSpPr/>
          <p:nvPr/>
        </p:nvSpPr>
        <p:spPr>
          <a:xfrm>
            <a:off x="928800" y="1071720"/>
            <a:ext cx="71434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Гидролиз соле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165200" y="6286680"/>
            <a:ext cx="3215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читель химии: А.А. Н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ГИДРОЛИ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З - 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от греч. «</a:t>
            </a:r>
            <a:r>
              <a:rPr b="1" i="1" lang="en-GB" sz="4000" spc="-1" strike="noStrike">
                <a:solidFill>
                  <a:srgbClr val="0033cc"/>
                </a:solidFill>
                <a:latin typeface="Century Schoolbook"/>
              </a:rPr>
              <a:t>гидро</a:t>
            </a: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» - вода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«</a:t>
            </a:r>
            <a:r>
              <a:rPr b="1" i="1" lang="en-GB" sz="4000" spc="-1" strike="noStrike">
                <a:solidFill>
                  <a:srgbClr val="0033cc"/>
                </a:solidFill>
                <a:latin typeface="Century Schoolbook"/>
              </a:rPr>
              <a:t>лизис</a:t>
            </a: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» - разложение</a:t>
            </a: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*</cp:lastModifiedBy>
  <dcterms:modified xsi:type="dcterms:W3CDTF">2012-02-12T14:59:21Z</dcterms:modified>
  <cp:revision>65</cp:revision>
  <dc:subject/>
  <dc:title>PowerPoint Presentation</dc:title>
</cp:coreProperties>
</file>