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01E-4563-4A6E-90D0-34905E0B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0B0-A055-4709-8FFB-9D5FE44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EBDB7-5457-48E4-B8FC-0943D7B6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BC2CB-6C48-47BA-BC91-58647D5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C7C8D-4514-4FAB-8E64-63C0906D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81F22-0E1F-429E-821F-CB2B08A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60A50-BC93-497C-B778-320531E4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8ED3-3E35-4DA4-90EC-791A44A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26699-4D7C-4A5E-9173-CF6D53BF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DAB45-A982-425E-B1C6-BB4365FA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EF2B-14D1-43DA-854B-92661D33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E0A-9FE9-4924-9E77-60211968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BB6-AFCF-4208-B2C8-DACE35DE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9FFD-C4B8-4557-B98A-640E0604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D6FB-8936-4820-BEE1-517C6F53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61E0-9478-4EE2-BAF2-9719273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8BE7-A0AE-4E30-85EA-D4CDDFFE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4C50-9779-431F-ABF3-74C88B57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C73-CB82-461E-BC87-36E79F3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46F-E77E-4FDA-A797-D43BD3D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A0E-E54F-4B69-AF7F-B6BA6DE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5A6-8D4D-4FEA-BB40-BC2AC5D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CE74-92BB-4A4B-8A34-86C9C12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BD8D-CEE3-477F-A27B-55053353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596-293A-4997-8D81-50833724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D532-5AD5-40F7-9E8F-DD2ADA8D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B019-0071-4D0C-AE75-2D3F028D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942F-C3E8-4355-B00C-7C229BD4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558A-8565-4A7C-8AD1-3A7A3AA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029A-971E-49C8-90FC-319D6E1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5DFE-D63F-4058-9A30-3A9328F6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00A-4554-4B73-A9BB-EB8BD30F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9172-A257-44F6-BF5C-9085B40C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CC35-FA24-4D6C-BCCF-577E302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2E16-1BF7-4F72-B468-84D44FF9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684C-0EC9-4923-A69F-224A2D1E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0A8C-DA4C-4364-BD88-1395AC6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3207-0D2A-480A-A09F-58F79790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A357-BF61-4C6F-91CE-C098CD02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F6860-B534-45C9-83A7-8504D60B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522ED-53EC-432B-AC85-130B82AD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1ED39-8B51-4694-9A24-3ED7A117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19F-0197-4A72-A6F7-A3DC02EB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E6516-1ACE-442C-83D3-63A97521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25266-087A-4F05-9B27-929CE501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14EB4-E3BA-436F-A308-F25B9D1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CB214-8A70-4042-96B4-3829DB0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B5D19-297F-4ACA-BDA3-E53D8C7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237A2-E575-453A-B67A-6F1585A1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1AC8A-AAA8-4152-86C9-8277F1E1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178A2-9DF8-48AA-BB70-9A86E005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BC45A-A6B1-4509-9BFA-A9483C5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8AB5-1F66-4492-B25B-DCDADDCE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370-A4D2-4003-86C2-0A85C2C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14DD-6049-48FC-9868-D313810F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EB52-82E0-4E68-A6CA-3833F28C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0EB82-7A49-4A2C-B4FA-EDBE79F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0854-DC1B-4BA7-95DF-22BD05EF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0F4B-9D97-45AC-B586-61A8C47C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2BAE-74BC-43A1-895A-5A22262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94418-4F5D-4D06-99D7-979EEF8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A7FD-83E8-4502-97E5-979F55D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30D7-74E3-49EE-8255-BE9CC5D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E7FA-AF95-4E37-830F-EA05613F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E25-06B4-428B-8953-CB0B61F0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9182-7934-4534-A535-CB2080CA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386FC-1B9D-4CA6-976B-62B62C3D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53E9D-0C09-41E6-9B77-B8B316E7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FBB07-8E94-4F97-BB6C-C8292BC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BCB4E-175D-460F-A71B-D73EC14D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06367-77B7-4312-B935-C849ED50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BEE5E-07A9-400C-8581-1042B837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2A506-1AB7-410C-AF93-4610E87F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A20F7-6444-4669-8D34-CB6D52F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606E4-DB60-4709-A9A8-764C93C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008-78F7-4109-AE2C-901C1DB8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A3521-4BD6-4836-BE2C-259E0AAD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25905-4150-4919-968A-9C452780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FA5BD-6296-47A6-AD09-62B4EA11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A2FAF-27A6-4F2D-8BA2-08CB4BBC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F2D36-3219-4452-926C-1EA7849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AA193-419E-4F6F-A4B7-983B1F93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6DD68-B3F1-4F62-826B-F472A63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311BC-645A-4297-843D-F6B33CC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2B856-7C5F-4C93-B280-9FA5975F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D6F3C-FE99-4712-ACC8-1C0D9DF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148-98C3-47C8-8680-B90250E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03607-4676-4A02-8434-3E1C22D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EF5E7-B9FA-4D6A-953F-F7F2636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DE31B-DE2B-4CB7-8F05-56FB3868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25989-0BBA-441F-8078-87BD601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F9ED2-3871-4DF8-99E8-78FB7687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F23802-390B-48E9-B08A-DD894480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D8551-CB38-4CD9-9821-288F107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727B9-57B8-45E0-AE7C-710ED92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B14B2-68F2-4474-8C3E-4B40737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05BA3-9962-4E7F-9538-14586B6E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8A1-13B3-41E4-BD3C-6A0AF45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316CF-A46A-48D2-8C89-5110848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D0AF1-6931-4A4B-B354-2E5E719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3629D-17AE-4197-BC71-189468E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3FD01-1D51-42F8-B002-55BAFA4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7FF25-B002-45BE-AB28-2D9F281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EDBA2-DEF4-4CE8-B4E2-43D06A4C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944A94-8AD0-4C9B-A64B-8E908446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997FC-D593-43C4-8D51-320DF2CF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7C17B-3456-4AA0-A52A-47C0760E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CC35D-431A-4F2B-95B3-8CE47629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E51122-0CB9-4D68-AE1E-1BE8D750EDC4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2526E9-D928-43C6-8F14-7769539C1E2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5E8997-7D01-4D33-8900-21FD5E619626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7E1F5A-11D7-44A5-97F3-D84D661B6496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099C3B-4876-4CB5-8F00-B0611B80A225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8DE119-4E3C-439A-BE4A-2C6EC6F26AA6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E64877-83D8-495B-9C8C-CED0BC1AD441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A6734A-7D80-4DC6-A11A-3C044294481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434BF4-6204-4E05-B47F-4F98896509B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ЭЛЕКТРОЛИТЫ И НЕЭЛЕКТРОЛИТЫ . ЭЛЕКТРОЛИТИЧЕСКАЯ ДИССОЦИАЦ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40370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Электролитами называют вещества, растворы или расплавы которых проводят электрический то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Н/р: соли, кислоты, основания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6160" y="1980720"/>
            <a:ext cx="4038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Неэлектролитами называются вещества, растворы или расплавы которых не проводят электрический то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Н/р: многие органические вещества  (сахар, эфир, бензол и д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entury Schoolbook"/>
              </a:rPr>
              <a:t>ГИДРОЛИЗ</a:t>
            </a:r>
            <a:r>
              <a:rPr b="1" lang="ru-RU" sz="4400" spc="-1" strike="noStrike">
                <a:solidFill>
                  <a:srgbClr val="0000ff"/>
                </a:solidFill>
                <a:latin typeface="Century Schoolbook"/>
              </a:rPr>
              <a:t> СОЛЕЙ </a:t>
            </a:r>
            <a:r>
              <a:rPr b="1" lang="en-GB" sz="4400" spc="-1" strike="noStrike">
                <a:solidFill>
                  <a:srgbClr val="0000ff"/>
                </a:solidFill>
                <a:latin typeface="Century Schoolbook"/>
              </a:rPr>
              <a:t> –</a:t>
            </a:r>
            <a:r>
              <a:rPr b="0" lang="en-GB" sz="4400" spc="-1" strike="noStrike">
                <a:solidFill>
                  <a:srgbClr val="0000ff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0720"/>
            <a:ext cx="82296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Century Schoolbook"/>
              </a:rPr>
              <a:t>реакция обмена между солью и водой,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Century Schoolbook"/>
              </a:rPr>
              <a:t>приводящая к образованию слабого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Century Schoolbook"/>
              </a:rPr>
              <a:t>электроли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8" name="Picture 7" descr="C:\Users\1\AppData\Local\Temp\Rar$DI23.1419\686062126.gif"/>
          <p:cNvPicPr/>
          <p:nvPr/>
        </p:nvPicPr>
        <p:blipFill>
          <a:blip r:embed="rId1"/>
          <a:stretch/>
        </p:blipFill>
        <p:spPr>
          <a:xfrm>
            <a:off x="642960" y="3786120"/>
            <a:ext cx="2200320" cy="24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0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Century Schoolbook"/>
              </a:rPr>
              <a:t>4 ТИПА СОЛЕЙ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entury Schoolbook"/>
              </a:rPr>
              <a:t>соль, образованная</a:t>
            </a: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ильной кислотой и слабым основанием                 (</a:t>
            </a:r>
            <a:r>
              <a:rPr b="1" i="1" lang="en-US" sz="2400" spc="-1" strike="noStrike">
                <a:solidFill>
                  <a:srgbClr val="0033cc"/>
                </a:solidFill>
                <a:latin typeface="Century Schoolbook"/>
              </a:rPr>
              <a:t>AL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Cl</a:t>
            </a:r>
            <a:r>
              <a:rPr b="1" i="1" lang="en-GB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ильным основанием и слабой кислотой (Na</a:t>
            </a:r>
            <a:r>
              <a:rPr b="1" i="1" lang="en-GB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 S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ильным основанием и сильной кислотой (NaCl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слабым основанием и слабой кислотой (</a:t>
            </a:r>
            <a:r>
              <a:rPr b="1" i="1" lang="ru-RU" sz="2400" spc="-1" strike="noStrike">
                <a:solidFill>
                  <a:srgbClr val="0033cc"/>
                </a:solidFill>
                <a:latin typeface="Century Schoolbook"/>
              </a:rPr>
              <a:t>СН3СОО</a:t>
            </a:r>
            <a:r>
              <a:rPr b="1" i="1" lang="en-US" sz="2400" spc="-1" strike="noStrike">
                <a:solidFill>
                  <a:srgbClr val="0033cc"/>
                </a:solidFill>
                <a:latin typeface="Century Schoolbook"/>
              </a:rPr>
              <a:t>NH4</a:t>
            </a:r>
            <a:r>
              <a:rPr b="1" i="1" lang="en-GB" sz="2400" spc="-1" strike="noStrike">
                <a:solidFill>
                  <a:srgbClr val="0033cc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4450320" y="324324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78588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 сильной кислотой и слабым основа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AlCl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3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→  </a:t>
            </a:r>
            <a:r>
              <a:rPr b="1" i="1" lang="en-GB" sz="3200" spc="-1" strike="noStrike" u="sng">
                <a:solidFill>
                  <a:srgbClr val="862110"/>
                </a:solidFill>
                <a:uFillTx/>
                <a:latin typeface="Century Schoolbook"/>
              </a:rPr>
              <a:t>Al</a:t>
            </a:r>
            <a:r>
              <a:rPr b="1" i="1" lang="en-GB" sz="3200" spc="-1" strike="noStrike" u="sng" baseline="30000">
                <a:solidFill>
                  <a:srgbClr val="862110"/>
                </a:solidFill>
                <a:uFillTx/>
                <a:latin typeface="Century Schoolbook"/>
              </a:rPr>
              <a:t>3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3Cl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-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Н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2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О  → 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ОН 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–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Al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3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+ ОН 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–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→  AlО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2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+  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в растворе в свободном виде остался ион водорода (Н</a:t>
            </a:r>
            <a:r>
              <a:rPr b="1" i="1" lang="en-GB" sz="3200" spc="-1" strike="noStrike" baseline="30000">
                <a:solidFill>
                  <a:srgbClr val="862110"/>
                </a:solidFill>
                <a:latin typeface="Century Schoolbook"/>
              </a:rPr>
              <a:t>+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), значит среда раствора кисл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entury Schoolbook"/>
              </a:rPr>
              <a:t>полное уравнение гидролиз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AlCl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3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+  Н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2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О  →  AlОНCl</a:t>
            </a:r>
            <a:r>
              <a:rPr b="1" i="1" lang="en-GB" sz="3200" spc="-1" strike="noStrike" baseline="-25000">
                <a:solidFill>
                  <a:srgbClr val="862110"/>
                </a:solidFill>
                <a:latin typeface="Century Schoolbook"/>
              </a:rPr>
              <a:t>2</a:t>
            </a:r>
            <a:r>
              <a:rPr b="1" i="1" lang="en-GB" sz="3200" spc="-1" strike="noStrike">
                <a:solidFill>
                  <a:srgbClr val="862110"/>
                </a:solidFill>
                <a:latin typeface="Century Schoolbook"/>
              </a:rPr>
              <a:t>  +  </a:t>
            </a:r>
            <a:r>
              <a:rPr b="1" i="1" lang="en-GB" sz="3200" spc="-1" strike="noStrike">
                <a:solidFill>
                  <a:srgbClr val="ff0000"/>
                </a:solidFill>
                <a:latin typeface="Century Schoolbook"/>
              </a:rPr>
              <a:t>НCl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, сильным основанием и слабой кислото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i="1" lang="en-US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S            2Na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+S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Н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О  → Н</a:t>
            </a:r>
            <a:r>
              <a:rPr b="1" i="1" lang="ru-RU" sz="32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+ ОН </a:t>
            </a:r>
            <a:r>
              <a:rPr b="1" i="1" lang="ru-RU" sz="3200" spc="-1" strike="noStrike" baseline="30000">
                <a:solidFill>
                  <a:srgbClr val="c00000"/>
                </a:solidFill>
                <a:latin typeface="Century Schoolbook"/>
              </a:rPr>
              <a:t>–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S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2-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 + H</a:t>
            </a:r>
            <a:r>
              <a:rPr b="1" i="1" lang="en-US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O         HS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 + OH</a:t>
            </a:r>
            <a:r>
              <a:rPr b="1" i="1" lang="en-US" sz="32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baseline="30000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растворе в свободном виде остался гидроксид ион (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OH</a:t>
            </a:r>
            <a:r>
              <a:rPr b="1" i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), значит среда раствора щелочная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entury Schoolbook"/>
              </a:rPr>
              <a:t>Полное уравнение гидролиз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+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H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O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NaHS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+ </a:t>
            </a:r>
            <a:r>
              <a:rPr b="1" i="1" lang="en-US" sz="3200" spc="-1" strike="noStrike">
                <a:solidFill>
                  <a:srgbClr val="0033cc"/>
                </a:solidFill>
                <a:latin typeface="Century Schoolbook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94" name="Прямая со стрелкой 7"/>
          <p:cNvCxnSpPr/>
          <p:nvPr/>
        </p:nvCxnSpPr>
        <p:spPr>
          <a:xfrm>
            <a:off x="2143080" y="1499760"/>
            <a:ext cx="9295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95" name="Прямая со стрелкой 9"/>
          <p:cNvCxnSpPr/>
          <p:nvPr/>
        </p:nvCxnSpPr>
        <p:spPr>
          <a:xfrm>
            <a:off x="2786040" y="2642760"/>
            <a:ext cx="71496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96" name="Прямая со стрелкой 11"/>
          <p:cNvCxnSpPr/>
          <p:nvPr/>
        </p:nvCxnSpPr>
        <p:spPr>
          <a:xfrm>
            <a:off x="3143160" y="5072040"/>
            <a:ext cx="8582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428760"/>
            <a:ext cx="8115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 сильным основанием и сильной кислот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Schoolbook"/>
              </a:rPr>
              <a:t>                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КС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l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+ Н</a:t>
            </a:r>
            <a:r>
              <a:rPr b="0" lang="ru-RU" sz="32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О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↔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           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КС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↔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 К </a:t>
            </a:r>
            <a:r>
              <a:rPr b="0" lang="en-US" sz="3200" spc="-1" strike="noStrike" baseline="30000">
                <a:solidFill>
                  <a:srgbClr val="0033cc"/>
                </a:solidFill>
                <a:latin typeface="Century Schoolbook"/>
                <a:ea typeface="Arial"/>
              </a:rPr>
              <a:t>+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+ С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l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             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Н</a:t>
            </a:r>
            <a:r>
              <a:rPr b="0" lang="ru-RU" sz="32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О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entury Schoolbook"/>
                <a:ea typeface="Arial"/>
              </a:rPr>
              <a:t>↔ OH¯ + H</a:t>
            </a:r>
            <a:r>
              <a:rPr b="0" lang="en-US" sz="3200" spc="-1" strike="noStrike" baseline="30000">
                <a:solidFill>
                  <a:srgbClr val="0033cc"/>
                </a:solidFill>
                <a:latin typeface="Century Schoolbook"/>
                <a:ea typeface="Arial"/>
              </a:rPr>
              <a:t> +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entury Schoolbook"/>
                <a:ea typeface="Arial"/>
              </a:rPr>
              <a:t>Все ионы остаются в раствор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</a:t>
            </a:r>
            <a:r>
              <a:rPr b="0" lang="ru-RU" sz="2800" spc="-1" strike="noStrike">
                <a:solidFill>
                  <a:srgbClr val="d74229"/>
                </a:solidFill>
                <a:latin typeface="Century Schoolbook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r>
              <a:rPr b="0" lang="ru-RU" sz="2800" spc="-1" strike="noStrike">
                <a:solidFill>
                  <a:srgbClr val="0066cc"/>
                </a:solidFill>
                <a:latin typeface="Century Schoolbook"/>
                <a:ea typeface="Arial"/>
              </a:rPr>
              <a:t>Среда нейтральная, рН =7, т.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Century Schoolbook"/>
                <a:ea typeface="Arial"/>
              </a:rPr>
              <a:t>концентрации катионов водорода и гидроксид - анионов в растворе равны, как в чистой воде</a:t>
            </a:r>
            <a:r>
              <a:rPr b="0" lang="ru-RU" sz="2400" spc="-1" strike="noStrike">
                <a:solidFill>
                  <a:srgbClr val="0066cc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356760"/>
            <a:ext cx="79009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Соль, образованная слабым основанием и сильной кислот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OON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4                  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COO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 +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NH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4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Н</a:t>
            </a:r>
            <a:r>
              <a:rPr b="1" lang="ru-RU" sz="2400" spc="-1" strike="noStrike" baseline="-25000">
                <a:solidFill>
                  <a:srgbClr val="00b05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О  → Н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+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 + ОН </a:t>
            </a:r>
            <a:r>
              <a:rPr b="1" lang="ru-RU" sz="2400" spc="-1" strike="noStrike" baseline="30000">
                <a:solidFill>
                  <a:srgbClr val="00b050"/>
                </a:solidFill>
                <a:latin typeface="Century Schoolbook"/>
              </a:rPr>
              <a:t>–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OO</a:t>
            </a:r>
            <a:r>
              <a:rPr b="1" lang="en-US" sz="24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 + N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US" sz="24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 +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O            C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OOH + N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*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OON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4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+ 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O         C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OOH + N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*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В этом случае гидролизу подвергаются как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катион,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 так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анион,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образуются слабые электролиты, и среда раствора оказывается близкой к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нейтральной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  или слабокислая, или слабощелочная, что зависит от констант диссоциации кислоты и осн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99" name="Прямая со стрелкой 4"/>
          <p:cNvCxnSpPr/>
          <p:nvPr/>
        </p:nvCxnSpPr>
        <p:spPr>
          <a:xfrm>
            <a:off x="2857680" y="1428840"/>
            <a:ext cx="714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>
            <a:off x="4142880" y="2286000"/>
            <a:ext cx="7153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501" name="Прямая со стрелкой 9"/>
          <p:cNvCxnSpPr/>
          <p:nvPr/>
        </p:nvCxnSpPr>
        <p:spPr>
          <a:xfrm>
            <a:off x="3571920" y="2714760"/>
            <a:ext cx="6433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Индикаторы</a:t>
            </a:r>
            <a:r>
              <a:rPr b="0" lang="ru-RU" sz="4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r>
              <a:rPr b="1" lang="ru-RU" sz="4400" spc="-1" strike="noStrike">
                <a:solidFill>
                  <a:srgbClr val="0033cc"/>
                </a:solidFill>
                <a:latin typeface="Century Schoolbook"/>
              </a:rPr>
              <a:t>вещества, которые меняют окраску в зависимости от среды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Picture 3" descr="C:\Users\1\AppData\Local\Temp\Rar$DI56.240\686062126.jpg"/>
          <p:cNvPicPr/>
          <p:nvPr/>
        </p:nvPicPr>
        <p:blipFill>
          <a:blip r:embed="rId1"/>
          <a:stretch/>
        </p:blipFill>
        <p:spPr>
          <a:xfrm>
            <a:off x="4500720" y="3571920"/>
            <a:ext cx="3786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Box 5"/>
          <p:cNvSpPr/>
          <p:nvPr/>
        </p:nvSpPr>
        <p:spPr>
          <a:xfrm>
            <a:off x="2643120" y="3643200"/>
            <a:ext cx="1643040" cy="370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ИЗМЕНЕНИЕ ЦВЕТА  РАЗЛИЧНЫХ ИНДИКАТОРОВ ПРИ ДЕЙСТВИИ РАСТВОРОВ КИСЛОТ И ЩЕЛОЧЕЙ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85840" y="1285920"/>
          <a:ext cx="8643960" cy="458640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2214720"/>
                <a:gridCol w="20718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Индикато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Кислая сред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рН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Нейтральная среда рН = 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Щелочная среда  рН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акму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олетовый</a:t>
                      </a:r>
                      <a:r>
                        <a:rPr b="1" lang="ru-RU" sz="2400" spc="-1" strike="noStrike">
                          <a:solidFill>
                            <a:srgbClr val="990099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енолфталеи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сцвет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сцвет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лино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тиловый оранже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зо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ранжев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ел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7"/>
          <p:cNvSpPr/>
          <p:nvPr/>
        </p:nvSpPr>
        <p:spPr>
          <a:xfrm>
            <a:off x="6286680" y="2857680"/>
            <a:ext cx="1357200" cy="9169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4929120" y="2857680"/>
            <a:ext cx="1357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TextBox 8"/>
          <p:cNvGrpSpPr/>
          <p:nvPr/>
        </p:nvGrpSpPr>
        <p:grpSpPr>
          <a:xfrm>
            <a:off x="3432240" y="2809800"/>
            <a:ext cx="1560600" cy="1055880"/>
            <a:chOff x="3432240" y="2809800"/>
            <a:chExt cx="1560600" cy="1055880"/>
          </a:xfrm>
        </p:grpSpPr>
        <p:pic>
          <p:nvPicPr>
            <p:cNvPr id="510" name="TextBox 8" descr=""/>
            <p:cNvPicPr/>
            <p:nvPr/>
          </p:nvPicPr>
          <p:blipFill>
            <a:blip r:embed="rId1"/>
            <a:stretch/>
          </p:blipFill>
          <p:spPr>
            <a:xfrm>
              <a:off x="3432240" y="2809800"/>
              <a:ext cx="156060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3500280" y="2857680"/>
              <a:ext cx="142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"/>
          <p:cNvSpPr txBox="1"/>
          <p:nvPr/>
        </p:nvSpPr>
        <p:spPr>
          <a:xfrm>
            <a:off x="500040" y="428760"/>
            <a:ext cx="8043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Демонстрационный опыт: </a:t>
            </a: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к раствору соды 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Century Schoolbook"/>
              </a:rPr>
              <a:t>CO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  приливаем поочерёдно индикаторы лакмус и метилоранж, фенолфталеи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71280" y="1928880"/>
          <a:ext cx="9072720" cy="1857240"/>
        </p:xfrm>
        <a:graphic>
          <a:graphicData uri="http://schemas.openxmlformats.org/drawingml/2006/table">
            <a:tbl>
              <a:tblPr/>
              <a:tblGrid>
                <a:gridCol w="1370160"/>
                <a:gridCol w="1152360"/>
                <a:gridCol w="835200"/>
                <a:gridCol w="1500120"/>
                <a:gridCol w="1357560"/>
                <a:gridCol w="1357200"/>
                <a:gridCol w="150012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Катион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Анион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Лакм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метилоран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Фенолфтале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Сред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Na</a:t>
                      </a:r>
                      <a:r>
                        <a:rPr b="1" lang="en-US" sz="1800" spc="-1" strike="noStrike" baseline="30000">
                          <a:solidFill>
                            <a:srgbClr val="0000ff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елт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линов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Century Schoolbook"/>
                        </a:rPr>
                        <a:t>Щело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TextBox 5"/>
          <p:cNvSpPr/>
          <p:nvPr/>
        </p:nvSpPr>
        <p:spPr>
          <a:xfrm>
            <a:off x="214200" y="2928960"/>
            <a:ext cx="135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entury Schoolbook"/>
              </a:rPr>
              <a:t>Na</a:t>
            </a:r>
            <a:r>
              <a:rPr b="1" lang="ru-RU" sz="18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Century Schoolbook"/>
              </a:rPr>
              <a:t>CO</a:t>
            </a:r>
            <a:r>
              <a:rPr b="1" lang="ru-RU" sz="18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ru-RU" sz="18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4857840" y="2857680"/>
            <a:ext cx="22003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15"/>
          <p:cNvSpPr/>
          <p:nvPr/>
        </p:nvSpPr>
        <p:spPr>
          <a:xfrm>
            <a:off x="5643720" y="5072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16"/>
          <p:cNvSpPr/>
          <p:nvPr/>
        </p:nvSpPr>
        <p:spPr>
          <a:xfrm>
            <a:off x="6286680" y="5143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39" descr="C:\Users\1\AppData\Local\Temp\Rar$DI24.7547\image001.gif"/>
          <p:cNvPicPr/>
          <p:nvPr/>
        </p:nvPicPr>
        <p:blipFill>
          <a:blip r:embed="rId2"/>
          <a:stretch/>
        </p:blipFill>
        <p:spPr>
          <a:xfrm>
            <a:off x="6643800" y="4214880"/>
            <a:ext cx="171432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428760"/>
            <a:ext cx="80438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Каждой группе предлагаю по одному примеру  провести исследование солей: 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Al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)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,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H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,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uS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,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P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4,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Cl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и на основании наблюдений сделать вывод о сред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85840" y="2500200"/>
          <a:ext cx="8643960" cy="2036880"/>
        </p:xfrm>
        <a:graphic>
          <a:graphicData uri="http://schemas.openxmlformats.org/drawingml/2006/table">
            <a:tbl>
              <a:tblPr/>
              <a:tblGrid>
                <a:gridCol w="1649160"/>
                <a:gridCol w="1398600"/>
                <a:gridCol w="1398600"/>
                <a:gridCol w="1400400"/>
                <a:gridCol w="1398600"/>
                <a:gridCol w="13986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Вещест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Катио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Анио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Лакму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Метилоран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entury Schoolbook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71680" y="49968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роцесс распада электролитов на ионы в водном растворе или расплаве называется электролитической диссоциацией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 Schoolbook"/>
              </a:rPr>
              <a:t>Положительные ионы называют катионами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 Schoolbook"/>
              </a:rPr>
              <a:t>отрицательные ионы – анионам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 катионам относятся: ион водорода и ионы металлов, катионы основных солей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 анионам относятся: гидроксид-ион, ионы кислотных остатков, анионы кислых солей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Задание №1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а) используя метилоранж и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ли </a:t>
            </a: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 лакмус, определите среду раствора соли </a:t>
            </a:r>
            <a:r>
              <a:rPr b="0" lang="ru-RU" sz="3200" spc="-1" strike="noStrike">
                <a:solidFill>
                  <a:srgbClr val="0033cc"/>
                </a:solidFill>
                <a:latin typeface="Century Schoolbook"/>
              </a:rPr>
              <a:t>сульфата алюми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6840" y="713880"/>
            <a:ext cx="7467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 Schoolbook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entury Schoolbook"/>
              </a:rPr>
              <a:t>раствор соли, образованной слабым основанием и сильной кислотой имеет кислую сред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ЗАДАНИЕ №2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а) используя метилоранж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 или </a:t>
            </a: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 лакмус, определите среду раствора сол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и фосфата натр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9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Century Schoolbook"/>
              </a:rPr>
              <a:t>КАКОЙ ВЫВОД МОЖНО СДЕЛАТЬ, ИСХОДЯ ИЗ СОСТАВА СОЛИ И СРЕДОЙ ЕЁ РАСТВОРА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00040" y="1500120"/>
            <a:ext cx="7858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Раствор соли, образованной сильным основанием и слабой кислотой имеет щелочную сред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Задание №3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а</a:t>
            </a: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) определить среду раствора соли, образованной сильной кислотой и сильным основанием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entury Schoolbook"/>
              </a:rPr>
              <a:t>NaCI</a:t>
            </a: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entury Schoolbook"/>
              </a:rPr>
              <a:t>б</a:t>
            </a:r>
            <a:r>
              <a:rPr b="0" lang="en-GB" sz="2400" spc="-1" strike="noStrike">
                <a:solidFill>
                  <a:srgbClr val="0033cc"/>
                </a:solidFill>
                <a:latin typeface="Century Schoolbook"/>
              </a:rPr>
              <a:t>) обосновать свой отве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 Schoolbook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Среда нейтральная,т.к. не образуется слабый электролит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такие соли гидролизу не подвергают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285840" y="428760"/>
          <a:ext cx="8358120" cy="4043160"/>
        </p:xfrm>
        <a:graphic>
          <a:graphicData uri="http://schemas.openxmlformats.org/drawingml/2006/table">
            <a:tbl>
              <a:tblPr/>
              <a:tblGrid>
                <a:gridCol w="1285920"/>
                <a:gridCol w="1000080"/>
                <a:gridCol w="1063440"/>
                <a:gridCol w="1067040"/>
                <a:gridCol w="1060200"/>
                <a:gridCol w="1667160"/>
                <a:gridCol w="1214280"/>
              </a:tblGrid>
              <a:tr h="78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щ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т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км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ил-оран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нол-фтале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во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о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ё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ин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ло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ов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анже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285840" y="4572000"/>
          <a:ext cx="8501040" cy="185724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00080"/>
                <a:gridCol w="1285920"/>
                <a:gridCol w="1141200"/>
                <a:gridCol w="1433520"/>
                <a:gridCol w="1497240"/>
              </a:tblGrid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30000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анж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йтра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800" spc="-1" strike="noStrike" baseline="-25000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800" spc="-1" strike="noStrike" baseline="30000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ин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лоч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Calibri"/>
                        </a:rPr>
                        <a:t>MgCI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r>
                        <a:rPr b="1" lang="ru-RU" sz="1800" spc="-1" strike="noStrike" baseline="30000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СИЛУ УМУ ПРИДАЮТ УПРАЖНЕ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.Кислую среду имеет водный раств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P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K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ZnS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2.Щелочную среду имеет водный раств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Fe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K</a:t>
            </a:r>
            <a:r>
              <a:rPr b="1" lang="ru-RU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Ba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8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2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3.Нейтральную  среду имеет раств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i="1" lang="ru-RU" sz="2400" spc="-1" strike="noStrike">
                <a:solidFill>
                  <a:srgbClr val="00cc66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. Нитрата меди (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II) Cu(N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)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Нитрата бар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BaN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Ацетата кал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CH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OONH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Карбоната натрия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(C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)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4.Одинаковую реакцию среды имеют растворы </a:t>
            </a: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карбоната натрия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нитрата бар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BaN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сульфита кал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K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SO</a:t>
            </a:r>
            <a:r>
              <a:rPr b="1" lang="ru-RU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сульфата натр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Na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SO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хлорида алюминия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AICI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0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285480"/>
            <a:ext cx="840096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5.Кислую  реакцию среды имеет каждый из двух раствор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Ba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и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Zn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Al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и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Fe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Fe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и 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KCl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и  </a:t>
            </a:r>
            <a:r>
              <a:rPr b="1" lang="en-US" sz="2400" spc="-1" strike="noStrike">
                <a:solidFill>
                  <a:srgbClr val="00cc66"/>
                </a:solidFill>
                <a:latin typeface="Century Schoolbook"/>
              </a:rPr>
              <a:t>CaCl</a:t>
            </a:r>
            <a:r>
              <a:rPr b="1" lang="en-US" sz="2400" spc="-1" strike="noStrike" baseline="-25000">
                <a:solidFill>
                  <a:srgbClr val="00cc66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6.Соль, образованная сильным основанием и сильной кислот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а.Гидролизуется по катио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б.Гидролизуется по анио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в.Не подвергается гидролиз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cc66"/>
                </a:solidFill>
                <a:latin typeface="Century Schoolbook"/>
              </a:rPr>
              <a:t>г.Полностью разлагается вод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00" fill="hold"/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entury Schoolbook"/>
              </a:rPr>
              <a:t>ДИССОЦИАЦИЯ КИСЛОТ: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H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S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→ 2H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+ S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HCl → H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+ Cl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HN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→ H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 + NO</a:t>
            </a:r>
            <a:r>
              <a:rPr b="1" lang="en-GB" sz="40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en-GB" sz="4000" spc="-1" strike="noStrike" baseline="30000">
                <a:solidFill>
                  <a:srgbClr val="0033cc"/>
                </a:solidFill>
                <a:latin typeface="Century Schoolbook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68" name="Прямая со стрелкой 4"/>
          <p:cNvCxnSpPr/>
          <p:nvPr/>
        </p:nvCxnSpPr>
        <p:spPr>
          <a:xfrm flipH="1" flipV="1">
            <a:off x="3714480" y="264240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9" name="Прямая со стрелкой 8"/>
          <p:cNvCxnSpPr/>
          <p:nvPr/>
        </p:nvCxnSpPr>
        <p:spPr>
          <a:xfrm flipH="1" flipV="1">
            <a:off x="3785760" y="53575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70" name="Прямая со стрелкой 9"/>
          <p:cNvCxnSpPr/>
          <p:nvPr/>
        </p:nvCxnSpPr>
        <p:spPr>
          <a:xfrm flipH="1" flipV="1">
            <a:off x="3928680" y="40003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28400" y="428760"/>
            <a:ext cx="81867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7. Установите соответствие между составом соли  и реакцией среды её водного раств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00040" y="1397160"/>
          <a:ext cx="8072640" cy="2103120"/>
        </p:xfrm>
        <a:graphic>
          <a:graphicData uri="http://schemas.openxmlformats.org/drawingml/2006/table">
            <a:tbl>
              <a:tblPr/>
              <a:tblGrid>
                <a:gridCol w="4035600"/>
                <a:gridCol w="40370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Состав со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entury Schoolbook"/>
                        </a:rPr>
                        <a:t>Реакция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6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А.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NaN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Б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AI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(S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В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NaN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Г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К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NO</a:t>
                      </a:r>
                      <a:r>
                        <a:rPr b="1" lang="en-US" sz="1800" spc="-1" strike="noStrike" baseline="-25000">
                          <a:solidFill>
                            <a:srgbClr val="0033cc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1.Кисл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2. Щело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3. Нейтраль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1285920" y="421488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6840" y="214200"/>
            <a:ext cx="8115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8. Установите соответствие между названием соли  и средой её водного раство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571680" y="1397160"/>
          <a:ext cx="7858080" cy="229212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Название со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Среда раствор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21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. нитрат свинца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b(NO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. карбонат калия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. нитрат натрия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aNO</a:t>
                      </a:r>
                      <a:r>
                        <a:rPr b="0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.сульфид лития 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(Li</a:t>
                      </a:r>
                      <a:r>
                        <a:rPr b="0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.Кисл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. Щелоч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. Нейтраль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500120" y="4286160"/>
          <a:ext cx="6096240" cy="943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571320"/>
            <a:ext cx="79725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. Установите соответствие между названием соли  и отношением её к гидроли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42960" y="1571760"/>
          <a:ext cx="7286760" cy="183492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Название со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Отношение к гидролизу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А) хлорид ци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Б) сульфид ка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В) нитрат нат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) нитрат меди (</a:t>
                      </a:r>
                      <a:r>
                        <a:rPr b="1" lang="en-US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идролизуется по кат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идролизуется по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Гидролизуется по катиону и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Не гидролизу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1285920" y="400068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6840" y="571320"/>
            <a:ext cx="81867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.Установите соответствие между названием соли  и отношением её к гидроли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714240" y="1643040"/>
          <a:ext cx="7715520" cy="2673360"/>
        </p:xfrm>
        <a:graphic>
          <a:graphicData uri="http://schemas.openxmlformats.org/drawingml/2006/table">
            <a:tbl>
              <a:tblPr/>
              <a:tblGrid>
                <a:gridCol w="3857760"/>
                <a:gridCol w="38577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НАЗВАНИЕ С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9933"/>
                          </a:solidFill>
                          <a:latin typeface="Century Schoolbook"/>
                        </a:rPr>
                        <a:t>ОТНОШЕНИЕ К ГИДРОЛИЗ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) сульфид цез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) сульфат алюми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) карбонат нат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)ацетат аммо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.Гидролизуется по кат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.Гидролизуется по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.Гидролизуется по катиону и анио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.Не гидролизу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571760" y="471492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28400" y="499680"/>
            <a:ext cx="74674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11. Установите соответствие между веществом и продуктами его гидроли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42960" y="1500120"/>
          <a:ext cx="7572240" cy="285768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Формула 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Продукты гидро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5760">
                      <a:solidFill>
                        <a:srgbClr val="7598d9"/>
                      </a:solidFill>
                    </a:lnT>
                    <a:lnB w="12240">
                      <a:solidFill>
                        <a:srgbClr val="7598d9"/>
                      </a:solidFill>
                    </a:lnB>
                    <a:noFill/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l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K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ZnCl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)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aC</a:t>
                      </a:r>
                      <a:r>
                        <a:rPr b="1" lang="ru-RU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.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Zn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OH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l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и 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H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l(OH)S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l(OH)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a(OH)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C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a(OH)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CH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aHCO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и 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a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598d9"/>
                      </a:solidFill>
                    </a:lnL>
                    <a:lnR w="5760">
                      <a:solidFill>
                        <a:srgbClr val="7598d9"/>
                      </a:solidFill>
                    </a:lnR>
                    <a:lnT w="12240">
                      <a:solidFill>
                        <a:srgbClr val="7598d9"/>
                      </a:solidFill>
                    </a:lnT>
                    <a:lnB w="5760">
                      <a:solidFill>
                        <a:srgbClr val="7598d9"/>
                      </a:solidFill>
                    </a:lnB>
                    <a:solidFill>
                      <a:srgbClr val="7598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1571760" y="4714920"/>
          <a:ext cx="6095880" cy="94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ДОМ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Заполните технологические карты и напишите уравнения гидролиза в ионном и молекулярном вид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ДИССОЦИАЦИЯ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ОСНОВАНИЙ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NaOH → Na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+ OH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Ca(OH)</a:t>
            </a:r>
            <a:r>
              <a:rPr b="1" lang="en-GB" sz="4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→ Ca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2+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+ 2OH</a:t>
            </a:r>
            <a:r>
              <a:rPr b="1" lang="en-GB" sz="44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6840" y="642600"/>
            <a:ext cx="74674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Диссоциация растворимых солей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NaCI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 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Na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+ </a:t>
            </a:r>
            <a:r>
              <a:rPr b="1" lang="ru-RU" sz="4000" spc="-1" strike="noStrike" baseline="30000">
                <a:solidFill>
                  <a:srgbClr val="0033cc"/>
                </a:solidFill>
                <a:latin typeface="Century Schoolbook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 +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CI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AI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(SO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)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3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2AI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3+ 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   </a:t>
            </a:r>
            <a:r>
              <a:rPr b="1" lang="en-US" sz="4000" spc="-1" strike="noStrike">
                <a:solidFill>
                  <a:srgbClr val="0033cc"/>
                </a:solidFill>
                <a:latin typeface="Century Schoolbook"/>
              </a:rPr>
              <a:t>3SO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Century Schoolbook"/>
              </a:rPr>
              <a:t>4</a:t>
            </a:r>
            <a:r>
              <a:rPr b="1" lang="en-US" sz="4000" spc="-1" strike="noStrike" baseline="30000">
                <a:solidFill>
                  <a:srgbClr val="0033cc"/>
                </a:solidFill>
                <a:latin typeface="Century Schoolbook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74" name="Прямая со стрелкой 8"/>
          <p:cNvCxnSpPr/>
          <p:nvPr/>
        </p:nvCxnSpPr>
        <p:spPr>
          <a:xfrm>
            <a:off x="1785600" y="2142720"/>
            <a:ext cx="4294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5" name="Прямая со стрелкой 11"/>
          <p:cNvCxnSpPr/>
          <p:nvPr/>
        </p:nvCxnSpPr>
        <p:spPr>
          <a:xfrm>
            <a:off x="2571840" y="3785760"/>
            <a:ext cx="4291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c00000"/>
                </a:solidFill>
                <a:uFillTx/>
                <a:latin typeface="Century Schoolbook"/>
              </a:rPr>
              <a:t>ДИССОЦИАЦИЯ ВОД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98108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entury Schoolbook"/>
              </a:rPr>
              <a:t>Н</a:t>
            </a:r>
            <a:r>
              <a:rPr b="1" lang="en-GB" sz="5400" spc="-1" strike="noStrike" baseline="-25000">
                <a:solidFill>
                  <a:srgbClr val="0033cc"/>
                </a:solidFill>
                <a:latin typeface="Century Schoolbook"/>
              </a:rPr>
              <a:t>2</a:t>
            </a:r>
            <a:r>
              <a:rPr b="1" lang="en-GB" sz="5400" spc="-1" strike="noStrike">
                <a:solidFill>
                  <a:srgbClr val="0033cc"/>
                </a:solidFill>
                <a:latin typeface="Century Schoolbook"/>
              </a:rPr>
              <a:t>О  → Н</a:t>
            </a:r>
            <a:r>
              <a:rPr b="1" lang="en-GB" sz="54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1" lang="en-GB" sz="5400" spc="-1" strike="noStrike">
                <a:solidFill>
                  <a:srgbClr val="0033cc"/>
                </a:solidFill>
                <a:latin typeface="Century Schoolbook"/>
              </a:rPr>
              <a:t> + ОН </a:t>
            </a:r>
            <a:r>
              <a:rPr b="1" lang="en-GB" sz="5400" spc="-1" strike="noStrike" baseline="30000">
                <a:solidFill>
                  <a:srgbClr val="0033cc"/>
                </a:solidFill>
                <a:latin typeface="Century Schoolbook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78" name="Прямая со стрелкой 4"/>
          <p:cNvCxnSpPr/>
          <p:nvPr/>
        </p:nvCxnSpPr>
        <p:spPr>
          <a:xfrm flipH="1" flipV="1">
            <a:off x="3499920" y="3642480"/>
            <a:ext cx="5011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ransition>
    <p:split dir="in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760" y="-360"/>
            <a:ext cx="8229600" cy="662940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entury Schoolbook"/>
              </a:rPr>
              <a:t>В чистой воде соотношение ионов водорода и гидроксид-ионов равное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Century Schoolbook"/>
              </a:rPr>
              <a:t>Н</a:t>
            </a:r>
            <a:r>
              <a:rPr b="0" lang="en-GB" sz="3200" spc="-1" strike="noStrike" baseline="30000">
                <a:solidFill>
                  <a:srgbClr val="660066"/>
                </a:solidFill>
                <a:latin typeface="Century Schoolbook"/>
              </a:rPr>
              <a:t>+</a:t>
            </a:r>
            <a:r>
              <a:rPr b="0" lang="en-GB" sz="3200" spc="-1" strike="noStrike">
                <a:solidFill>
                  <a:srgbClr val="660066"/>
                </a:solidFill>
                <a:latin typeface="Century Schoolbook"/>
              </a:rPr>
              <a:t> = ОН</a:t>
            </a:r>
            <a:r>
              <a:rPr b="0" lang="en-GB" sz="3200" spc="-1" strike="noStrike" baseline="30000">
                <a:solidFill>
                  <a:srgbClr val="660066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entury Schoolbook"/>
              </a:rPr>
              <a:t>среда</a:t>
            </a: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Century Schoolbook"/>
              </a:rPr>
              <a:t>нейтральна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entury Schoolbook"/>
              </a:rPr>
              <a:t>При добавлении кислоты равновесие нарушается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Century Schoolbook"/>
              </a:rPr>
              <a:t>Н</a:t>
            </a:r>
            <a:r>
              <a:rPr b="0" lang="en-GB" sz="3200" spc="-1" strike="noStrike" baseline="30000">
                <a:solidFill>
                  <a:srgbClr val="ff3300"/>
                </a:solidFill>
                <a:latin typeface="Century Schoolbook"/>
              </a:rPr>
              <a:t>+</a:t>
            </a:r>
            <a:r>
              <a:rPr b="0" lang="en-GB" sz="3200" spc="-1" strike="noStrike">
                <a:solidFill>
                  <a:srgbClr val="ff3300"/>
                </a:solidFill>
                <a:latin typeface="Century Schoolbook"/>
              </a:rPr>
              <a:t> &gt; ОН</a:t>
            </a:r>
            <a:r>
              <a:rPr b="0" lang="en-GB" sz="3200" spc="-1" strike="noStrike" baseline="30000">
                <a:solidFill>
                  <a:srgbClr val="ff3300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9933ff"/>
                </a:solidFill>
                <a:latin typeface="Century Schoolbook"/>
              </a:rPr>
              <a:t>среда раствора </a:t>
            </a:r>
            <a:r>
              <a:rPr b="0" lang="en-GB" sz="3200" spc="-1" strike="noStrike">
                <a:solidFill>
                  <a:srgbClr val="ff0000"/>
                </a:solidFill>
                <a:latin typeface="Century Schoolbook"/>
              </a:rPr>
              <a:t>кислая</a:t>
            </a:r>
            <a:r>
              <a:rPr b="0" lang="en-GB" sz="3200" spc="-1" strike="noStrike">
                <a:solidFill>
                  <a:srgbClr val="ff3300"/>
                </a:solidFill>
                <a:latin typeface="Century Schoolbook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При добавлении щёлочи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Н</a:t>
            </a:r>
            <a:r>
              <a:rPr b="0" lang="en-GB" sz="3200" spc="-1" strike="noStrike" baseline="30000">
                <a:solidFill>
                  <a:srgbClr val="0033cc"/>
                </a:solidFill>
                <a:latin typeface="Century Schoolbook"/>
              </a:rPr>
              <a:t>+</a:t>
            </a: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 &lt; ОН</a:t>
            </a:r>
            <a:r>
              <a:rPr b="0" lang="en-GB" sz="3200" spc="-1" strike="noStrike" baseline="30000">
                <a:solidFill>
                  <a:srgbClr val="0033cc"/>
                </a:solidFill>
                <a:latin typeface="Century Schoolboo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9933ff"/>
                </a:solidFill>
                <a:latin typeface="Century Schoolbook"/>
              </a:rPr>
              <a:t>среда раствора </a:t>
            </a:r>
            <a:r>
              <a:rPr b="0" lang="en-GB" sz="3200" spc="-1" strike="noStrike">
                <a:solidFill>
                  <a:srgbClr val="0033cc"/>
                </a:solidFill>
                <a:latin typeface="Century Schoolbook"/>
              </a:rPr>
              <a:t>щелочна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32040"/>
            <a:ext cx="8229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33cc"/>
                </a:solidFill>
                <a:latin typeface="Bauhaus 93"/>
              </a:rPr>
              <a:t>ГИДРОЛИЗ СОЛЕЙ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1" name="Picture 10" descr="L01p1p02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5008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1"/>
          <p:cNvSpPr/>
          <p:nvPr/>
        </p:nvSpPr>
        <p:spPr>
          <a:xfrm>
            <a:off x="928800" y="1071720"/>
            <a:ext cx="71434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Гидролиз соле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165200" y="6286680"/>
            <a:ext cx="3215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читель химии: А.А. Н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Century Schoolbook"/>
              </a:rPr>
              <a:t>ГИДРОЛИ</a:t>
            </a: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З - 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от греч. «</a:t>
            </a:r>
            <a:r>
              <a:rPr b="1" i="1" lang="en-GB" sz="4000" spc="-1" strike="noStrike">
                <a:solidFill>
                  <a:srgbClr val="0033cc"/>
                </a:solidFill>
                <a:latin typeface="Century Schoolbook"/>
              </a:rPr>
              <a:t>гидро</a:t>
            </a: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» - вода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«</a:t>
            </a:r>
            <a:r>
              <a:rPr b="1" i="1" lang="en-GB" sz="4000" spc="-1" strike="noStrike">
                <a:solidFill>
                  <a:srgbClr val="0033cc"/>
                </a:solidFill>
                <a:latin typeface="Century Schoolbook"/>
              </a:rPr>
              <a:t>лизис</a:t>
            </a:r>
            <a:r>
              <a:rPr b="1" i="1" lang="en-GB" sz="4000" spc="-1" strike="noStrike">
                <a:solidFill>
                  <a:srgbClr val="c00000"/>
                </a:solidFill>
                <a:latin typeface="Century Schoolbook"/>
              </a:rPr>
              <a:t>» - разложение</a:t>
            </a: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*</cp:lastModifiedBy>
  <dcterms:modified xsi:type="dcterms:W3CDTF">2012-02-12T14:59:21Z</dcterms:modified>
  <cp:revision>65</cp:revision>
  <dc:subject/>
  <dc:title>PowerPoint Presentation</dc:title>
</cp:coreProperties>
</file>