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2E22-0434-4A12-A940-72A74EC71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7B59-E166-40F1-85FA-A2C745FE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06FA-AEEB-409C-B38F-CEB651EC2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BF52-22C8-40FC-8268-84467115D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B0A1-247C-4E38-A5D9-88C5638F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10CC-0E0E-485F-A8F6-EF5EC9AD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0B36-F0C6-49DB-8FE7-1AF85A84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E500-96B0-4C6A-818E-433AEF82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F4BF-89F4-4E2A-8403-42AF3B38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229A-F3AF-4CC2-8384-28965684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D14F-45ED-4594-99EA-DEE47062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B822-CE6E-431C-A903-3DE1690D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B730-2921-4CA2-AA93-D1DA4C1636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1312832976_school-frame-3.jpg"/>
          <p:cNvPicPr/>
          <p:nvPr/>
        </p:nvPicPr>
        <p:blipFill>
          <a:blip r:embed="rId1"/>
          <a:stretch/>
        </p:blipFill>
        <p:spPr>
          <a:xfrm>
            <a:off x="11160" y="0"/>
            <a:ext cx="913284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3013920" y="2276640"/>
            <a:ext cx="33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ловая игр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«Знатоки ФГОС Д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2928960" y="1700280"/>
            <a:ext cx="350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вивающ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дметно-Пространствен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р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3000240" y="2054160"/>
            <a:ext cx="37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такое ООП Д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кройте понят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1357200" y="1571760"/>
            <a:ext cx="6643800" cy="34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новная образовательная программа дошкольного образования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грамма, разрабатываемая, утверждаемая и реализуемая в дошкольном образовательном учреждении (группе) на основе примерной основной общеобразовательной программы дошкольного 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0" y="0"/>
            <a:ext cx="9132840" cy="648000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1643040" y="1989000"/>
            <a:ext cx="607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ие требования определя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ГОС Д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1258920" y="1500120"/>
            <a:ext cx="6813360" cy="29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реб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 структуре  ООП 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реб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 условиям реализации ООП 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реб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 результатам освоения ООП 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>
            <a:off x="1403280" y="1773360"/>
            <a:ext cx="65977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лько образовательных областей  определяет ФГОС Д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числите 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1428840" y="1628640"/>
            <a:ext cx="6527880" cy="29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я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)социально-коммуникативное развит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)познавательное развит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)речевое развит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)художественно-эстетическое развит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)физическое развит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1571760" y="1500120"/>
            <a:ext cx="61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виде чего представле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ребования Стандар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 результатам освоения ООП Д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sp>
        <p:nvSpPr>
          <p:cNvPr id="88" name="TextBox 2"/>
          <p:cNvSpPr/>
          <p:nvPr/>
        </p:nvSpPr>
        <p:spPr>
          <a:xfrm>
            <a:off x="2357280" y="1928880"/>
            <a:ext cx="485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ви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евых ориенти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ошкольно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2357280" y="1700280"/>
            <a:ext cx="514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такое целевые ориентир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1312832976_school-frame-3.jpg"/>
          <p:cNvPicPr/>
          <p:nvPr/>
        </p:nvPicPr>
        <p:blipFill>
          <a:blip r:embed="rId1"/>
          <a:stretch/>
        </p:blipFill>
        <p:spPr>
          <a:xfrm>
            <a:off x="11160" y="0"/>
            <a:ext cx="9132840" cy="6480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/>
          <p:cNvSpPr/>
          <p:nvPr/>
        </p:nvSpPr>
        <p:spPr>
          <a:xfrm>
            <a:off x="3013920" y="2276640"/>
            <a:ext cx="33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ловая игр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«Знатоки ФГОС Д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1979640" y="1484280"/>
            <a:ext cx="4537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1357200" y="192888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циальные и психологические характер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личности ребе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младенческом и раннем возрас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 этапе завершения дошкольно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1357200" y="1357200"/>
            <a:ext cx="707256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ите к какой образовательной области относятся следующие 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усвоение норм и ценностей, принятых в обществе, включая моральные и нравственные ценн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формирование позитивных установок к различным видам труда и творче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ирование основ безопасного поведения в быту, социуме, прир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sp>
        <p:nvSpPr>
          <p:cNvPr id="97" name="TextBox 3"/>
          <p:cNvSpPr/>
          <p:nvPr/>
        </p:nvSpPr>
        <p:spPr>
          <a:xfrm>
            <a:off x="1500120" y="207180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циально-коммуникативн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71280"/>
            <a:ext cx="9132840" cy="6480360"/>
          </a:xfrm>
          <a:prstGeom prst="rect">
            <a:avLst/>
          </a:prstGeom>
          <a:ln w="0">
            <a:noFill/>
          </a:ln>
        </p:spPr>
      </p:pic>
      <p:sp>
        <p:nvSpPr>
          <p:cNvPr id="99" name="TextBox 3"/>
          <p:cNvSpPr/>
          <p:nvPr/>
        </p:nvSpPr>
        <p:spPr>
          <a:xfrm>
            <a:off x="1928880" y="1484280"/>
            <a:ext cx="5786280" cy="34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аких видах деятельности реализовывается содержание образовательных областе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дошкольном возрасте (3-8 лет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ннем возрасте (1-3 лет)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брать правильные отв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1285920" y="1071720"/>
            <a:ext cx="7102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едметная деятельность и игры с составными и динамическими игрушкам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оммуникативн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экспериментирование с материалами и вещества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онструирование из разного материал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щение с взрослы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вигательная активно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осприятие художественной литературы и фольклор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овместные игры со сверстниками под руководством взросл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гровая (сюжетно-ролевая, игры с правилами и др.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ействия с бытовыми предметами-орудия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знавательно-исследовательск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зобразительн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ассматривание картино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осприятие смысла музыки, сказок, стих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музыкальн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амообслуживание и элементарный бытовой тру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0" y="142920"/>
            <a:ext cx="9132840" cy="6480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2214720" y="1557360"/>
            <a:ext cx="5143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нний возраст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3.5.8.10.13.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арший дошкольный возраст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4.6.7.9.11.12.15.1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"/>
          <p:cNvSpPr/>
          <p:nvPr/>
        </p:nvSpPr>
        <p:spPr>
          <a:xfrm>
            <a:off x="2643120" y="1700280"/>
            <a:ext cx="4714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ие требования (принципы) к развивающей предметно-пространственной среде необходимо учитывать при реализации Програм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"/>
          <p:cNvSpPr/>
          <p:nvPr/>
        </p:nvSpPr>
        <p:spPr>
          <a:xfrm>
            <a:off x="2214720" y="1214280"/>
            <a:ext cx="4929120" cy="30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ППС должна быть Содержательно-насыщенной, Трансформируемой, Полифункциональной, Вариативн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оступн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езопас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2" descr="50e546697563.jpg"/>
          <p:cNvPicPr/>
          <p:nvPr/>
        </p:nvPicPr>
        <p:blipFill>
          <a:blip r:embed="rId2"/>
          <a:stretch/>
        </p:blipFill>
        <p:spPr>
          <a:xfrm>
            <a:off x="1692360" y="1052640"/>
            <a:ext cx="6408720" cy="3456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3"/>
          <p:cNvSpPr/>
          <p:nvPr/>
        </p:nvSpPr>
        <p:spPr>
          <a:xfrm>
            <a:off x="1619280" y="1214280"/>
            <a:ext cx="4722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цы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справились на отлич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держа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2"/>
          <p:cNvSpPr/>
          <p:nvPr/>
        </p:nvSpPr>
        <p:spPr>
          <a:xfrm>
            <a:off x="2287800" y="2276640"/>
            <a:ext cx="476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1312832976_school-frame-3.jpg"/>
          <p:cNvPicPr/>
          <p:nvPr/>
        </p:nvPicPr>
        <p:blipFill>
          <a:blip r:embed="rId1"/>
          <a:stretch/>
        </p:blipFill>
        <p:spPr>
          <a:xfrm>
            <a:off x="11160" y="0"/>
            <a:ext cx="9132840" cy="6480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3013920" y="2276640"/>
            <a:ext cx="33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ловая игр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«Знатоки ФГОС Д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3" descr="1312832976_school-frame-3.jpg"/>
          <p:cNvPicPr/>
          <p:nvPr/>
        </p:nvPicPr>
        <p:blipFill>
          <a:blip r:embed="rId1"/>
          <a:stretch/>
        </p:blipFill>
        <p:spPr>
          <a:xfrm>
            <a:off x="11160" y="0"/>
            <a:ext cx="9132840" cy="6480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3013920" y="2276640"/>
            <a:ext cx="33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ловая игр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«Знатоки ФГОС Д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3" descr="1312832976_school-frame-3.jpg"/>
          <p:cNvPicPr/>
          <p:nvPr/>
        </p:nvPicPr>
        <p:blipFill>
          <a:blip r:embed="rId1"/>
          <a:stretch/>
        </p:blipFill>
        <p:spPr>
          <a:xfrm>
            <a:off x="11160" y="0"/>
            <a:ext cx="9132840" cy="6480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/>
          <p:cNvSpPr/>
          <p:nvPr/>
        </p:nvSpPr>
        <p:spPr>
          <a:xfrm>
            <a:off x="3013920" y="2276640"/>
            <a:ext cx="33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ловая игр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«Знатоки ФГОС Д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3" descr="1312832976_school-frame-3.jpg"/>
          <p:cNvPicPr/>
          <p:nvPr/>
        </p:nvPicPr>
        <p:blipFill>
          <a:blip r:embed="rId1"/>
          <a:stretch/>
        </p:blipFill>
        <p:spPr>
          <a:xfrm>
            <a:off x="11160" y="0"/>
            <a:ext cx="9132840" cy="6480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/>
          <p:cNvSpPr/>
          <p:nvPr/>
        </p:nvSpPr>
        <p:spPr>
          <a:xfrm>
            <a:off x="3013920" y="2276640"/>
            <a:ext cx="33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ловая игр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«Знатоки ФГОС Д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0" y="0"/>
            <a:ext cx="9132840" cy="6480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2000160" y="1628640"/>
            <a:ext cx="5572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начала – легкая размин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то означает аббреви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ГОС Д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0" y="0"/>
            <a:ext cx="9132840" cy="6480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2571840" y="1500120"/>
            <a:ext cx="385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едеральный Государств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андар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ошколь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11160" y="115920"/>
            <a:ext cx="9132840" cy="648180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2000160" y="200016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то означает аббревиатура РПП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3T14:01:54Z</dcterms:created>
  <dc:creator>Administrator</dc:creator>
  <dc:description/>
  <dc:language>en-US</dc:language>
  <cp:lastModifiedBy>Глеб</cp:lastModifiedBy>
  <dcterms:modified xsi:type="dcterms:W3CDTF">2017-09-13T19:00:48Z</dcterms:modified>
  <cp:revision>50</cp:revision>
  <dc:subject/>
  <dc:title>Деловая игра  «Знатоки проектного метода»</dc:title>
</cp:coreProperties>
</file>