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5CD-8E64-4F6D-9668-E4B5D3FC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A93-DFC1-499D-8EC0-8AF2253C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5C5-19D7-499A-94B9-C9E2D8D3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BD6-35F1-4B46-BED3-AEFE7775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D87F-5089-4A75-BFBD-58A4A008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D8C-B189-43C6-92F0-DE1402B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141-C893-489E-B26B-2B4EABB8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BB1-7793-404F-8A20-FA3FC7D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B0FE-15CE-4DFE-9E9D-C936EB5A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9877-D620-40F7-A258-AE8A3C5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2CA4-C4C1-46F4-AFA1-359D6A1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D58-5D6E-4EF5-A3EA-66D2F828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D9C2-3576-4AE2-AC7E-BF39D61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8B8-EA77-40D2-A3F5-C4971C8D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CF8-B43B-49F5-B359-8604744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4FEA-20D0-4F87-B6AF-C57B5666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39D6-49ED-4908-818C-F1ED4D96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2B12B-103B-4CCD-86E3-6F4A5DF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E9D72-C87E-45D2-B704-CCC533C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AFBB-FFCA-467E-8D99-C42FD60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C6E24-4FE8-49DA-8DD3-5E2C324F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517F3-F265-4573-AE4D-4BF6334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50E-7E60-4AA7-881B-3F36564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DAB47-2462-4ABA-8352-A1D8F2B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24964-37C0-4F21-8643-19F9505C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DBA28-8950-4771-999B-F67B027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82174-0EF9-4646-878B-EF2C14F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79014-80A4-4E8F-821E-3BE8D9F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F41D3-7864-45BB-9308-DD49B738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17045-CE3F-489D-9485-A11F46B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5ABC-23EA-423F-B1FC-70CC808E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803D-7E34-42AD-BCC7-142199F6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0DE6-6C46-40FF-A6DD-590BD0E0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78F-341F-4356-8DF4-943E168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650A-654C-40D7-83AB-49F98E8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B8FD-8F94-4268-B4D0-34F36520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F331-93DB-44DB-A89A-093DCAD2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14FF-D95B-4342-A8BC-924AF53A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C549-12CE-44F2-B84F-B0CF6E4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45DC-B2D7-4BCE-9E11-1E5F6AE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5C5D-685D-4466-836B-539E9C4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A559-0366-45C5-B1E1-D8D2B72D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5C82-47D4-4A07-8D5E-05E613B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8D2-FC55-4533-B819-183FB18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5AE-646F-4979-B022-12D396A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A41-714B-4026-BEEA-A52E3C9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962-A80D-4B26-9061-E03FFB7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CF6-0F56-4813-A171-7D399E6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142-A0F4-4CDB-BF7C-95F516003A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591-A972-4D8D-A009-9C5F1519B2B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89A-E4C9-4FED-B2B7-2F674AF32AC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3AC-67B9-41D4-BC59-DC36976D34A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allpaperscraft.ru/catalog/space/1920x1080" TargetMode="External"/><Relationship Id="rId2" Type="http://schemas.openxmlformats.org/officeDocument/2006/relationships/hyperlink" Target="http://www.cosmos-online.ru/planets-of-the-solar-system.html" TargetMode="External"/><Relationship Id="rId3" Type="http://schemas.openxmlformats.org/officeDocument/2006/relationships/hyperlink" Target="http://www.grandars.ru/shkola/estestvoznanie/merkuriy.html" TargetMode="External"/><Relationship Id="rId4" Type="http://schemas.openxmlformats.org/officeDocument/2006/relationships/hyperlink" Target="http://www.grandars.ru/shkola/estestvoznanie/venera.html" TargetMode="External"/><Relationship Id="rId5" Type="http://schemas.openxmlformats.org/officeDocument/2006/relationships/hyperlink" Target="http://dic.academic.ru/pictures/wiki/files/69/Earth_Eastern_Hemisphere.jpg" TargetMode="External"/><Relationship Id="rId6" Type="http://schemas.openxmlformats.org/officeDocument/2006/relationships/hyperlink" Target="http://spacetimes.ru/img/foto/planeta-mars_big.jpg" TargetMode="External"/><Relationship Id="rId7" Type="http://schemas.openxmlformats.org/officeDocument/2006/relationships/hyperlink" Target="http://www.shvedun.ru/images/stat/jp/jp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2280" y="2142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Распространенность химических элементов на Земле и в космосе. Образование химических элементов в процессе первичного нуклеосинтеза и в недрах зв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71440" y="4214880"/>
            <a:ext cx="66150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ца 10 «Б» класса   МБОУ СОШ №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Бовыка Валенти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уководитель: Скрылева З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звездное небо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сновные реакции протекающие в недрах зв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 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→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+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 →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+ v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4" descr="межзвездная среда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сновные реакции протекающие за счет компонентов межзвездной сред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85840" y="2928960"/>
            <a:ext cx="822960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→2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n→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→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-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 →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спространенность химических элементов в галактике Млечный пут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3" name="Содержимое 3" descr=""/>
          <p:cNvPicPr/>
          <p:nvPr/>
        </p:nvPicPr>
        <p:blipFill>
          <a:blip r:embed="rId1"/>
          <a:stretch/>
        </p:blipFill>
        <p:spPr>
          <a:xfrm>
            <a:off x="0" y="1857240"/>
            <a:ext cx="8872560" cy="500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3"/>
          <p:cNvSpPr/>
          <p:nvPr/>
        </p:nvSpPr>
        <p:spPr>
          <a:xfrm>
            <a:off x="7429680" y="6286680"/>
            <a:ext cx="50004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исок использованных ресурс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allpaperscraft.ru/catalog/space/1920x108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cosmos-online.ru/planets-of-the-solar-system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http://www.grandars.ru/shkola/estestvoznanie/merkuriy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http://www.grandars.ru/shkola/estestvoznanie/venera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http://dic.academic.ru/pictures/wiki/files/69/Earth_Eastern_Hemisphere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http://spacetimes.ru/img/foto/planeta-mars_big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7"/>
              </a:rPr>
              <a:t>http://www.shvedun.ru/images/stat/jp/jp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spacegid.com/wp-content/uploads/2012/12/1995-49-f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v-kosmose.com/wp-content/uploads/2013/12/4_179_br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v-kosmose.com/wp-content/uploads/2013/11/Neptune_Full_br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s://upload.wikimedia.org/wikipedia/commons/thumb/e/e1/FullMoon2010.jpg/280px-FullMoon2010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www.opoccuu.com/tunm01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s://i.ytimg.com/vi/06xW4UegYZ0/maxresdefault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terramia.ru/wp-content/uploads/2013/01/Nocturne-Eruption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galspace.spb.ru/index61.file/ic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rebuchet MS"/>
              </a:rPr>
              <a:t>Химия космоса – наука о химическом составе космических тел, межзвездного пространства, а также о химических процессах, которые протекают в космосе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Содержимое 5" descr="kosmos_nebo_3d_art_97531_1920x1080.jpg"/>
          <p:cNvPicPr/>
          <p:nvPr/>
        </p:nvPicPr>
        <p:blipFill>
          <a:blip r:embed="rId1"/>
          <a:stretch/>
        </p:blipFill>
        <p:spPr>
          <a:xfrm>
            <a:off x="728640" y="2249640"/>
            <a:ext cx="7686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еобходимые термин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12142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Звезд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светящиеся газовые массивные шары, в недрах которых протекают реакции синтеза химических элементов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ланет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небесные тела, которые вращаются по орбитам вокруг звезд или их остатков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мет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космические тела, которые состоят из замороженных газов, пы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теорит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малые космические тела, попадающие на Землю из межпланетного пространств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теоры –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явления в виде светящегося следа, которое обусловлено попаданием в атмосферу Земли метеорного тел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Межзвездная сред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разряженное вещество, электромагнитное излучение и магнитное поле, заполняющие пространство между звезд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компоненты межзвездного вещества: газ, пыль, космические луч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Нуклеосинтез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– процесс образования ядер химических элементов (тяжелее водорода) в ходе реакций ядерного синтез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Содержимое 3" descr="planets-of-the-solar-system.jpg"/>
          <p:cNvPicPr/>
          <p:nvPr/>
        </p:nvPicPr>
        <p:blipFill>
          <a:blip r:embed="rId1"/>
          <a:stretch/>
        </p:blipFill>
        <p:spPr>
          <a:xfrm>
            <a:off x="214200" y="1714680"/>
            <a:ext cx="87156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3" descr="меркурий.jpg"/>
          <p:cNvPicPr/>
          <p:nvPr/>
        </p:nvPicPr>
        <p:blipFill>
          <a:blip r:embed="rId1"/>
          <a:stretch/>
        </p:blipFill>
        <p:spPr>
          <a:xfrm>
            <a:off x="214200" y="785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14200" y="31431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5" descr="венера.jpg"/>
          <p:cNvPicPr/>
          <p:nvPr/>
        </p:nvPicPr>
        <p:blipFill>
          <a:blip r:embed="rId2"/>
          <a:stretch/>
        </p:blipFill>
        <p:spPr>
          <a:xfrm>
            <a:off x="214200" y="3500280"/>
            <a:ext cx="3048120" cy="2733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8584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7" descr="земля.jpg"/>
          <p:cNvPicPr/>
          <p:nvPr/>
        </p:nvPicPr>
        <p:blipFill>
          <a:blip r:embed="rId3"/>
          <a:stretch/>
        </p:blipFill>
        <p:spPr>
          <a:xfrm>
            <a:off x="5715000" y="642960"/>
            <a:ext cx="2643120" cy="2500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5715000" y="3143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9" descr="марс.jpg"/>
          <p:cNvPicPr/>
          <p:nvPr/>
        </p:nvPicPr>
        <p:blipFill>
          <a:blip r:embed="rId4"/>
          <a:stretch/>
        </p:blipFill>
        <p:spPr>
          <a:xfrm>
            <a:off x="5715000" y="3500280"/>
            <a:ext cx="2643120" cy="2643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5715000" y="62150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юпитер.jpg"/>
          <p:cNvPicPr/>
          <p:nvPr/>
        </p:nvPicPr>
        <p:blipFill>
          <a:blip r:embed="rId1"/>
          <a:stretch/>
        </p:blipFill>
        <p:spPr>
          <a:xfrm>
            <a:off x="0" y="642960"/>
            <a:ext cx="343044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214200" y="33577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сатурн.jpg"/>
          <p:cNvPicPr/>
          <p:nvPr/>
        </p:nvPicPr>
        <p:blipFill>
          <a:blip r:embed="rId2"/>
          <a:stretch/>
        </p:blipFill>
        <p:spPr>
          <a:xfrm>
            <a:off x="0" y="3714840"/>
            <a:ext cx="3500280" cy="24177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214200" y="62150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7" descr="уран.jpg"/>
          <p:cNvPicPr/>
          <p:nvPr/>
        </p:nvPicPr>
        <p:blipFill>
          <a:blip r:embed="rId3"/>
          <a:stretch/>
        </p:blipFill>
        <p:spPr>
          <a:xfrm>
            <a:off x="4714920" y="500040"/>
            <a:ext cx="4143240" cy="2678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4786200" y="32148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9" descr="нептун.jpg"/>
          <p:cNvPicPr/>
          <p:nvPr/>
        </p:nvPicPr>
        <p:blipFill>
          <a:blip r:embed="rId4"/>
          <a:stretch/>
        </p:blipFill>
        <p:spPr>
          <a:xfrm>
            <a:off x="4857840" y="3714840"/>
            <a:ext cx="3500280" cy="24858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0"/>
          <p:cNvSpPr/>
          <p:nvPr/>
        </p:nvSpPr>
        <p:spPr>
          <a:xfrm>
            <a:off x="5214960" y="6143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уна – спутник Земли, ее сырьевая база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Содержимое 5" descr="луна.jpg"/>
          <p:cNvPicPr/>
          <p:nvPr/>
        </p:nvPicPr>
        <p:blipFill>
          <a:blip r:embed="rId1"/>
          <a:stretch/>
        </p:blipFill>
        <p:spPr>
          <a:xfrm>
            <a:off x="285840" y="2428920"/>
            <a:ext cx="42148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5" descr="метеорит.jpg"/>
          <p:cNvPicPr/>
          <p:nvPr/>
        </p:nvPicPr>
        <p:blipFill>
          <a:blip r:embed="rId1"/>
          <a:stretch/>
        </p:blipFill>
        <p:spPr>
          <a:xfrm>
            <a:off x="214200" y="857160"/>
            <a:ext cx="3834000" cy="28908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214200" y="39290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7" descr="комета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4714920" y="6143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вичный нуклеосинтез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928800"/>
          <a:ext cx="9144000" cy="6429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зраст вселе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пература,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стояние и состав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йтроны, протоны, электроны, позитроны в тепловом равновесии. Число n и p одинако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2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ицы те же, но отношение числа протонов к числу нейтронов 3: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ктроны и позитроны аннигилируют, p:n =3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8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инают образовываться ядра дейтерия D и гелия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, исчезают электроны и позитроны, есть свободные протоны и нейтро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количество D и Не по отношению к числу p и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: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≈24-25% по м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7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*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ческой энергии достаточно для образования устойчивых нейтральных атомов. Вселенная прозрачна для излучения. Вещество доминирует над излуч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16:03:06Z</dcterms:created>
  <dc:creator>Валентина Бовыка</dc:creator>
  <dc:description/>
  <dc:language>en-US</dc:language>
  <cp:lastModifiedBy>СОШ №20</cp:lastModifiedBy>
  <dcterms:modified xsi:type="dcterms:W3CDTF">2017-09-21T13:52:51Z</dcterms:modified>
  <cp:revision>10</cp:revision>
  <dc:subject/>
  <dc:title>Распространенность химических элементов на Земле и в космосе. Образование химических элементов в процессе первичного нуклеосинтеза и в недрах звезд</dc:title>
</cp:coreProperties>
</file>