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D9D-4898-4D90-A32D-63527B20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642-B36D-436E-8652-087D68A3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CC2-D2D8-4CC4-9C1F-9EE52DDE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B50-C0E6-479B-BBE3-7013343B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F8F5-C36C-4114-805C-A8E2A89A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22A6-016D-49ED-99FC-6145AB5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D71E-01C1-4FDA-A263-4B96696A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856E-BC9A-4DDF-B74B-55F0774C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B895-65E1-4B52-855B-BC9475E7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4C2-5C0D-4E88-9406-A05C9E4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9CC-A7A8-49E8-A35F-763805F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B26-1A6D-49AD-8277-CA3E9A8A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DB9-C672-4864-BEAE-660D754C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EEB-7B83-4D19-90C7-49F693E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96A4-FE5F-4EF5-8D42-D79DF41B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188-473D-4FB2-B40E-7C4CB983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E64F-F645-4EB3-AAE6-0F5A51BC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4E1D9-05FD-4BC4-929B-FB7CC59C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C4C0B-EA84-4F60-8603-B8B6AE9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3F752-0311-43FC-B50F-C50B6A13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59CD3-A256-4DFD-8D00-7D0414A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0A59C-B777-434D-8C6A-AB3E2517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7C6-2EF7-4A12-9D45-9C975BA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F3B8A-2A6A-4DF6-9CC5-3B8A7A5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F27BC-6BF3-41C5-BBC2-853772DF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C82C6-496C-4F3C-93BB-622AD1C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3ED79-38EC-42B2-8F2B-57881BD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7AAA7-EA02-42AE-81B5-CD93F20C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3C587-651A-4218-A7FE-61CAF65B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73F92-86B8-4300-9187-F35E14F6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CCA9-0150-4D54-A24D-F328B37D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BB3D-EA90-4EB0-AE53-66D6B966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F63F-E7D5-4749-BFFC-607FB20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3D8-C004-4191-BCA5-0CFC8370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2785-AF6A-4085-9BE5-9A81ECC0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58A4-E0A6-4D97-9F01-FFF0915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BA22-F381-46AC-982C-43D8EB06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0C55-E366-4F85-AE76-E02D142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B242-FA7F-43A1-963F-1F181A5C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291F-FAEF-448F-B087-01FF74D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0C00-F9A4-4CC2-929B-4D845AEE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16D0-9150-4D4A-975A-0526EDC1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D75C-EDE5-4FDA-9AA3-9FB78A1F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1AA-A1AE-4DF4-A2C7-95025258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A7C-9F38-411A-B5B5-B021ED5E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ACD-5639-48FD-80E4-2BF044F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D0D-D33B-48DA-873E-ADF208E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F03-4B54-479A-9DB4-B7119C0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D48-D4FA-47C6-BBA6-A31F9D2550C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2DE6-3FB0-46ED-8210-5481C562024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3F75-FAA9-448E-AB79-8C0320F39D1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2A6-86AD-4DFB-BC38-E513C6236B8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allpaperscraft.ru/catalog/space/1920x1080" TargetMode="External"/><Relationship Id="rId2" Type="http://schemas.openxmlformats.org/officeDocument/2006/relationships/hyperlink" Target="http://www.cosmos-online.ru/planets-of-the-solar-system.html" TargetMode="External"/><Relationship Id="rId3" Type="http://schemas.openxmlformats.org/officeDocument/2006/relationships/hyperlink" Target="http://www.grandars.ru/shkola/estestvoznanie/merkuriy.html" TargetMode="External"/><Relationship Id="rId4" Type="http://schemas.openxmlformats.org/officeDocument/2006/relationships/hyperlink" Target="http://www.grandars.ru/shkola/estestvoznanie/venera.html" TargetMode="External"/><Relationship Id="rId5" Type="http://schemas.openxmlformats.org/officeDocument/2006/relationships/hyperlink" Target="http://dic.academic.ru/pictures/wiki/files/69/Earth_Eastern_Hemisphere.jpg" TargetMode="External"/><Relationship Id="rId6" Type="http://schemas.openxmlformats.org/officeDocument/2006/relationships/hyperlink" Target="http://spacetimes.ru/img/foto/planeta-mars_big.jpg" TargetMode="External"/><Relationship Id="rId7" Type="http://schemas.openxmlformats.org/officeDocument/2006/relationships/hyperlink" Target="http://www.shvedun.ru/images/stat/jp/jp.jp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2280" y="2142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Распространенность химических элементов на Земле и в космосе. Образование химических элементов в процессе первичного нуклеосинтеза и в недрах звезд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071440" y="4214880"/>
            <a:ext cx="66150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еница 10 «Б» класса   МБОУ СОШ №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Бовыка Валенти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уководитель: Скрылева З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звездное небо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сновные реакции протекающие в недрах звезд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 →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→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→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+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-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 →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+ v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4" descr="межзвездная среда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сновные реакции протекающие за счет компонентов межзвездной сред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85840" y="2928960"/>
            <a:ext cx="822960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→2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n→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→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-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-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 →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спространенность химических элементов в галактике Млечный пут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3" name="Содержимое 3" descr=""/>
          <p:cNvPicPr/>
          <p:nvPr/>
        </p:nvPicPr>
        <p:blipFill>
          <a:blip r:embed="rId1"/>
          <a:stretch/>
        </p:blipFill>
        <p:spPr>
          <a:xfrm>
            <a:off x="0" y="1857240"/>
            <a:ext cx="8872560" cy="500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3"/>
          <p:cNvSpPr/>
          <p:nvPr/>
        </p:nvSpPr>
        <p:spPr>
          <a:xfrm>
            <a:off x="7429680" y="6286680"/>
            <a:ext cx="50004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исок использованных ресурс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2855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allpaperscraft.ru/catalog/space/1920x108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ww.cosmos-online.ru/planets-of-the-solar-system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http://www.grandars.ru/shkola/estestvoznanie/merkuriy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http://www.grandars.ru/shkola/estestvoznanie/venera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http://dic.academic.ru/pictures/wiki/files/69/Earth_Eastern_Hemisphere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http://spacetimes.ru/img/foto/planeta-mars_big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7"/>
              </a:rPr>
              <a:t>http://www.shvedun.ru/images/stat/jp/jp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spacegid.com/wp-content/uploads/2012/12/1995-49-f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v-kosmose.com/wp-content/uploads/2013/12/4_179_br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v-kosmose.com/wp-content/uploads/2013/11/Neptune_Full_br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s://upload.wikimedia.org/wikipedia/commons/thumb/e/e1/FullMoon2010.jpg/280px-FullMoon2010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www.opoccuu.com/tunm01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s://i.ytimg.com/vi/06xW4UegYZ0/maxresdefault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terramia.ru/wp-content/uploads/2013/01/Nocturne-Eruption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galspace.spb.ru/index61.file/ic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Trebuchet MS"/>
              </a:rPr>
              <a:t>Химия космоса – наука о химическом составе космических тел, межзвездного пространства, а также о химических процессах, которые протекают в космосе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Содержимое 5" descr="kosmos_nebo_3d_art_97531_1920x1080.jpg"/>
          <p:cNvPicPr/>
          <p:nvPr/>
        </p:nvPicPr>
        <p:blipFill>
          <a:blip r:embed="rId1"/>
          <a:stretch/>
        </p:blipFill>
        <p:spPr>
          <a:xfrm>
            <a:off x="728640" y="2249640"/>
            <a:ext cx="7686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еобходимые термин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121428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Звезд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светящиеся газовые массивные шары, в недрах которых протекают реакции синтеза химических элементов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ланет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небесные тела, которые вращаются по орбитам вокруг звезд или их остатков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Комет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космические тела, которые состоят из замороженных газов, пыл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Метеорит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малые космические тела, попадающие на Землю из межпланетного пространств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Метеоры –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явления в виде светящегося следа, которое обусловлено попаданием в атмосферу Земли метеорного тел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Межзвездная сред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разряженное вещество, электромагнитное излучение и магнитное поле, заполняющие пространство между звезд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компоненты межзвездного вещества: газ, пыль, космические луч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Нуклеосинтез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процесс образования ядер химических элементов (тяжелее водорода) в ходе реакций ядерного синтез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Содержимое 3" descr="planets-of-the-solar-system.jpg"/>
          <p:cNvPicPr/>
          <p:nvPr/>
        </p:nvPicPr>
        <p:blipFill>
          <a:blip r:embed="rId1"/>
          <a:stretch/>
        </p:blipFill>
        <p:spPr>
          <a:xfrm>
            <a:off x="214200" y="1714680"/>
            <a:ext cx="87156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3" descr="меркурий.jpg"/>
          <p:cNvPicPr/>
          <p:nvPr/>
        </p:nvPicPr>
        <p:blipFill>
          <a:blip r:embed="rId1"/>
          <a:stretch/>
        </p:blipFill>
        <p:spPr>
          <a:xfrm>
            <a:off x="214200" y="785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14200" y="31431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5" descr="венера.jpg"/>
          <p:cNvPicPr/>
          <p:nvPr/>
        </p:nvPicPr>
        <p:blipFill>
          <a:blip r:embed="rId2"/>
          <a:stretch/>
        </p:blipFill>
        <p:spPr>
          <a:xfrm>
            <a:off x="214200" y="3500280"/>
            <a:ext cx="3048120" cy="2733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8584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7" descr="земля.jpg"/>
          <p:cNvPicPr/>
          <p:nvPr/>
        </p:nvPicPr>
        <p:blipFill>
          <a:blip r:embed="rId3"/>
          <a:stretch/>
        </p:blipFill>
        <p:spPr>
          <a:xfrm>
            <a:off x="5715000" y="642960"/>
            <a:ext cx="2643120" cy="2500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5715000" y="3143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9" descr="марс.jpg"/>
          <p:cNvPicPr/>
          <p:nvPr/>
        </p:nvPicPr>
        <p:blipFill>
          <a:blip r:embed="rId4"/>
          <a:stretch/>
        </p:blipFill>
        <p:spPr>
          <a:xfrm>
            <a:off x="5715000" y="3500280"/>
            <a:ext cx="2643120" cy="2643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5715000" y="62150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юпитер.jpg"/>
          <p:cNvPicPr/>
          <p:nvPr/>
        </p:nvPicPr>
        <p:blipFill>
          <a:blip r:embed="rId1"/>
          <a:stretch/>
        </p:blipFill>
        <p:spPr>
          <a:xfrm>
            <a:off x="0" y="642960"/>
            <a:ext cx="3430440" cy="26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214200" y="33577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сатурн.jpg"/>
          <p:cNvPicPr/>
          <p:nvPr/>
        </p:nvPicPr>
        <p:blipFill>
          <a:blip r:embed="rId2"/>
          <a:stretch/>
        </p:blipFill>
        <p:spPr>
          <a:xfrm>
            <a:off x="0" y="3714840"/>
            <a:ext cx="3500280" cy="24177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214200" y="62150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7" descr="уран.jpg"/>
          <p:cNvPicPr/>
          <p:nvPr/>
        </p:nvPicPr>
        <p:blipFill>
          <a:blip r:embed="rId3"/>
          <a:stretch/>
        </p:blipFill>
        <p:spPr>
          <a:xfrm>
            <a:off x="4714920" y="500040"/>
            <a:ext cx="4143240" cy="26780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4786200" y="32148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9" descr="нептун.jpg"/>
          <p:cNvPicPr/>
          <p:nvPr/>
        </p:nvPicPr>
        <p:blipFill>
          <a:blip r:embed="rId4"/>
          <a:stretch/>
        </p:blipFill>
        <p:spPr>
          <a:xfrm>
            <a:off x="4857840" y="3714840"/>
            <a:ext cx="3500280" cy="24858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0"/>
          <p:cNvSpPr/>
          <p:nvPr/>
        </p:nvSpPr>
        <p:spPr>
          <a:xfrm>
            <a:off x="5214960" y="6143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уна – спутник Земли, ее сырьевая база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Содержимое 5" descr="луна.jpg"/>
          <p:cNvPicPr/>
          <p:nvPr/>
        </p:nvPicPr>
        <p:blipFill>
          <a:blip r:embed="rId1"/>
          <a:stretch/>
        </p:blipFill>
        <p:spPr>
          <a:xfrm>
            <a:off x="285840" y="2428920"/>
            <a:ext cx="42148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5" descr="метеорит.jpg"/>
          <p:cNvPicPr/>
          <p:nvPr/>
        </p:nvPicPr>
        <p:blipFill>
          <a:blip r:embed="rId1"/>
          <a:stretch/>
        </p:blipFill>
        <p:spPr>
          <a:xfrm>
            <a:off x="214200" y="857160"/>
            <a:ext cx="3834000" cy="28908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214200" y="39290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7" descr="комета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4714920" y="6143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вичный нуклеосинтез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928800"/>
          <a:ext cx="9144000" cy="6429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зраст вселен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мпература,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стояние и состав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йтроны, протоны, электроны, позитроны в тепловом равновесии. Число n и p одинаков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82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ицы те же, но отношение числа протонов к числу нейтронов 3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5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ктроны и позитроны аннигилируют, p:n =3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8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инают образовываться ядра дейтерия D и гелия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, исчезают электроны и позитроны, есть свободные протоны и нейтро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авливается количество D и Не по отношению к числу p и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: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≈24-25% по м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7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ческой энергии достаточно для образования устойчивых нейтральных атомов. Вселенная прозрачна для излучения. Вещество доминирует над излуч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2T16:03:06Z</dcterms:created>
  <dc:creator>Валентина Бовыка</dc:creator>
  <dc:description/>
  <dc:language>en-US</dc:language>
  <cp:lastModifiedBy>СОШ №20</cp:lastModifiedBy>
  <dcterms:modified xsi:type="dcterms:W3CDTF">2017-09-21T13:52:51Z</dcterms:modified>
  <cp:revision>10</cp:revision>
  <dc:subject/>
  <dc:title>Распространенность химических элементов на Земле и в космосе. Образование химических элементов в процессе первичного нуклеосинтеза и в недрах звезд</dc:title>
</cp:coreProperties>
</file>