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0D7-54C3-4ADC-84FE-D2621EA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E0B-0B84-450E-A1F1-2B6F6A54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C9A-6800-4335-ADD6-DF6EEB8E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A49-C51C-444D-BA3F-4566B3B1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3B4-4F2D-40BC-AC29-130E6C74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8B3-5C70-47B2-90A1-2511F32D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CEE-B8BF-459D-903B-096A811D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792F-9D18-4AA5-86B2-25F3FD0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8DA-09BF-40D5-BC80-FC70D480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9AD-4917-4C2D-A0F6-45505598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AE97-3B87-41C7-8EB1-822BD45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A25-24F0-48AC-B553-DA83564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C9B-C8D3-485B-8E07-76DF7F9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2E2-70EE-4013-9272-477C6AD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558D-39AC-42D3-B52C-04EB97C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E23B-F32E-4059-B262-F0C79AEF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71F-1180-40FB-969C-C7FB8E6F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B81-B22C-46CD-B9F9-C43589C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58A-3573-46D2-8606-37B27D62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27F-934D-46F4-8AF1-64C1848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6C7-7353-4B03-A5A7-EFD81F3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1CA-1A8D-4692-846E-6AE499A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01E-CC7D-49A3-8394-FE19EB8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186-F282-4AAE-B94A-68C128E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86EC-2333-4F17-AF5F-CB6CD4D6CFC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6DD-5E25-4E6F-AF22-32C7BD421CC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imes New Roman"/>
              </a:rPr>
              <a:t>Деепричастие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908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Деепричас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что дела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что сделав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как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2133360"/>
            <a:ext cx="14292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2133720"/>
            <a:ext cx="7308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59280" y="2781360"/>
            <a:ext cx="144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2781360"/>
            <a:ext cx="730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 Black"/>
              </a:rPr>
              <a:t>Деепричас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0200" y="2205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79af7d"/>
                </a:solidFill>
                <a:latin typeface="Times New Roman"/>
              </a:rPr>
              <a:t>глаг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2050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af7d"/>
                </a:solidFill>
                <a:latin typeface="Times New Roman"/>
              </a:rPr>
              <a:t>нареч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4880" y="27082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0b854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b854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0b854"/>
                </a:solidFill>
                <a:latin typeface="Times New Roman"/>
              </a:rPr>
              <a:t>возврат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2637000"/>
            <a:ext cx="2376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0b854"/>
                </a:solidFill>
                <a:latin typeface="Times New Roman"/>
              </a:rPr>
              <a:t>неизменяем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626920" y="1628640"/>
            <a:ext cx="1513080" cy="648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1628640"/>
            <a:ext cx="1727280" cy="720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97640" y="359244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грая- несов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играв- сов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лыбая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поткнувши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22360" y="359244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мети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туч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дбадрив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скачивая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79640" y="4149360"/>
            <a:ext cx="14436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4149720"/>
            <a:ext cx="7164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11280" y="4436640"/>
            <a:ext cx="14472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4437000"/>
            <a:ext cx="712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3716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732720" y="3573000"/>
            <a:ext cx="14436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3573360"/>
            <a:ext cx="7128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443640" y="3789360"/>
            <a:ext cx="144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3860640"/>
            <a:ext cx="712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093080" y="4436640"/>
            <a:ext cx="712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4360" y="4437000"/>
            <a:ext cx="71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6000" y="4436640"/>
            <a:ext cx="7272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4437000"/>
            <a:ext cx="14292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308720" y="4076640"/>
            <a:ext cx="7164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0360" y="4076640"/>
            <a:ext cx="712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Функция деепричаст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1628640"/>
            <a:ext cx="2735280" cy="1635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555640" y="3213000"/>
            <a:ext cx="136836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141720"/>
            <a:ext cx="1441440" cy="1152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414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Глагол-сказуем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основное действи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7240" y="414972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обавоч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420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797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иш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8720" y="4797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ид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5229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тои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8520" y="5157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олнуя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67480" y="327492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епричас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5084640"/>
            <a:ext cx="27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5445000"/>
            <a:ext cx="27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474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10720" y="51055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5608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шё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38360" y="5537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глядывая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5805360"/>
            <a:ext cx="27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7640" y="551664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0720" y="5392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95840" y="3201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Деепричастный оборот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2205000"/>
            <a:ext cx="35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40000" y="314172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48000" y="256536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4168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17024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Улыбаясь</a:t>
            </a: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 весел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32720" y="2924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47840" y="2514600"/>
            <a:ext cx="16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Сидя</a:t>
            </a: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 на стул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Употребление деепричастных оборотов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действ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195640" y="2276280"/>
            <a:ext cx="1224000" cy="71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3284640"/>
            <a:ext cx="1295280" cy="57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19640" y="19890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Глагол-сказуем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основно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42900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еепричас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добавочно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349360"/>
            <a:ext cx="936360" cy="719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435640" y="3141720"/>
            <a:ext cx="1008000" cy="720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43640" y="2781360"/>
            <a:ext cx="23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лицо, предмет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живое существ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436572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   Прочитав рукопись вторично, я понял, что она нуждается в серьёз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оработ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 Листья, плавно кружась в воздухе, падали на земл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. Собаки, немного полаяв, успокоилис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бразование деепричаст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Деепричас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совершенного вид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овершенного вид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8360" y="26370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68360" y="2637000"/>
            <a:ext cx="0" cy="1008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2637000"/>
            <a:ext cx="0" cy="93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378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нова наст.вр.+ а, 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6064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132000" y="3715920"/>
            <a:ext cx="14472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716280"/>
            <a:ext cx="712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419640" y="3715920"/>
            <a:ext cx="712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3716280"/>
            <a:ext cx="71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4221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лядим + я = глядя                      крикнуть + в = крикнув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44370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3280" y="4437000"/>
            <a:ext cx="0" cy="7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50864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32000" y="458136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4508640"/>
            <a:ext cx="0" cy="7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35280" y="4508640"/>
            <a:ext cx="0" cy="7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03640" y="4220640"/>
            <a:ext cx="144360" cy="7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0" y="4221000"/>
            <a:ext cx="71640" cy="7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724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лачем + а = плача                     улыбнуться + вши = улыбнувши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влечь + ши = увлёкш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5013360"/>
            <a:ext cx="0" cy="71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35280" y="494172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508464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11280" y="4221000"/>
            <a:ext cx="730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4360" y="422100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11280" y="472428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724280"/>
            <a:ext cx="730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276720" y="4724280"/>
            <a:ext cx="7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48000" y="472428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89360"/>
            <a:ext cx="44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нова инфинитива + в, вши, ш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867280" y="4221000"/>
            <a:ext cx="730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0360" y="422100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20000" y="4221000"/>
            <a:ext cx="730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93080" y="4221000"/>
            <a:ext cx="7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227640" y="4724280"/>
            <a:ext cx="2890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6720" y="4724280"/>
            <a:ext cx="14292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740720" y="4653000"/>
            <a:ext cx="2872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28000" y="4653000"/>
            <a:ext cx="144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96000" y="5229000"/>
            <a:ext cx="1443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0360" y="5229360"/>
            <a:ext cx="14436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48360" y="5229000"/>
            <a:ext cx="14472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3080" y="5229360"/>
            <a:ext cx="21564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4581360"/>
            <a:ext cx="64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4508640"/>
            <a:ext cx="0" cy="7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35640" y="4508640"/>
            <a:ext cx="0" cy="7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88000" y="5084640"/>
            <a:ext cx="720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16360" y="5013360"/>
            <a:ext cx="0" cy="71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494172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5084640"/>
            <a:ext cx="287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24360" y="5013360"/>
            <a:ext cx="0" cy="71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5013360"/>
            <a:ext cx="0" cy="71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0" y="458136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88000" y="566100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08720" y="551664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16360" y="551664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948360" y="3789000"/>
            <a:ext cx="71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3789360"/>
            <a:ext cx="1443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236000" y="3789000"/>
            <a:ext cx="215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51640" y="3789360"/>
            <a:ext cx="21600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40720" y="3789000"/>
            <a:ext cx="2174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56720" y="3789360"/>
            <a:ext cx="215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2720" y="566100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Алгоритм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употребления д/о в предложен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ИНФИНИТИВЕ В Б/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ГЛАГОЛЕ В ПОВЕЛИ-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ПРИ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ТЕЛЬНОМ НАКЛОНЕ-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Н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ГЛАГОЛАХ 1-го и 2-г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ЛИЦА В О/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80000" y="1844640"/>
            <a:ext cx="0" cy="32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1773360"/>
            <a:ext cx="433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92560" y="155736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едактируя рукопись, необходим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читывать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авторский стил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27560" y="2421000"/>
            <a:ext cx="42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зложив в сочинении личностную позицию, продуманно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аргументируй- те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её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56000" y="366552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итая воспоминания о Толстом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имаешь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его величие как писателя 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ело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971640" y="2133360"/>
            <a:ext cx="287280" cy="71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292428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3068640"/>
            <a:ext cx="287280" cy="647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2852640"/>
            <a:ext cx="431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80000" y="400536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4200" y="4960800"/>
            <a:ext cx="47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тановясь взрослее,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думываемся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воём будущ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0" y="5229360"/>
            <a:ext cx="57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Times New Roman"/>
              </a:rPr>
              <a:t>Ошибки при употреблении д/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cap="rnd" w="76320">
            <a:solidFill>
              <a:srgbClr val="2f1311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озвращаясь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омой, меня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астиг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     производители действия не совпадают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ождь.                                                                    (лицо и явление природы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Кончив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грать,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ыл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уже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поздн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                       б/л - нет инфинитива, нет лица общег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ля действия. (правильный вариант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огда кончил играть, было уже позд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)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Делая вывод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Обломов не жил,                           д/о относится к пропущенной граммати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существовал.                                                      ческой основе: Делая вывод, можно ска-                                                               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ть, Обломов не жил, а существовова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Приступая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 работе над рефератом,                   использована страдательная конструкц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ема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должна быть интересн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ам и                    (должна быть интересна и продумана),таки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хорошо продумана.                                               конструкции не сочетаются с деепричастие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44:04Z</dcterms:created>
  <dc:creator>user</dc:creator>
  <dc:description/>
  <dc:language>en-US</dc:language>
  <cp:lastModifiedBy>Installer</cp:lastModifiedBy>
  <dcterms:modified xsi:type="dcterms:W3CDTF">2013-05-27T10:28:42Z</dcterms:modified>
  <cp:revision>14</cp:revision>
  <dc:subject/>
  <dc:title>Деепричастие</dc:title>
</cp:coreProperties>
</file>