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4E7B-8FB2-4A08-8DD0-B69EB042B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A6D0-2BF2-4C26-8F9F-7827E60B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75B5-6393-4813-B870-88C36497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1B95-BF4A-454E-8AC2-1415683D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970D-356A-466D-A546-4F07C7C5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F5B4-4109-4ECF-A8A6-BE83AB32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49CB-C314-4B30-BC64-8BE42561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C337-D2BC-4FAA-8AF8-81C6347E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84DC-DB22-4B99-ACD7-C2467D4D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4CA5-0A7C-4DCF-8FD0-1B225D88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62DD-5A0C-4AEC-99F1-3E2E924F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4ACA-BBE6-4024-9D42-432AD915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6B4C-D0EF-4D42-BA64-74C9DC20247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1"/>
          <a:stretch/>
        </p:blipFill>
        <p:spPr>
          <a:xfrm>
            <a:off x="324000" y="0"/>
            <a:ext cx="849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920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Pim0112"/>
          <p:cNvPicPr/>
          <p:nvPr/>
        </p:nvPicPr>
        <p:blipFill>
          <a:blip r:embed="rId1"/>
          <a:stretch/>
        </p:blipFill>
        <p:spPr>
          <a:xfrm>
            <a:off x="971640" y="189000"/>
            <a:ext cx="734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Pim0037"/>
          <p:cNvPicPr/>
          <p:nvPr/>
        </p:nvPicPr>
        <p:blipFill>
          <a:blip r:embed="rId1"/>
          <a:stretch/>
        </p:blipFill>
        <p:spPr>
          <a:xfrm>
            <a:off x="1285920" y="6480"/>
            <a:ext cx="657396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стный   журна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900000" y="1268280"/>
            <a:ext cx="7923240" cy="482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кусство владения словом</a:t>
            </a:r>
            <a:endParaRPr b="0" lang="en-US" sz="4400" spc="1" strike="noStrike">
              <a:ln w="1908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1" strike="noStrike">
              <a:ln w="1908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2627280" y="20520"/>
            <a:ext cx="3559320" cy="68374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зоп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  страниц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00"/>
                </a:solidFill>
                <a:latin typeface="Arial"/>
              </a:rPr>
              <a:t>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Arial"/>
              </a:rPr>
              <a:t>« Русский  язык –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Arial"/>
              </a:rPr>
              <a:t>          </a:t>
            </a:r>
            <a:r>
              <a:rPr b="1" i="1" lang="ru-RU" sz="4000" spc="-1" strike="noStrike">
                <a:solidFill>
                  <a:srgbClr val="ffcc00"/>
                </a:solidFill>
                <a:latin typeface="Arial"/>
              </a:rPr>
              <a:t>один  из  богатейших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Arial"/>
              </a:rPr>
              <a:t>                              </a:t>
            </a:r>
            <a:r>
              <a:rPr b="1" i="1" lang="ru-RU" sz="4000" spc="-1" strike="noStrike">
                <a:solidFill>
                  <a:srgbClr val="ffcc00"/>
                </a:solidFill>
                <a:latin typeface="Arial"/>
              </a:rPr>
              <a:t>языков  мира 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  страниц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cc00"/>
                </a:solidFill>
                <a:latin typeface="Arial"/>
              </a:rPr>
              <a:t>« Речь  и  наш  голос 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2700360" y="1281240"/>
            <a:ext cx="3438360" cy="55767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ократ. Древнегреческий бюст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ицерон. Древняя скульптур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2771640" y="1316160"/>
            <a:ext cx="374508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016080" cy="67834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емосфен.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ревнегреческая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татуя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403280" y="0"/>
            <a:ext cx="662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2124000" y="-4680"/>
            <a:ext cx="5085000" cy="68626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623736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.Н.Толстой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3  страниц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i="1" lang="ru-RU" sz="4000" spc="-1" strike="noStrike">
                <a:solidFill>
                  <a:srgbClr val="ee941c"/>
                </a:solidFill>
                <a:latin typeface="Arial"/>
              </a:rPr>
              <a:t>« Речь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e941c"/>
                </a:solidFill>
                <a:latin typeface="Arial"/>
              </a:rPr>
              <a:t>         </a:t>
            </a:r>
            <a:r>
              <a:rPr b="1" i="1" lang="ru-RU" sz="4000" spc="-1" strike="noStrike">
                <a:solidFill>
                  <a:srgbClr val="ee941c"/>
                </a:solidFill>
                <a:latin typeface="Arial"/>
              </a:rPr>
              <a:t>правильная  и  хорошая 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асивее, мы так хочем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суг, шофер, процент, заем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вартал, портфель, билютен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ерх плана выполняем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гент звонит целый де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4  страниц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1" i="1" lang="ru-RU" sz="4000" spc="-1" strike="noStrike">
                <a:solidFill>
                  <a:srgbClr val="ffcc00"/>
                </a:solidFill>
                <a:latin typeface="Arial"/>
              </a:rPr>
              <a:t>« Говорить  и  писать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Arial"/>
              </a:rPr>
              <a:t>            </a:t>
            </a:r>
            <a:r>
              <a:rPr b="1" i="1" lang="ru-RU" sz="4000" spc="-1" strike="noStrike">
                <a:solidFill>
                  <a:srgbClr val="ffcc00"/>
                </a:solidFill>
                <a:latin typeface="Arial"/>
              </a:rPr>
              <a:t>надо  точно 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овет  муллы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«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Не будь глупым как отец будь умным 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Жертва купц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«О, Посейдон, если ты спасёшь мои корабли, то я принесу теб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в жертву статую золотую чашу держащую.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979640" y="0"/>
            <a:ext cx="5473800" cy="68104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30028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.С.Тургенев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WordArt 5"/>
          <p:cNvSpPr txBox="1"/>
          <p:nvPr/>
        </p:nvSpPr>
        <p:spPr>
          <a:xfrm>
            <a:off x="2266920" y="2557440"/>
            <a:ext cx="461016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 за  внимание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780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769440" cy="60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8137440" cy="63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84872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684360" y="441360"/>
            <a:ext cx="77752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7748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8:48:20Z</dcterms:created>
  <dc:creator>МОУ СОШ с.Стрелец</dc:creator>
  <dc:description/>
  <dc:language>en-US</dc:language>
  <cp:lastModifiedBy>Ольга</cp:lastModifiedBy>
  <dcterms:modified xsi:type="dcterms:W3CDTF">2017-04-23T14:48:20Z</dcterms:modified>
  <cp:revision>7</cp:revision>
  <dc:subject/>
  <dc:title>Слайд 1</dc:title>
</cp:coreProperties>
</file>