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AC8-E396-47BE-A969-3F450E0A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255-C1BC-4A54-B08B-C7E8EA8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B0C-EEE0-41CD-949A-47C12194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4BB-AA61-4227-A7C3-7017BEAB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988-37B2-433E-97B1-C7825DF8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5AF-6378-4797-9AEC-FDFCFEB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8B3-71E6-4D73-9862-68B870D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9E1-7E60-4157-8D32-45AE98DD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17A-5DE4-419E-9F1D-CF0573E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8AC-3AD0-4684-B019-26AECE3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35C-05CE-4910-9A12-132B00B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87E-A55C-4D5E-A065-3D2C185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45F-FEB1-47EF-BEE9-ED52C4D7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76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по мир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47400">
            <a:off x="107640" y="4508280"/>
            <a:ext cx="2917800" cy="19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90400">
            <a:off x="6156360" y="43657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2684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0400" y="2132640"/>
            <a:ext cx="795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громными ушами и бивнями дуг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ляет по саванне, как великан больш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хоботом сумеет себя почистить о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икого сильнее, чем африкански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720" y="259560"/>
            <a:ext cx="83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и слон. У слона – нос – хобот. Слон самое крупное животное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53040" y="1988280"/>
            <a:ext cx="653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т потеха так потех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больших и для ребя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н сидит на ветке эх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яет всё подря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33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гай очень красивая птица. У него длинный хвост, яркое оперение, а клюв крюч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915560"/>
            <a:ext cx="734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б нос был просто н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б не мучился вопрос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нос – огромный ро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тогда я?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36000" cy="543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520" y="188280"/>
            <a:ext cx="91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осорог. Его тело покрыто толстой кожей серого цвета. А на лбу у носорога 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23920" y="2133000"/>
            <a:ext cx="707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нужны другие страны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м, где джунгли, где ли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кокосы и бан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 родной для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59240" y="2205000"/>
            <a:ext cx="455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этой лошадк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ёжка в полоску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хожа одёжка е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матрос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7640" y="4766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аку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горил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боль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ые крокоди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т вас кус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ь и обижать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дите, де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у гул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уковский 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365720"/>
            <a:ext cx="842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фрика — континент, расположенный к югу от Средиземного и Красного морей, востоку от Атлантического океана и к западу от Индийского океана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же, Африка не такая страшная, как описывает ее Корней Чуковский. Даже наоборот — она прекрасна. Сейчас в Африку ходят (а точнее — летают, ездят, плывут) не только дети, а взрослые. Точнее взрослые сами с собой берут детей, чтобы показать им прекрасную Афр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3235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2708280"/>
            <a:ext cx="82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ая Африка получится у вас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00000" y="2349360"/>
            <a:ext cx="784872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то же живет в Афри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23920" y="2275920"/>
            <a:ext cx="737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арь зверей – большая ко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ычит со зла немно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т он в логове, п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сит гриву, грозн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345080" cy="550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7080" y="4039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ьва густая, пушистая гр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23600" y="1580760"/>
            <a:ext cx="647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ает своей макушкой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деревьев до верх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я, как высокий кра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ый, в пятнышках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80360" cy="551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560" y="332640"/>
            <a:ext cx="85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жирафа длинные шея и ноги. Цвет шерсти желтый с коричневыми пят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9760" y="1437840"/>
            <a:ext cx="570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уклюжий и больш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пасется под вод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ивает свой живо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иплет травку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259920"/>
            <a:ext cx="87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емот – зверь с блестящей кожей, с маленькими ушками, на ногах перепонки, чтобы пл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17:17:17Z</dcterms:created>
  <dc:creator>www.PHILka.RU</dc:creator>
  <dc:description/>
  <dc:language>en-US</dc:language>
  <cp:lastModifiedBy>www.PHILka.RU</cp:lastModifiedBy>
  <dcterms:modified xsi:type="dcterms:W3CDTF">2013-05-10T18:14:26Z</dcterms:modified>
  <cp:revision>2</cp:revision>
  <dc:subject/>
  <dc:title>Слайд 1</dc:title>
</cp:coreProperties>
</file>