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282-0CF1-4683-98D3-830E3BE1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462-F712-441C-AB37-B9088873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4EF-F575-4A1F-A5B6-519E360D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18E8-5037-44C9-BE1B-F542EE3B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2D9-9C03-4241-A302-5AF8BA9B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1F2-6F99-438D-A000-390FE5E8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93DB-D481-43DD-9083-462A50D8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75A0-1D4A-4337-831B-510A2C5E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835-E4BE-43C7-9242-EAFDEB31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59C-8245-4F22-9FD9-3630185B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755-A570-470C-A49F-A9C42620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3D75-D4BF-4B3B-9330-8B758776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1F74-57C6-4606-8096-48DBD38B3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476280"/>
            <a:ext cx="7488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утешествие по миру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ФРИК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1047400">
            <a:off x="107640" y="4508280"/>
            <a:ext cx="2917800" cy="1942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590400">
            <a:off x="6156360" y="4365720"/>
            <a:ext cx="2847960" cy="213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3284640"/>
            <a:ext cx="2684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0400" y="2132640"/>
            <a:ext cx="795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огромными ушами и бивнями дуг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ляет по саванне, как великан больш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хоботом сумеет себя почистить он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никого сильнее, чем африканский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720" y="259560"/>
            <a:ext cx="83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и слон. У слона – нос – хобот. Слон самое крупное животное на Зем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53040" y="1988280"/>
            <a:ext cx="653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т потеха так потех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ля больших и для ребя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н сидит на ветке эхо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вторяет всё подряд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7056360" cy="5645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3330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угай очень красивая птица. У него длинный хвост, яркое оперение, а клюв крюч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16000" y="1915560"/>
            <a:ext cx="7345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б нос был просто но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 б не мучился вопросом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нос – огромный рог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то тогда я?.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236000" cy="5430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520" y="188280"/>
            <a:ext cx="91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носорог. Его тело покрыто толстой кожей серого цвета. А на лбу у носорога р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23920" y="2133000"/>
            <a:ext cx="7076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 нужны другие страны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м, где джунгли, где лианы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де кокосы и бананы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м родной для 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705800" cy="57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59240" y="2205000"/>
            <a:ext cx="4557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 этой лошадк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дёжка в полоску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хожа одёжка её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матроск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12944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227640" y="476640"/>
            <a:ext cx="24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фрике аку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фрике горилл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фрике больш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лые крокоди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ут вас кус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ь и обижать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ходите, де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фрику гуля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Чуковский К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365720"/>
            <a:ext cx="842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фрика — континент, расположенный к югу от Средиземного и Красного морей, востоку от Атлантического океана и к западу от Индийского океана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чно же, Африка не такая страшная, как описывает ее Корней Чуковский. Даже наоборот — она прекрасна. Сейчас в Африку ходят (а точнее — летают, ездят, плывут) не только дети, а взрослые. Точнее взрослые сами с собой берут детей, чтобы показать им прекрасную Афр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115920"/>
            <a:ext cx="32353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11280" y="2708280"/>
            <a:ext cx="8281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какая Африка получится у вас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00000" y="2349360"/>
            <a:ext cx="784872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кто же живет в Африке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23920" y="2275920"/>
            <a:ext cx="737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арь зверей – большая ко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рычит со зла немножк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ит он в логове, по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сит гриву, грозный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345080" cy="5508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57080" y="4039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льва густая, пушистая гр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23600" y="1580760"/>
            <a:ext cx="6473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стает своей макушкой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 деревьев до верхуш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ея, как высокий кран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брый, в пятнышках…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280360" cy="5518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560" y="332640"/>
            <a:ext cx="85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жирафа длинные шея и ноги. Цвет шерсти желтый с коричневыми пят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29760" y="1437840"/>
            <a:ext cx="5702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уклюжий и большой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 пасется под водой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бивает свой живот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Щиплет травку…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17080" cy="556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9280" y="259920"/>
            <a:ext cx="87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емот – зверь с блестящей кожей, с маленькими ушками, на ногах перепонки, чтобы пла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17:17:17Z</dcterms:created>
  <dc:creator>www.PHILka.RU</dc:creator>
  <dc:description/>
  <dc:language>en-US</dc:language>
  <cp:lastModifiedBy>www.PHILka.RU</cp:lastModifiedBy>
  <dcterms:modified xsi:type="dcterms:W3CDTF">2013-05-10T18:14:26Z</dcterms:modified>
  <cp:revision>2</cp:revision>
  <dc:subject/>
  <dc:title>Слайд 1</dc:title>
</cp:coreProperties>
</file>