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D9E0-C4EA-47FE-AC02-B526D3DE6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7F47-5781-4502-8CED-773FEFEB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94C3-177D-4369-9EE2-17D8B1364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E860-01C0-45F1-9D3C-10F2D92A5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5E40-67F5-4E08-97CB-615414D3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39D9-30A8-49D2-AD6C-3D1A1415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2CFA-5E8F-4151-ABFB-F8C3DFFA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E60C-2758-4D44-A0AF-E2D89518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9D2D-E798-4D73-8399-C45B7A75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6B44-3923-49BA-AA1E-7C1845E8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C88A-D9B8-4AA8-800A-2FE13350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4A79-F6CD-45A6-BA35-00D3E553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5E6D-C204-4B53-90FD-322DA5807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42920" y="476280"/>
            <a:ext cx="7488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утешествие по миру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ФРИКА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 rot="21047400">
            <a:off x="107640" y="4508280"/>
            <a:ext cx="2917800" cy="1942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590400">
            <a:off x="6156360" y="4365720"/>
            <a:ext cx="2847960" cy="2133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276720" y="3284640"/>
            <a:ext cx="26845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0400" y="2132640"/>
            <a:ext cx="7950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огромными ушами и бивнями дуго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уляет по саванне, как великан большо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хоботом сумеет себя почистить он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т никого сильнее, чем африканский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632720" cy="5724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4720" y="259560"/>
            <a:ext cx="83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т и слон. У слона – нос – хобот. Слон самое крупное животное на Земл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53040" y="1988280"/>
            <a:ext cx="6534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т потеха так потех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ля больших и для ребят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н сидит на ветке эхо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вторяет всё подряд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58920" y="1052640"/>
            <a:ext cx="7056360" cy="5645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24000" y="33300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пугай очень красивая птица. У него длинный хвост, яркое оперение, а клюв крючк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16000" y="1915560"/>
            <a:ext cx="7345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сли б нос был просто нос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 б не мучился вопросом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сли нос – огромный рог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то тогда я?.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7236000" cy="5430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520" y="188280"/>
            <a:ext cx="91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т носорог. Его тело покрыто толстой кожей серого цвета. А на лбу у носорога р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23920" y="2133000"/>
            <a:ext cx="7076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е нужны другие страны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ам, где джунгли, где лианы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де кокосы и бананы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м родной для ..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705800" cy="57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59240" y="2205000"/>
            <a:ext cx="4557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 этой лошадки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дёжка в полоску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хожа одёжка её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 матроску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712944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227640" y="476640"/>
            <a:ext cx="244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Африке акул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Африке горилл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Африке больш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лые крокодил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удут вас куса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ть и обижать,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ходите, де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Африку гуля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Чуковский К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4365720"/>
            <a:ext cx="8426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фрика — континент, расположенный к югу от Средиземного и Красного морей, востоку от Атлантического океана и к западу от Индийского океана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ечно же, Африка не такая страшная, как описывает ее Корней Чуковский. Даже наоборот — она прекрасна. Сейчас в Африку ходят (а точнее — летают, ездят, плывут) не только дети, а взрослые. Точнее взрослые сами с собой берут детей, чтобы показать им прекрасную Афри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16000" y="115920"/>
            <a:ext cx="32353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11280" y="2708280"/>
            <a:ext cx="8281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 какая Африка получится у вас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00000" y="2349360"/>
            <a:ext cx="7848720" cy="12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 кто же живет в Африке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23920" y="2275920"/>
            <a:ext cx="7375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Царь зверей – большая кош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рычит со зла немножко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пит он в логове, по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осит гриву, грозный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7345080" cy="5508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57080" y="403920"/>
            <a:ext cx="35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льва густая, пушистая гри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623600" y="1580760"/>
            <a:ext cx="6473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стает своей макушкой 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 деревьев до верхуш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Шея, как высокий кран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брый, в пятнышках…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280360" cy="5518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0560" y="332640"/>
            <a:ext cx="85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жирафа длинные шея и ноги. Цвет шерсти желтый с коричневыми пятн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129760" y="1437840"/>
            <a:ext cx="5702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еуклюжий и большой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н пасется под водой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бивает свой живот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Щиплет травку…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417080" cy="5562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79280" y="259920"/>
            <a:ext cx="87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гемот – зверь с блестящей кожей, с маленькими ушками, на ногах перепонки, чтобы плав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17:17:17Z</dcterms:created>
  <dc:creator>www.PHILka.RU</dc:creator>
  <dc:description/>
  <dc:language>en-US</dc:language>
  <cp:lastModifiedBy>www.PHILka.RU</cp:lastModifiedBy>
  <dcterms:modified xsi:type="dcterms:W3CDTF">2013-05-10T18:14:26Z</dcterms:modified>
  <cp:revision>2</cp:revision>
  <dc:subject/>
  <dc:title>Слайд 1</dc:title>
</cp:coreProperties>
</file>