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16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1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D14-6343-423E-8AEC-7E0468E57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DAC-585D-43D6-9FBE-5A249F88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3C6-B661-4EFF-A804-589577D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7A1-74F6-4179-A16C-E15D44A9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F1B-39B3-4F90-94E3-CCB203D5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B03-9DDF-4634-AA1B-EDE5476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D2D-A8FC-43D1-A282-6CD1FADA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522-5CC7-435E-AEEA-1B52784E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15D-E09D-4BB5-876E-240EAA6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1F0-FB0B-4C58-86A5-DB66A34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599-90AB-40E2-B8A6-EB36F4D8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A37-303C-4E6F-B197-720D591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B39-21FD-4C4C-B40B-4E8B0DB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E1FF-EA50-4FFC-BA95-31A8EF657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0" y="549360"/>
            <a:ext cx="8748720" cy="59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ницы: 3 б класс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омогая бездомным животным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помогаешь себ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равлёвой Анн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колы  № 146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00360" y="-1786320"/>
            <a:ext cx="71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P1010004"/>
          <p:cNvPicPr/>
          <p:nvPr/>
        </p:nvPicPr>
        <p:blipFill>
          <a:blip r:embed="rId1"/>
          <a:stretch/>
        </p:blipFill>
        <p:spPr>
          <a:xfrm>
            <a:off x="0" y="0"/>
            <a:ext cx="4211640" cy="31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P1010009"/>
          <p:cNvPicPr/>
          <p:nvPr/>
        </p:nvPicPr>
        <p:blipFill>
          <a:blip r:embed="rId2"/>
          <a:stretch/>
        </p:blipFill>
        <p:spPr>
          <a:xfrm>
            <a:off x="4788000" y="0"/>
            <a:ext cx="3843360" cy="28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P1010016"/>
          <p:cNvPicPr/>
          <p:nvPr/>
        </p:nvPicPr>
        <p:blipFill>
          <a:blip r:embed="rId3"/>
          <a:stretch/>
        </p:blipFill>
        <p:spPr>
          <a:xfrm>
            <a:off x="1042920" y="3195720"/>
            <a:ext cx="4753080" cy="3556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1010055"/>
          <p:cNvPicPr/>
          <p:nvPr/>
        </p:nvPicPr>
        <p:blipFill>
          <a:blip r:embed="rId4"/>
          <a:stretch/>
        </p:blipFill>
        <p:spPr>
          <a:xfrm>
            <a:off x="5986440" y="2637000"/>
            <a:ext cx="3157560" cy="4221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3"/>
          <p:cNvSpPr txBox="1"/>
          <p:nvPr/>
        </p:nvSpPr>
        <p:spPr>
          <a:xfrm>
            <a:off x="2050920" y="2565360"/>
            <a:ext cx="43214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юся и Цезарь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ff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24000" y="-360"/>
            <a:ext cx="4967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тыре года назад, гуляя рядом с нашей дачей, мы нашли в завязанном полиэтиленовом пакете двух крошечных еле живых котят. Мы взяли их домой, выходили. Котят назвали Нюся и Цезарь. Они уже выросли. У каждого свой характер, но они по-прежнему очень дру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P1010022"/>
          <p:cNvPicPr/>
          <p:nvPr/>
        </p:nvPicPr>
        <p:blipFill>
          <a:blip r:embed="rId1"/>
          <a:stretch/>
        </p:blipFill>
        <p:spPr>
          <a:xfrm>
            <a:off x="4356000" y="2276640"/>
            <a:ext cx="29242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P1010037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21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P1010036"/>
          <p:cNvPicPr/>
          <p:nvPr/>
        </p:nvPicPr>
        <p:blipFill>
          <a:blip r:embed="rId3"/>
          <a:stretch/>
        </p:blipFill>
        <p:spPr>
          <a:xfrm>
            <a:off x="5796000" y="4365720"/>
            <a:ext cx="2924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7E-006 L 0.08142 -0.19325 L 0.16302 -2.27E-006 L 0.08142 0.19348 L 3.05556E-006 -2.27E-006 Z">
                                      <p:cBhvr>
                                        <p:cTn id="28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P1010010"/>
          <p:cNvPicPr/>
          <p:nvPr/>
        </p:nvPicPr>
        <p:blipFill>
          <a:blip r:embed="rId1"/>
          <a:stretch/>
        </p:blipFill>
        <p:spPr>
          <a:xfrm>
            <a:off x="0" y="3222720"/>
            <a:ext cx="48592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P101002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7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P1010015"/>
          <p:cNvPicPr/>
          <p:nvPr/>
        </p:nvPicPr>
        <p:blipFill>
          <a:blip r:embed="rId3"/>
          <a:stretch/>
        </p:blipFill>
        <p:spPr>
          <a:xfrm>
            <a:off x="4989600" y="3749760"/>
            <a:ext cx="4154400" cy="310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P1010022"/>
          <p:cNvPicPr/>
          <p:nvPr/>
        </p:nvPicPr>
        <p:blipFill>
          <a:blip r:embed="rId4"/>
          <a:stretch/>
        </p:blipFill>
        <p:spPr>
          <a:xfrm>
            <a:off x="324000" y="0"/>
            <a:ext cx="4464000" cy="3340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3"/>
          <p:cNvSpPr txBox="1"/>
          <p:nvPr/>
        </p:nvSpPr>
        <p:spPr>
          <a:xfrm>
            <a:off x="2166840" y="3143160"/>
            <a:ext cx="49975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юся и Цезарь выросл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4" descr="P1010019"/>
          <p:cNvPicPr/>
          <p:nvPr/>
        </p:nvPicPr>
        <p:blipFill>
          <a:blip r:embed="rId1"/>
          <a:stretch/>
        </p:blipFill>
        <p:spPr>
          <a:xfrm>
            <a:off x="3203640" y="0"/>
            <a:ext cx="4059000" cy="3036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Фото-1521"/>
          <p:cNvPicPr/>
          <p:nvPr/>
        </p:nvPicPr>
        <p:blipFill>
          <a:blip r:embed="rId2"/>
          <a:stretch/>
        </p:blipFill>
        <p:spPr>
          <a:xfrm>
            <a:off x="0" y="4016520"/>
            <a:ext cx="2131920" cy="284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720" y="2060640"/>
            <a:ext cx="363528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ся  живет у бабушки с дедушкой с января 2011 г. Когда она была котенком и жила на улице, ей было трудно, приходилось бороться за жизнь. Она и сейчас по старой привычке отбирает еду у всех кошек и котов. Они на нее не обижаются, потому что они очень добр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P1010106"/>
          <p:cNvPicPr/>
          <p:nvPr/>
        </p:nvPicPr>
        <p:blipFill>
          <a:blip r:embed="rId3"/>
          <a:stretch/>
        </p:blipFill>
        <p:spPr>
          <a:xfrm>
            <a:off x="0" y="0"/>
            <a:ext cx="3016080" cy="4032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6"/>
          <p:cNvSpPr txBox="1"/>
          <p:nvPr/>
        </p:nvSpPr>
        <p:spPr>
          <a:xfrm>
            <a:off x="2700360" y="2637000"/>
            <a:ext cx="2749680" cy="14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ся</a:t>
            </a:r>
            <a:endParaRPr b="0" i="1" lang="en-US" sz="4400" spc="1" strike="noStrike">
              <a:ln w="0">
                <a:noFill/>
              </a:ln>
              <a:solidFill>
                <a:srgbClr val="00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7" descr="P1010076"/>
          <p:cNvPicPr/>
          <p:nvPr/>
        </p:nvPicPr>
        <p:blipFill>
          <a:blip r:embed="rId4"/>
          <a:stretch/>
        </p:blipFill>
        <p:spPr>
          <a:xfrm>
            <a:off x="2268360" y="4149720"/>
            <a:ext cx="33530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348000" y="404640"/>
            <a:ext cx="276084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и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1" name="Picture 5" descr="P1010011"/>
          <p:cNvPicPr/>
          <p:nvPr/>
        </p:nvPicPr>
        <p:blipFill>
          <a:blip r:embed="rId1"/>
          <a:stretch/>
        </p:blipFill>
        <p:spPr>
          <a:xfrm>
            <a:off x="6902280" y="0"/>
            <a:ext cx="2241720" cy="299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1010002"/>
          <p:cNvPicPr/>
          <p:nvPr/>
        </p:nvPicPr>
        <p:blipFill>
          <a:blip r:embed="rId2"/>
          <a:stretch/>
        </p:blipFill>
        <p:spPr>
          <a:xfrm>
            <a:off x="5724360" y="4365720"/>
            <a:ext cx="3419640" cy="2492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1010018"/>
          <p:cNvPicPr/>
          <p:nvPr/>
        </p:nvPicPr>
        <p:blipFill>
          <a:blip r:embed="rId3"/>
          <a:stretch/>
        </p:blipFill>
        <p:spPr>
          <a:xfrm>
            <a:off x="324000" y="0"/>
            <a:ext cx="2398680" cy="1795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010022"/>
          <p:cNvPicPr/>
          <p:nvPr/>
        </p:nvPicPr>
        <p:blipFill>
          <a:blip r:embed="rId4"/>
          <a:stretch/>
        </p:blipFill>
        <p:spPr>
          <a:xfrm>
            <a:off x="5940360" y="2313000"/>
            <a:ext cx="2532240" cy="1893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-360" y="1717200"/>
            <a:ext cx="615636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очка появилась у нас дома в 2012 году. Сначала Сима всех боялась. Наверное, её сильно напугали. Сейчас Симочка ласковая. Сима явно породистая. Она похожа на породу Шартрез (французская голубая кош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85 0.17361 L 0.17604 -0.06783 E">
                                      <p:cBhvr>
                                        <p:cTn id="37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3264 C -0.13715 -0.03426 -0.15156 -0.03588 -0.16163 -0.03958 C -0.16701 -0.04144 -0.17187 -0.04583 -0.17743 -0.04653 C -0.1993 -0.04931 -0.22135 -0.04884 -0.24323 -0.05 C -0.28281 -0.05926 -0.26927 -0.05787 -0.3408 -0.04653 C -0.3493 -0.04514 -0.36007 -0.02315 -0.36424 -0.01505 C -0.37309 0.00278 -0.37448 0.01852 -0.38003 0.03773 C -0.39288 0.08241 -0.38802 0.05856 -0.39323 0.0868 C -0.39323 0.08773 -0.39253 0.12268 -0.38802 0.13241 C -0.38385 0.14167 -0.37413 0.14722 -0.36684 0.15 C -0.3408 0.15949 -0.31823 0.16134 -0.29062 0.16389 C -0.24062 0.1868 -0.18212 0.16227 -0.13003 0.15694 C -0.11684 0.15347 -0.10365 0.15092 -0.09062 0.14629 C -0.07517 0.13287 -0.08924 0.14745 -0.07483 0.12176 C -0.06996 0.11319 -0.06545 0.10995 -0.05903 0.1044 C -0.05365 0.08217 -0.0493 0.05995 -0.04323 0.03773 C -0.04132 0.03079 -0.03802 0.01667 -0.03802 0.01667 C -0.04028 -0.00116 -0.04028 -0.00857 -0.04583 -0.02546 C -0.05104 -0.04121 -0.05035 -0.03796 -0.05382 -0.02894 L 0.04896 -0.06412 L -0.04583 -0.1588 L 0.05417 -0.17986 L -0.16163 -0.12384 L 0.0592 -0.13102 L 0.01736 -0.06065 L 0.76997 -0.12384 L -0.04583 0.02014 L -0.72743 -0.53426 L -0.20903 0.03773 E">
                                      <p:cBhvr>
                                        <p:cTn id="37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89 0.03703 C -0.09809 0.03287 -0.10816 0.03194 -0.11667 0.02592 C -0.12726 0.01828 -0.13646 0.00717 -0.14722 4.44444E-006 C -0.16059 -0.00903 -0.17622 -0.01528 -0.18889 -0.02593 C -0.22431 -0.05556 -0.16406 -0.0132 -0.22222 -0.05185 C -0.2441 -0.06644 -0.29444 -0.07037 -0.29444 -0.07037 C -0.30556 -0.06829 -0.31806 -0.07037 -0.32778 -0.06297 C -0.33073 -0.06065 -0.33073 -0.05463 -0.33333 -0.05185 C -0.33646 -0.04838 -0.34115 -0.04792 -0.34444 -0.04445 C -0.35677 -0.03125 -0.36476 -0.01528 -0.37778 -0.00371 C -0.3809 0.00879 -0.38611 0.0206 -0.38889 0.03333 C -0.39687 0.0706 -0.3842 0.0493 -0.4 0.07037 C -0.39878 0.08426 -0.3974 0.10416 -0.39444 0.11852 C -0.39115 0.13472 -0.38646 0.15046 -0.38333 0.16666 C -0.38142 0.17662 -0.3783 0.20625 -0.375 0.21481 C -0.37326 0.21944 -0.36944 0.22222 -0.36667 0.22592 C -0.31649 0.21852 -0.26667 0.21319 -0.21667 0.2037 C -0.21111 0.20115 -0.20573 0.19815 -0.2 0.19629 C -0.19358 0.19444 -0.18681 0.19514 -0.18056 0.19259 C -0.16788 0.1875 -0.15677 0.17662 -0.14444 0.17037 C -0.1224 0.15902 -0.09983 0.14838 -0.07778 0.13703 C -0.05712 0.12639 -0.0408 0.10717 -0.01944 0.1 C -0.0158 0.09629 -0.0125 0.09143 -0.00833 0.08889 C -0.00035 0.08402 0.01667 0.07777 0.01667 0.07777 C 0.02083 0.06088 0.0184 0.05902 0.01111 0.04444 C 0.01615 0.03773 0.01997 0.02893 0.025 0.02222 C 0.03264 0.01203 0.03993 0.01342 0.05 0.0074 C 0.05486 0.0044 0.05885 -0.00116 0.06389 -0.00371 C 0.07101 -0.00741 0.08611 -0.01111 0.08611 -0.01111 C 0.11944 -0.00996 0.15313 -0.01435 0.18611 -0.00741 C 0.19097 -0.00648 0.19288 0.00463 0.19167 0.01111 C 0.19063 0.01713 0.1842 0.01852 0.18056 0.02222 C 0.17622 0.03356 0.17101 0.04421 0.16667 0.05555 C 0.16441 0.06157 0.16406 0.06875 0.16111 0.07407 C 0.1592 0.07777 0.15556 0.07893 0.15278 0.08148 C 0.12326 0.10949 0.1 0.11481 0.06389 0.12222 C 0.01354 0.1162 -0.01372 0.0912 -0.06389 0.06296 C -0.09219 0.04699 -0.11979 0.0294 -0.14722 0.01111 C -0.1809 -0.01135 -0.21024 -0.0419 -0.24722 -0.05185 C -0.29514 -0.04537 -0.30955 -0.06829 -0.3 -0.02593 C -0.29861 -0.01945 -0.29635 -0.01366 -0.29444 -0.00741 C -0.29097 0.02106 -0.28958 0.05115 -0.28056 0.07777 C -0.27378 0.09745 -0.26319 0.11018 -0.25278 0.12592 C -0.24028 0.1449 -0.25035 0.13819 -0.23611 0.14444 C -0.22101 0.15949 -0.2158 0.15879 -0.19722 0.16296 C -0.17205 0.15972 -0.14028 0.15787 -0.11667 0.14444 C -0.11285 0.14236 -0.10937 0.13912 -0.10556 0.13703 C -0.0974 0.13287 -0.08056 0.12592 -0.08056 0.12592 C -0.06979 0.11504 -0.06007 0.10949 -0.04722 0.1037 C -0.03038 0.07384 -0.04549 0.10602 -0.03611 0.05555 C -0.03281 0.03796 -0.00608 0.0162 8.33333E-007 4.44444E-006 E">
                                      <p:cBhvr>
                                        <p:cTn id="37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78 -9.8012E-007 C -0.14827 -0.01364 -0.15625 -0.04253 -0.175 -0.05918 C -0.18021 -0.07305 -0.1875 -0.08576 -0.19167 -0.10009 C -0.19913 -0.12552 -0.20625 -0.15118 -0.21111 -0.17776 C -0.21545 -0.20226 -0.21632 -0.22792 -0.22222 -0.25196 C -0.225 -0.26306 -0.2283 -0.27392 -0.23056 -0.28525 C -0.2382 -0.32385 -0.24601 -0.36177 -0.25556 -0.39991 C -0.26111 -0.42256 -0.26441 -0.44059 -0.275 -0.45931 C -0.27882 -0.47457 -0.28073 -0.48752 -0.28889 -0.5 C -0.29948 -0.51618 -0.29983 -0.50855 -0.31389 -0.51479 C -0.37344 -0.54115 -0.34514 -0.53282 -0.43889 -0.53698 C -0.45365 -0.54091 -0.46858 -0.54415 -0.48334 -0.54808 C -0.49254 -0.54554 -0.50174 -0.54207 -0.51111 -0.54068 C -0.53698 -0.53698 -0.56354 -0.54091 -0.58889 -0.53329 C -0.5941 -0.53167 -0.59427 -0.5208 -0.59722 -0.51479 C -0.60486 -0.49977 -0.61285 -0.48636 -0.61945 -0.47041 C -0.63577 -0.43134 -0.64393 -0.39089 -0.65278 -0.34813 C -0.65903 -0.31761 -0.65191 -0.34119 -0.65834 -0.30744 C -0.65972 -0.29981 -0.66389 -0.28525 -0.66389 -0.28502 C -0.66684 -0.24179 -0.67274 -0.20111 -0.68056 -0.15927 C -0.67865 -0.11604 -0.6783 -0.07258 -0.675 -0.02959 C -0.67379 -0.01318 -0.64722 0.0037 -0.64722 0.00393 C -0.57917 0.00208 -0.51858 0.01364 -0.45556 -0.0074 C -0.44896 -0.01271 -0.43629 -0.02196 -0.43056 -0.02959 C -0.42049 -0.04299 -0.41563 -0.06056 -0.40556 -0.07397 C -0.39983 -0.09339 -0.39132 -0.11003 -0.38611 -0.12968 C -0.37795 -0.16066 -0.37413 -0.18354 -0.36945 -0.21475 C -0.37136 -0.25566 -0.37257 -0.29635 -0.375 -0.33703 C -0.37535 -0.34327 -0.3757 -0.34998 -0.37778 -0.35552 C -0.38472 -0.37425 -0.40834 -0.38511 -0.42222 -0.38881 C -0.43524 -0.38627 -0.44861 -0.3865 -0.46111 -0.38141 C -0.46424 -0.38003 -0.46476 -0.37402 -0.46667 -0.37032 C -0.48195 -0.34189 -0.46875 -0.37009 -0.48611 -0.32963 C -0.48698 -0.32478 -0.4875 -0.31969 -0.48889 -0.31484 C -0.49132 -0.30606 -0.49514 -0.29796 -0.49722 -0.28895 C -0.5007 -0.27439 -0.50556 -0.24434 -0.50556 -0.2441 C -0.50226 -0.21729 -0.50434 -0.21914 -0.48611 -0.21105 C -0.46406 -0.18909 -0.43906 -0.18631 -0.41389 -0.17406 C -0.38281 -0.15904 -0.34965 -0.13985 -0.31945 -0.12228 C -0.30504 -0.11396 -0.30695 -0.11049 -0.29445 -0.10009 C -0.21077 -0.03028 -0.30781 -0.11072 -0.23056 -0.05918 C -0.17899 -0.02496 -0.22205 -0.03629 -0.17222 -0.02959 C -0.16024 -0.02335 -0.14844 -0.01595 -0.13611 -0.01109 C -0.1191 -0.00439 -0.09462 -0.00069 -0.07778 0.0037 C -0.01302 -0.00046 -0.03889 -9.8012E-007 1.94444E-006 -9.8012E-007 E">
                                      <p:cBhvr>
                                        <p:cTn id="38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0" descr="P1010175"/>
          <p:cNvPicPr/>
          <p:nvPr/>
        </p:nvPicPr>
        <p:blipFill>
          <a:blip r:embed="rId1"/>
          <a:stretch/>
        </p:blipFill>
        <p:spPr>
          <a:xfrm>
            <a:off x="3564000" y="357336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P1010007"/>
          <p:cNvPicPr/>
          <p:nvPr/>
        </p:nvPicPr>
        <p:blipFill>
          <a:blip r:embed="rId2"/>
          <a:stretch/>
        </p:blipFill>
        <p:spPr>
          <a:xfrm>
            <a:off x="6416640" y="3213000"/>
            <a:ext cx="2727360" cy="364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1010035"/>
          <p:cNvPicPr/>
          <p:nvPr/>
        </p:nvPicPr>
        <p:blipFill>
          <a:blip r:embed="rId3"/>
          <a:stretch/>
        </p:blipFill>
        <p:spPr>
          <a:xfrm>
            <a:off x="0" y="4030560"/>
            <a:ext cx="3780000" cy="282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P1010097"/>
          <p:cNvPicPr/>
          <p:nvPr/>
        </p:nvPicPr>
        <p:blipFill>
          <a:blip r:embed="rId4"/>
          <a:stretch/>
        </p:blipFill>
        <p:spPr>
          <a:xfrm>
            <a:off x="324000" y="333360"/>
            <a:ext cx="2752560" cy="367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1010102"/>
          <p:cNvPicPr/>
          <p:nvPr/>
        </p:nvPicPr>
        <p:blipFill>
          <a:blip r:embed="rId5"/>
          <a:stretch/>
        </p:blipFill>
        <p:spPr>
          <a:xfrm>
            <a:off x="3419640" y="0"/>
            <a:ext cx="4679640" cy="3503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3357360"/>
            <a:ext cx="6121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Наши коты очень друж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6" descr="P1010013"/>
          <p:cNvPicPr/>
          <p:nvPr/>
        </p:nvPicPr>
        <p:blipFill>
          <a:blip r:embed="rId1"/>
          <a:stretch/>
        </p:blipFill>
        <p:spPr>
          <a:xfrm>
            <a:off x="0" y="3429000"/>
            <a:ext cx="256536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9"/>
          <p:cNvSpPr txBox="1"/>
          <p:nvPr/>
        </p:nvSpPr>
        <p:spPr>
          <a:xfrm>
            <a:off x="1258920" y="2421000"/>
            <a:ext cx="45370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ни любят сиде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ядом друг с друго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12" descr="P1010163"/>
          <p:cNvPicPr/>
          <p:nvPr/>
        </p:nvPicPr>
        <p:blipFill>
          <a:blip r:embed="rId2"/>
          <a:stretch/>
        </p:blipFill>
        <p:spPr>
          <a:xfrm>
            <a:off x="6300720" y="3479760"/>
            <a:ext cx="2527200" cy="33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P1010164"/>
          <p:cNvPicPr/>
          <p:nvPr/>
        </p:nvPicPr>
        <p:blipFill>
          <a:blip r:embed="rId3"/>
          <a:stretch/>
        </p:blipFill>
        <p:spPr>
          <a:xfrm>
            <a:off x="684360" y="0"/>
            <a:ext cx="292068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P1010160"/>
          <p:cNvPicPr/>
          <p:nvPr/>
        </p:nvPicPr>
        <p:blipFill>
          <a:blip r:embed="rId4"/>
          <a:stretch/>
        </p:blipFill>
        <p:spPr>
          <a:xfrm>
            <a:off x="5275440" y="0"/>
            <a:ext cx="3544560" cy="265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P1010006"/>
          <p:cNvPicPr/>
          <p:nvPr/>
        </p:nvPicPr>
        <p:blipFill>
          <a:blip r:embed="rId5"/>
          <a:stretch/>
        </p:blipFill>
        <p:spPr>
          <a:xfrm>
            <a:off x="3419640" y="4292640"/>
            <a:ext cx="2923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16389 C -0.00452 0.16967 -0.00521 0.17637 -0.00278 0.18146 C -0.00122 0.1847 0.02257 0.20504 0.02361 0.20596 C 0.03646 0.21729 0.04462 0.23648 0.05781 0.24826 C 0.06042 0.25497 0.06215 0.26306 0.06562 0.2693 C 0.06753 0.27277 0.0717 0.273 0.07361 0.27624 C 0.10243 0.32755 0.06476 0.27508 0.08941 0.3079 C 0.09618 0.33079 0.09653 0.3546 0.10243 0.37795 C 0.10295 0.42603 0.11302 0.59986 0.10521 0.69371 C 0.08333 0.68839 0.06753 0.68169 0.04722 0.67268 C 0.03142 0.66551 0.01319 0.66297 -0.00017 0.64794 C -0.00886 0.63846 -0.01649 0.62298 -0.02118 0.60957 C -0.02517 0.59847 -0.03177 0.57443 -0.03177 0.57466 C -0.04167 0.48104 -0.0375 0.38303 -0.02379 0.29034 C -0.02205 0.24803 -0.01945 0.21452 -0.01337 0.17452 C -0.01233 0.16759 -0.01337 0.1595 -0.01059 0.15349 C -0.00851 0.1491 -0.00365 0.1491 -0.00017 0.14655 C 0.01233 0.13731 0.02257 0.13014 0.03663 0.12552 C 0.04097 0.12205 0.04531 0.11812 0.04983 0.11489 C 0.05851 0.10864 0.06771 0.10402 0.07621 0.09732 C 0.09062 0.08599 0.09653 0.07721 0.11302 0.07258 C 0.13663 0.07374 0.16059 0.0712 0.18403 0.07628 C 0.18889 0.07744 0.1908 0.08622 0.19462 0.09038 C 0.20121 0.09778 0.20746 0.10425 0.21562 0.10795 C 0.22969 0.13361 0.24722 0.15649 0.25781 0.18493 C 0.27239 0.22446 0.26389 0.21082 0.27882 0.23047 C 0.28108 0.2485 0.28437 0.26537 0.28663 0.2834 C 0.28264 0.36223 0.28507 0.44429 0.27361 0.52196 C 0.26892 0.51271 0.2658 0.50208 0.26042 0.49376 C 0.25833 0.49029 0.25486 0.4896 0.25243 0.48682 C 0.24601 0.47919 0.24132 0.46879 0.23403 0.46232 C 0.22934 0.45816 0.22413 0.45446 0.22083 0.44822 C 0.21146 0.43019 0.20069 0.41239 0.19462 0.39205 C 0.18698 0.36639 0.18333 0.3405 0.17083 0.31831 C 0.16163 0.28132 0.17031 0.31276 0.15781 0.27624 C 0.15139 0.25774 0.14861 0.24017 0.13941 0.22353 C 0.13767 0.21683 0.12274 0.14748 0.11823 0.13592 C 0.11285 0.12251 0.1059 0.11026 0.09983 0.09732 C 0.09358 0.08414 0.08854 0.07073 0.07882 0.06218 C 0.07222 0.04854 0.07101 0.03467 0.06562 0.02011 C 0.05989 0.00485 0.06042 0.0067 0.06042 0.01317 E">
                                      <p:cBhvr>
                                        <p:cTn id="43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2 0.01318 C 0.04688 0.03121 0.0566 0.01456 0.04983 0.04115 C 0.04688 0.05317 0.04254 0.05918 0.03681 0.06912 C 0.03004 0.0957 0.02031 0.12067 0.00781 0.14286 C 0.00156 0.1847 0.0099 0.14101 -0.00017 0.17106 C -0.0059 0.18817 -0.01007 0.20643 -0.0158 0.22353 C -0.02673 0.25636 -0.03021 0.28179 -0.05278 0.30444 C -0.05538 0.31022 -0.05677 0.31762 -0.06059 0.32201 C -0.06337 0.32524 -0.06805 0.32316 -0.07118 0.32548 C -0.0743 0.32779 -0.07569 0.33357 -0.07899 0.33588 C -0.08385 0.33935 -0.08975 0.33981 -0.09479 0.34281 C -0.1217 0.35923 -0.0934 0.35021 -0.12378 0.35691 C -0.14809 0.37864 -0.18212 0.37795 -0.21059 0.38142 C -0.23698 0.38997 -0.29219 0.37795 -0.29219 0.37818 C -0.31128 0.37171 -0.31232 0.36292 -0.32378 0.34281 C -0.32465 0.33819 -0.32517 0.33334 -0.32639 0.32894 C -0.32778 0.32409 -0.33038 0.31993 -0.3316 0.31484 C -0.34132 0.27185 -0.32743 0.3123 -0.33958 0.27994 C -0.34774 0.21359 -0.36302 0.13916 -0.33958 0.07628 C -0.33333 0.05941 -0.31041 0.0571 -0.29722 0.05155 C -0.24705 0.03075 -0.31041 0.0571 -0.26041 0.04115 C -0.19722 0.02104 -0.2125 0.02381 -0.12899 0.02011 C -0.03837 0.00301 -0.10451 0.01295 0.07101 0.01665 C 0.10122 0.02034 0.129 0.03144 0.15781 0.04462 C 0.17917 0.05432 0.22101 0.07628 0.22101 0.07652 C 0.23577 0.09131 0.24097 0.09732 0.24462 0.12205 C 0.24288 0.1313 0.24236 0.14124 0.23941 0.15002 C 0.23264 0.17083 0.22014 0.18863 0.21302 0.20943 C 0.20591 0.23001 0.20156 0.25197 0.19462 0.27277 C 0.1849 0.3019 0.16771 0.33287 0.15261 0.35691 C 0.14097 0.37541 0.12188 0.3828 0.10521 0.39205 C 0.09948 0.39529 0.09288 0.3939 0.08681 0.39552 C 0.07014 0.39968 0.05365 0.40592 0.03681 0.40962 C 0.02535 0.4117 -0.03507 0.41632 -0.04219 0.41678 C -0.06215 0.4117 -0.08281 0.41101 -0.10278 0.40592 C -0.11198 0.40361 -0.12014 0.39598 -0.12899 0.39205 C -0.14271 0.37379 -0.14427 0.34882 -0.15017 0.32548 C -0.15451 0.2908 -0.15521 0.26722 -0.15278 0.23047 C -0.15208 0.22007 -0.15295 0.20897 -0.15017 0.19903 C -0.1467 0.18632 -0.13958 0.17568 -0.13437 0.16389 C -0.1283 0.15049 -0.12153 0.14078 -0.11059 0.13592 C -0.06857 0.09524 -0.06146 0.08206 -0.02118 0.05872 C -0.0026 0.04808 0.01788 0.04069 0.03681 0.03051 C 0.04375 0.02682 0.04688 0.02774 0.05261 0.02011 C 0.0566 0.0148 0.05938 0.00809 0.06302 0.00254 C 0.06632 -0.00231 0.07014 -0.0067 0.07361 -0.01133 C 0.07656 -0.01918 0.08681 -0.04045 0.08681 -0.0534 E">
                                      <p:cBhvr>
                                        <p:cTn id="4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C -0.01007 0.00671 -0.01597 0.01644 -0.02639 0.02107 C -0.02812 0.0257 -0.02882 0.03148 -0.03159 0.03519 C -0.0335 0.03773 -0.03802 0.03542 -0.03958 0.03866 C -0.05503 0.0713 -0.07048 0.1257 -0.08159 0.16158 C -0.08593 0.1757 -0.08941 0.17269 -0.09479 0.18264 C -0.10243 0.19699 -0.10416 0.20741 -0.11319 0.22107 C -0.11527 0.22431 -0.11875 0.22546 -0.12118 0.22824 C -0.12951 0.2382 -0.13559 0.25139 -0.14479 0.25972 C -0.15 0.26435 -0.15607 0.26783 -0.16059 0.27384 C -0.17621 0.29468 -0.1592 0.27408 -0.1842 0.29491 C -0.18628 0.29676 -0.18732 0.3007 -0.18958 0.30185 C -0.19982 0.30695 -0.21093 0.30764 -0.22118 0.31227 C -0.23524 0.31111 -0.2493 0.31042 -0.26319 0.3088 C -0.26857 0.3081 -0.2743 0.3088 -0.27899 0.30533 C -0.28628 0.29954 -0.29948 0.27639 -0.30538 0.26667 C -0.31441 0.18102 -0.31493 0.21019 -0.31059 0.12986 C -0.31041 0.1257 -0.30868 0.09398 -0.30538 0.08426 C -0.29843 0.06366 -0.28906 0.05556 -0.27639 0.03866 C -0.26666 0.0257 -0.23663 0.02338 -0.22378 0.02107 C -0.13246 0.02593 -0.18125 0.01296 -0.1368 0.04213 C -0.13507 0.04676 -0.13368 0.05185 -0.13159 0.05625 C -0.12847 0.0625 -0.12361 0.06713 -0.12118 0.07384 C -0.11475 0.0912 -0.11319 0.10509 -0.11059 0.12292 C -0.11146 0.17199 -0.1118 0.22107 -0.11319 0.27014 C -0.11441 0.31389 -0.12413 0.38426 -0.16059 0.4 C -0.16614 0.42245 -0.16961 0.4206 -0.1868 0.42454 C -0.19114 0.42801 -0.19496 0.43449 -0.2 0.43519 C -0.20225 0.43565 -0.221 0.41991 -0.22378 0.41759 C -0.22586 0.40926 -0.22986 0.40162 -0.23159 0.39306 C -0.24357 0.3338 -0.22257 0.40417 -0.24218 0.34398 C -0.24652 0.30903 -0.25086 0.29514 -0.24479 0.25972 C -0.23993 0.23079 -0.22968 0.21389 -0.2158 0.19306 C -0.21007 0.18426 -0.20677 0.17245 -0.2 0.16505 C -0.19253 0.15671 -0.18055 0.14815 -0.17118 0.14398 C -0.16146 0.12662 -0.14843 0.1169 -0.1368 0.10185 C -0.13333 0.08796 -0.12708 0.07755 -0.12378 0.0632 C -0.12014 0.04745 -0.11909 0.03218 -0.11319 0.01759 C -0.11111 0.0125 -0.10746 0.00857 -0.10538 0.00347 C -0.10312 -0.00208 -0.10243 -0.00856 -0.1 -0.01389 C -0.09427 -0.02616 -0.08576 -0.03565 -0.07639 -0.04213 C -0.07083 -0.06088 -0.07448 -0.05972 -0.06059 -0.06667 C -0.05711 -0.06829 -0.05 -0.07014 -0.05 -0.07014 E">
                                      <p:cBhvr>
                                        <p:cTn id="44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4 C -0.01128 0.01042 -0.02031 0.0257 -0.0316 0.03565 C -0.04306 0.04537 -0.08316 0.07431 -0.0974 0.08473 C -0.10399 0.08959 -0.11163 0.09075 -0.1184 0.09514 C -0.1283 0.10116 -0.13733 0.10996 -0.1474 0.11598 C -0.15937 0.12292 -0.18767 0.1301 -0.1974 0.13357 C -0.24965 0.13125 -0.29826 0.12338 -0.35 0.11968 C -0.38333 0.1132 -0.41632 0.1095 -0.45 0.10556 C -0.45521 0.10325 -0.46128 0.10278 -0.4658 0.09885 C -0.47569 0.08959 -0.48681 0.06991 -0.49479 0.05649 C -0.4967 0.04329 -0.50104 0.03125 -0.50278 0.01806 C -0.50538 -0.00162 -0.50625 -0.02175 -0.50799 -0.04189 C -0.50712 -0.07106 -0.50764 -0.10046 -0.50538 -0.12939 C -0.50503 -0.13449 -0.50191 -0.13865 -0.5 -0.14351 C -0.48559 -0.17685 -0.46059 -0.1787 -0.4342 -0.18194 C -0.35312 -0.21851 -0.28021 -0.19606 -0.18958 -0.19236 C -0.15799 -0.18287 -0.12639 -0.17407 -0.09496 -0.16435 C -0.08125 -0.14629 -0.06927 -0.12824 -0.06059 -0.10486 C -0.06493 -0.07638 -0.06771 -0.03657 -0.0842 -0.01365 C -0.10208 0.04329 -0.14931 0.08102 -0.18958 0.10556 C -0.20121 0.1125 -0.21476 0.1132 -0.22639 0.11968 C -0.29635 0.16019 -0.2401 0.14815 -0.3 0.15463 C -0.33871 0.16575 -0.35538 0.1669 -0.39479 0.15811 C -0.42448 0.1426 -0.42587 0.11482 -0.43698 0.07755 C -0.44097 0.06459 -0.44566 0.05186 -0.45 0.03889 C -0.4566 -0.07199 -0.45278 -0.02175 -0.46059 -0.1118 C -0.45851 -0.178 -0.45677 -0.24282 -0.45 -0.30833 C -0.44653 -0.34236 -0.44757 -0.38125 -0.43958 -0.41342 C -0.43681 -0.43611 -0.43351 -0.46064 -0.42378 -0.48009 C -0.42031 -0.49398 -0.41788 -0.50787 -0.4158 -0.52222 C -0.41962 -0.53796 -0.42083 -0.53588 -0.41319 -0.55763 C -0.39358 -0.61273 -0.36875 -0.62847 -0.32639 -0.64513 C -0.31424 -0.65 -0.30226 -0.65763 -0.28958 -0.65902 C -0.27812 -0.66018 -0.26667 -0.66088 -0.25538 -0.66273 C -0.23871 -0.6655 -0.22205 -0.67037 -0.20538 -0.67314 C -0.19496 -0.675 -0.18437 -0.67523 -0.17378 -0.67662 C -0.16771 -0.67754 -0.16146 -0.67893 -0.15538 -0.68009 C -0.12569 -0.67662 -0.09531 -0.67638 -0.0658 -0.66967 C -0.06302 -0.66898 -0.06337 -0.66273 -0.06319 -0.65902 C -0.06163 -0.63101 -0.06163 -0.603 -0.06059 -0.575 C -0.05903 -0.53287 -0.05694 -0.49074 -0.05538 -0.44861 C -0.05642 -0.37175 -0.0566 -0.29421 -0.05799 -0.21713 C -0.05868 -0.18564 -0.07292 -0.10208 -0.03958 -0.09074 C -0.02812 -0.07546 -0.01441 -0.06319 -0.00538 -0.04537 C -0.00365 -0.04189 -0.00243 -0.0375 -3.33333E-006 -0.03449 C 0.00208 -0.03217 0.00538 -0.03263 0.00781 -0.03101 C 0.01059 -0.02939 0.01319 -0.02662 0.0158 -0.02407 C 0.02361 0.00232 0.02552 -0.0081 -3.33333E-006 0.00024 Z">
                                      <p:cBhvr>
                                        <p:cTn id="44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2 -0.01087 C -0.08212 0.01086 -0.11389 -0.01618 -0.13941 -0.02474 C -0.14289 -0.02705 -0.14618 -0.03029 -0.15 -0.0319 C -0.15417 -0.03375 -0.1592 -0.03283 -0.1632 -0.03537 C -0.17066 -0.03999 -0.17726 -0.04693 -0.1842 -0.05271 C -0.19045 -0.07398 -0.20105 -0.08993 -0.20521 -0.11258 C -0.20799 -0.12737 -0.20764 -0.14332 -0.21042 -0.15812 C -0.2125 -0.16898 -0.2158 -0.17915 -0.21841 -0.18979 C -0.21754 -0.22608 -0.21702 -0.26237 -0.2158 -0.29866 C -0.21528 -0.31138 -0.21459 -0.32432 -0.2132 -0.33704 C -0.20695 -0.39413 -0.2 -0.44499 -0.179 -0.49492 C -0.17275 -0.50971 -0.16355 -0.5252 -0.15 -0.53005 C -0.1415 -0.53306 -0.1323 -0.5319 -0.12361 -0.53352 C -0.04045 -0.54855 -0.16511 -0.53306 -0.02101 -0.54762 C -0.01684 -0.54716 0.04201 -0.54254 0.05 -0.54046 C 0.07586 -0.53398 0.09982 -0.49769 0.11319 -0.47042 C 0.13854 -0.41817 0.15034 -0.36223 0.15798 -0.30213 C 0.15538 -0.27763 0.15347 -0.25266 0.15 -0.22816 C 0.14895 -0.22099 0.14809 -0.21313 0.14479 -0.20712 C 0.14236 -0.20296 0.13055 -0.1988 0.12639 -0.19672 C 0.11753 -0.1921 0.10937 -0.1847 0.1 -0.18262 C 0.0835 -0.17892 0.06666 -0.18031 0.05 -0.17915 C 0.02552 -0.18031 0.00069 -0.1773 -0.02361 -0.18262 C -0.04497 -0.18724 -0.08507 -0.20805 -0.10521 -0.22816 C -0.10955 -0.23995 -0.11441 -0.25128 -0.11841 -0.26353 C -0.12848 -0.29358 -0.1474 -0.3546 -0.1474 -0.35437 C -0.15677 -0.42164 -0.16545 -0.49353 -0.1816 -0.55802 C -0.18455 -0.59362 -0.18733 -0.64147 -0.1974 -0.67384 C -0.19966 -0.68932 -0.20365 -0.70134 -0.20782 -0.71591 C -0.20955 -0.72192 -0.2099 -0.72908 -0.2132 -0.73348 C -0.2165 -0.73787 -0.22188 -0.7381 -0.22622 -0.74041 C -0.23316 -0.76723 -0.24723 -0.76468 -0.2632 -0.77231 C -0.28334 -0.78202 -0.30278 -0.79312 -0.32361 -0.80005 C -0.34514 -0.78156 -0.33959 -0.7663 -0.3474 -0.73001 C -0.35087 -0.71452 -0.35434 -0.69857 -0.36042 -0.68447 C -0.36268 -0.67938 -0.36632 -0.67545 -0.36841 -0.67037 C -0.379 -0.64448 -0.3842 -0.62483 -0.4 -0.60379 C -0.42969 -0.52335 -0.41077 -0.45146 -0.3842 -0.37911 C -0.38334 -0.37217 -0.38316 -0.36477 -0.3816 -0.35807 C -0.37882 -0.34605 -0.37101 -0.32317 -0.37101 -0.32293 C -0.3691 -0.30791 -0.36858 -0.29242 -0.3658 -0.27763 C -0.35122 -0.20042 -0.36355 -0.28502 -0.35261 -0.22122 C -0.34948 -0.20296 -0.35 -0.18586 -0.33941 -0.17222 C -0.33039 -0.14795 -0.33993 -0.16413 -0.31841 -0.15465 C -0.3092 -0.15072 -0.30834 -0.14194 -0.2974 -0.13708 C -0.27674 -0.1105 -0.24549 -0.09986 -0.21841 -0.09154 C -0.19879 -0.0853 -0.18039 -0.07767 -0.16042 -0.07374 C -0.14028 -0.0749 -0.11997 -0.07328 -0.1 -0.07744 C -0.06893 -0.08391 -0.03889 -0.09871 -0.00782 -0.10564 C 0.03073 -0.1313 0.06684 -0.16043 0.1026 -0.19325 C 0.11961 -0.20874 0.13194 -0.23255 0.14218 -0.25636 C 0.21875 -0.43597 0.221 -0.45146 0.271 -0.60726 C 0.28159 -0.64009 0.28715 -0.70042 0.29218 -0.73694 C 0.29132 -0.76399 0.29288 -0.79127 0.28958 -0.81762 C 0.28906 -0.82201 0.28368 -0.82132 0.28159 -0.82478 C 0.26857 -0.8449 0.26076 -0.87078 0.2526 -0.89483 C 0.24635 -0.91286 0.23906 -0.93274 0.22899 -0.94776 C 0.22309 -0.95631 0.21059 -0.97226 0.21059 -0.97203 C 0.20798 -0.97111 0.20451 -0.97134 0.2026 -0.9688 C 0.20069 -0.96625 0.20104 -0.96163 0.2 -0.95816 C 0.19323 -0.93597 0.18489 -0.91401 0.17899 -0.89136 C 0.17291 -0.86801 0.16892 -0.84351 0.16059 -0.82132 C 0.13819 -0.76121 0.11458 -0.69302 0.1 -0.6283 C 0.0967 -0.61327 0.09548 -0.59778 0.09218 -0.58253 C 0.09027 -0.57398 0.08628 -0.56658 0.0842 -0.55802 C 0.06927 -0.49492 0.08541 -0.52959 0.05798 -0.45655 C 0.05277 -0.44244 0.04218 -0.41424 0.04218 -0.41401 C 0.0368 -0.37841 0.04114 -0.40176 0.02378 -0.3442 C 0.02205 -0.33842 0.02014 -0.33241 0.0184 -0.32663 C 0.01666 -0.32085 0.01319 -0.30907 0.01319 -0.30883 C 0.01076 -0.27948 0.00972 -0.24596 0.0026 -0.21776 C 0.00104 -0.18493 -0.00261 -0.15234 -0.00261 -0.11951 C -0.00261 -0.07952 3.61111E-006 -0.00023 3.61111E-006 3.6662E-006 E">
                                      <p:cBhvr>
                                        <p:cTn id="4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Защита животных"/>
          <p:cNvPicPr/>
          <p:nvPr/>
        </p:nvPicPr>
        <p:blipFill>
          <a:blip r:embed="rId1"/>
          <a:stretch/>
        </p:blipFill>
        <p:spPr>
          <a:xfrm>
            <a:off x="5735520" y="5130720"/>
            <a:ext cx="3408480" cy="17272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68436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екта: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24000" y="3068640"/>
            <a:ext cx="27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Актуальност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32000" y="333000"/>
            <a:ext cx="511164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привлечь внимание людей к проблеме бездомных животных, сделать людей доб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87280" y="2997000"/>
            <a:ext cx="6156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рост численности бездомных животных, жестокое обращение с животными, обсуждение закона «О защите животных от жестокого обращ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zawita_jivotnyh_140809"/>
          <p:cNvPicPr/>
          <p:nvPr/>
        </p:nvPicPr>
        <p:blipFill>
          <a:blip r:embed="rId6"/>
          <a:stretch/>
        </p:blipFill>
        <p:spPr>
          <a:xfrm>
            <a:off x="0" y="422100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x_36a267c1"/>
          <p:cNvPicPr/>
          <p:nvPr/>
        </p:nvPicPr>
        <p:blipFill>
          <a:blip r:embed="rId7"/>
          <a:stretch/>
        </p:blipFill>
        <p:spPr>
          <a:xfrm>
            <a:off x="468360" y="1341360"/>
            <a:ext cx="18190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4kthb1jo2y5xkdyl"/>
          <p:cNvPicPr/>
          <p:nvPr/>
        </p:nvPicPr>
        <p:blipFill>
          <a:blip r:embed="rId1"/>
          <a:stretch/>
        </p:blipFill>
        <p:spPr>
          <a:xfrm>
            <a:off x="5759280" y="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ushkinskaya 2"/>
          <p:cNvPicPr/>
          <p:nvPr/>
        </p:nvPicPr>
        <p:blipFill>
          <a:blip r:embed="rId2"/>
          <a:stretch/>
        </p:blipFill>
        <p:spPr>
          <a:xfrm>
            <a:off x="521964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46079977_1244108175_sob2"/>
          <p:cNvPicPr/>
          <p:nvPr/>
        </p:nvPicPr>
        <p:blipFill>
          <a:blip r:embed="rId3"/>
          <a:stretch/>
        </p:blipFill>
        <p:spPr>
          <a:xfrm>
            <a:off x="0" y="0"/>
            <a:ext cx="2062080" cy="256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P1460319"/>
          <p:cNvPicPr/>
          <p:nvPr/>
        </p:nvPicPr>
        <p:blipFill>
          <a:blip r:embed="rId4"/>
          <a:stretch/>
        </p:blipFill>
        <p:spPr>
          <a:xfrm>
            <a:off x="2771640" y="0"/>
            <a:ext cx="1990800" cy="265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sPJu4AwNBk"/>
          <p:cNvPicPr/>
          <p:nvPr/>
        </p:nvPicPr>
        <p:blipFill>
          <a:blip r:embed="rId5"/>
          <a:stretch/>
        </p:blipFill>
        <p:spPr>
          <a:xfrm>
            <a:off x="7230960" y="2133720"/>
            <a:ext cx="1913040" cy="251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-360" y="2781360"/>
            <a:ext cx="54356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99"/>
                </a:solidFill>
                <a:latin typeface="Arial"/>
              </a:rPr>
              <a:t>В России до сих пор нет закона «О защите животных от жестокого обращения». Проект такого закона был разработан более 10 лет назад, но сам закон так и не был прин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99"/>
                </a:solidFill>
                <a:latin typeface="Arial"/>
              </a:rPr>
              <a:t>Действующий в России закон «Об охране животного мира», к сожалению, не спасает от человеческой жестокости собачек и кисок, бегающих по нашим ули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наши коты и кошки имеют свою сложную, а нередко и трагическую, исто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404280"/>
            <a:ext cx="44956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очень люблю животных, особенно кошек. С первых дней моей жизни рядом со мной всегда были кошки или коты. У нас дома есть кошка Симка, у моей тети (маминой сестры) – 2 кота и одна кошка, у бабушки с дедушкой - 2 кота и 4 кошки. Летом они все собираются на даче. А еще мы кормим бездомны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4720" y="4199040"/>
            <a:ext cx="48592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арсик. Я его почти не помню. Много лет назад моя мама и ее сестра, тетя Ира, нашли его на улице с перебитой лапкой. Лапка была практически полностью оторвана, висела на кусочке кожи. Лапку пришили, но она осталась кривой, и Барсик на нее почти не опирался. Наверное, ему было бо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Parents001463"/>
          <p:cNvPicPr/>
          <p:nvPr/>
        </p:nvPicPr>
        <p:blipFill>
          <a:blip r:embed="rId1"/>
          <a:stretch/>
        </p:blipFill>
        <p:spPr>
          <a:xfrm>
            <a:off x="5364000" y="1619280"/>
            <a:ext cx="324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4" descr="Муся на дереве"/>
          <p:cNvPicPr/>
          <p:nvPr/>
        </p:nvPicPr>
        <p:blipFill>
          <a:blip r:embed="rId1"/>
          <a:stretch/>
        </p:blipFill>
        <p:spPr>
          <a:xfrm>
            <a:off x="2700360" y="4437000"/>
            <a:ext cx="2924280" cy="2187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59280" y="148392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ся самый старший из наших котов. Осенью 2002 г. (еще до моего рождения) он внезапно появился за дверью нашей квартиры и стал приходить каждый день, несмотря на то, что квартира была на 11 эта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ся очень добрый. Он как самый старший опекает всех кошек и котов, которые поселились у бабушки с дедушкой позже.   Мы называем Мусю «Глава прайда» или «Наш Президен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Муся-4"/>
          <p:cNvPicPr/>
          <p:nvPr/>
        </p:nvPicPr>
        <p:blipFill>
          <a:blip r:embed="rId2"/>
          <a:stretch/>
        </p:blipFill>
        <p:spPr>
          <a:xfrm>
            <a:off x="0" y="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71" name="WordArt 10"/>
          <p:cNvSpPr txBox="1"/>
          <p:nvPr/>
        </p:nvSpPr>
        <p:spPr>
          <a:xfrm>
            <a:off x="3564000" y="404640"/>
            <a:ext cx="30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Мус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13" descr="Муся"/>
          <p:cNvPicPr/>
          <p:nvPr/>
        </p:nvPicPr>
        <p:blipFill>
          <a:blip r:embed="rId5"/>
          <a:stretch/>
        </p:blipFill>
        <p:spPr>
          <a:xfrm>
            <a:off x="0" y="3357720"/>
            <a:ext cx="2617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P1010069"/>
          <p:cNvPicPr/>
          <p:nvPr/>
        </p:nvPicPr>
        <p:blipFill>
          <a:blip r:embed="rId1"/>
          <a:stretch/>
        </p:blipFill>
        <p:spPr>
          <a:xfrm>
            <a:off x="0" y="0"/>
            <a:ext cx="5219640" cy="390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P1010053"/>
          <p:cNvPicPr/>
          <p:nvPr/>
        </p:nvPicPr>
        <p:blipFill>
          <a:blip r:embed="rId2"/>
          <a:stretch/>
        </p:blipFill>
        <p:spPr>
          <a:xfrm>
            <a:off x="0" y="3429000"/>
            <a:ext cx="2317680" cy="309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P1010063"/>
          <p:cNvPicPr/>
          <p:nvPr/>
        </p:nvPicPr>
        <p:blipFill>
          <a:blip r:embed="rId3"/>
          <a:stretch/>
        </p:blipFill>
        <p:spPr>
          <a:xfrm>
            <a:off x="2124000" y="3787920"/>
            <a:ext cx="4103640" cy="3070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3280" y="1197000"/>
            <a:ext cx="3894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а попал к нам, когда был совсем маленький. Он всех боялся. Видимо, его кто-то сильно обидел, он до сих пор прячется, когда домой приходят посторон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а очень добрый, ласковый. Он похож на мягкую игру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4140360" y="260280"/>
            <a:ext cx="20872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ш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Маша"/>
          <p:cNvPicPr/>
          <p:nvPr/>
        </p:nvPicPr>
        <p:blipFill>
          <a:blip r:embed="rId1"/>
          <a:stretch/>
        </p:blipFill>
        <p:spPr>
          <a:xfrm>
            <a:off x="3851280" y="3948120"/>
            <a:ext cx="3889440" cy="29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Маша на дереве"/>
          <p:cNvPicPr/>
          <p:nvPr/>
        </p:nvPicPr>
        <p:blipFill>
          <a:blip r:embed="rId2"/>
          <a:stretch/>
        </p:blipFill>
        <p:spPr>
          <a:xfrm>
            <a:off x="0" y="0"/>
            <a:ext cx="529272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-360"/>
            <a:ext cx="44956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у подобрали зимой 2004 г., было очень холодно, она была котенком и замерзала на ул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маленькая, но очень сильная и смелая. На даче она всегда охотится на мышей и ящериц, охраняет участок, не пускает на него чужих котов. Маша не боится даже собак. Маша любит слушать радио. Она сама поворачивает выключатель зу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2556000" y="2997360"/>
            <a:ext cx="2447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11" descr="Фото-0235"/>
          <p:cNvPicPr/>
          <p:nvPr/>
        </p:nvPicPr>
        <p:blipFill>
          <a:blip r:embed="rId5"/>
          <a:stretch/>
        </p:blipFill>
        <p:spPr>
          <a:xfrm>
            <a:off x="250920" y="3933720"/>
            <a:ext cx="33112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P1010005"/>
          <p:cNvPicPr/>
          <p:nvPr/>
        </p:nvPicPr>
        <p:blipFill>
          <a:blip r:embed="rId1"/>
          <a:stretch/>
        </p:blipFill>
        <p:spPr>
          <a:xfrm>
            <a:off x="0" y="0"/>
            <a:ext cx="447192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067280" y="260280"/>
            <a:ext cx="507672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ку мы зовем нашей черной пантерой. Мурка очень гордая и обидчивая. Она не любит есть в «толпе», предпочитает, чтобы ее кормили отд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P1010050"/>
          <p:cNvPicPr/>
          <p:nvPr/>
        </p:nvPicPr>
        <p:blipFill>
          <a:blip r:embed="rId2"/>
          <a:stretch/>
        </p:blipFill>
        <p:spPr>
          <a:xfrm>
            <a:off x="3995640" y="2924280"/>
            <a:ext cx="4837320" cy="36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Мурка"/>
          <p:cNvPicPr/>
          <p:nvPr/>
        </p:nvPicPr>
        <p:blipFill>
          <a:blip r:embed="rId3"/>
          <a:stretch/>
        </p:blipFill>
        <p:spPr>
          <a:xfrm>
            <a:off x="250920" y="3716280"/>
            <a:ext cx="3571920" cy="2671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18"/>
          <p:cNvSpPr txBox="1"/>
          <p:nvPr/>
        </p:nvSpPr>
        <p:spPr>
          <a:xfrm>
            <a:off x="2340000" y="2924280"/>
            <a:ext cx="22748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рк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579640" y="259920"/>
            <a:ext cx="32720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я самая слабая из наших кошек. У нее затемнение в легких, и поэтому она очень тяжело дышит. Когда ее подобрали, врачи сказали, что ей осталось жить несколько месяцев. С тех пор прошло почти 7 лет. Она похорошела, чувствует себя намног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P1010042"/>
          <p:cNvPicPr/>
          <p:nvPr/>
        </p:nvPicPr>
        <p:blipFill>
          <a:blip r:embed="rId1"/>
          <a:stretch/>
        </p:blipFill>
        <p:spPr>
          <a:xfrm>
            <a:off x="0" y="0"/>
            <a:ext cx="4572000" cy="34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P1010122"/>
          <p:cNvPicPr/>
          <p:nvPr/>
        </p:nvPicPr>
        <p:blipFill>
          <a:blip r:embed="rId2"/>
          <a:stretch/>
        </p:blipFill>
        <p:spPr>
          <a:xfrm>
            <a:off x="250920" y="3570120"/>
            <a:ext cx="2458800" cy="32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Ася-6"/>
          <p:cNvPicPr/>
          <p:nvPr/>
        </p:nvPicPr>
        <p:blipFill>
          <a:blip r:embed="rId3"/>
          <a:stretch/>
        </p:blipFill>
        <p:spPr>
          <a:xfrm>
            <a:off x="2884320" y="2781360"/>
            <a:ext cx="3048120" cy="4076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12"/>
          <p:cNvSpPr txBox="1"/>
          <p:nvPr/>
        </p:nvSpPr>
        <p:spPr>
          <a:xfrm>
            <a:off x="2771640" y="1989000"/>
            <a:ext cx="20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с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33:50Z</dcterms:created>
  <dc:creator>.</dc:creator>
  <dc:description/>
  <dc:language>en-US</dc:language>
  <cp:lastModifiedBy>Иван</cp:lastModifiedBy>
  <dcterms:modified xsi:type="dcterms:W3CDTF">2017-09-21T19:39:14Z</dcterms:modified>
  <cp:revision>29</cp:revision>
  <dc:subject/>
  <dc:title>Слайд 1</dc:title>
</cp:coreProperties>
</file>