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84E-1308-4A27-A75F-31EABA30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96B-A088-4474-B27E-963528E0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8E1-749A-4C0C-8A1F-055328B4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0E8-4B34-4A00-BA58-425C6D13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9203-945C-4546-9571-7A94EB2C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BB02-679C-4E0E-8B4F-668E1735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2C5E-94CB-4507-AA4A-7EDADCC6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702A-30A0-4C9D-A734-5AA723E8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C799-E51E-48CF-B441-847C3C9F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D935-C0E0-4435-B61B-1950CE9D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471F-1947-4B5C-886E-4A62FD1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C3E-FEC1-4535-8A62-117205CE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EFFF-2333-4D71-AF94-F334531B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781C-FBA2-48AE-8A51-713E5594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5C2E-DAFC-4236-9E1E-2D968625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3BAC-5CEE-45F0-8B46-2B459EA5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E127-BA15-4A4E-9C01-444637A4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6812-8A9C-40F1-8F9D-B36A0ADA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0201-C707-45DD-8A90-50A72454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4699-B802-486A-86F1-3F3A4D4D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D789-E86C-46DB-B038-33B8B190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36F0-2831-4066-9F96-F46F19E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F21-68D5-4318-97AF-23D8E1C0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9CD3-58EB-473A-8BAD-055D06E7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2EADF-0FFC-4C36-A2FC-6169F28F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5D44-B6C9-43A8-AD34-ED24FA44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4B63-8AF0-497F-AA95-8CED3804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8CC0-2CD8-4220-84FD-6BE656C0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8D5F-C605-4754-AE6C-8AD4380E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CAF2-DC5F-4BF3-ACA1-7729B4FA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E323-7A23-41AF-BC1D-CB546B33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8C31-96BC-4CC3-AA0C-88E2A155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200A-7D90-4E16-980F-7C40269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DFE-2FBF-476C-99E5-F41F7BA9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560E-A287-4412-B397-9210C721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850A-3705-4606-9DFC-B1AC9C9A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59D79-C8D9-43CA-9EFF-56D067E5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93B9-FFBC-4120-99A6-F2E63187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24CE-A7CA-478E-BC2C-9453526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ADCD-D149-4067-92CD-402F9C7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5C764-9CD1-4E25-8DBE-91FB9D82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B502-3DB5-4877-9819-B60C23BF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FCE8-0503-40DD-867A-A4ABE1E5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A22-E601-44BF-AD73-60307C58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68D-3905-49CB-8283-6E730A0F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F58-B7BB-4C86-B944-010699B8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7F8-0503-42EB-B8D5-28E87515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7D0-F9B8-4ECA-A65F-9F76006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9011-933C-43FB-9640-1B4E2120CB6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5F26-D4A3-4684-902E-44B55B2D14E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F9D5-8858-4556-A6EE-30CE626CD75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8F0C-5B94-422B-828B-3A115926C2D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3640" y="115560"/>
            <a:ext cx="82803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rebuchet MS"/>
              </a:rPr>
              <a:t>Проблемные зоны детей старшего дошкольного возраста в подготовке детей к школ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Реч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323"/>
                </a:solidFill>
                <a:latin typeface="Trebuchet MS"/>
              </a:rPr>
              <a:t>Звуковая сторона реч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323"/>
                </a:solidFill>
                <a:latin typeface="Trebuchet MS"/>
              </a:rPr>
              <a:t>Фонематические процессы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323"/>
                </a:solidFill>
                <a:latin typeface="Trebuchet MS"/>
              </a:rPr>
              <a:t>Словообразование, грамматический строй речи т.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323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101323"/>
                </a:solidFill>
                <a:latin typeface="Trebuchet MS"/>
              </a:rPr>
              <a:t>Развитие связной реч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Память и внимани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отекание запоминания и воспроизведе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стояние оперативной слуховой памя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2640" y="731520"/>
            <a:ext cx="7101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Мелкая моторик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Быстрая утомляемость мышц руки при выполнении письменных задани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f14124"/>
                </a:solidFill>
                <a:latin typeface="Trebuchet MS"/>
              </a:rPr>
              <a:t>Слабое развитие произвольност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4124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Умение планировать свою деятельность, сосредоточенно работать без отвлечений, затруднения при оценивании своей рабо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43000" y="333360"/>
            <a:ext cx="7174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Возможные формы осуществления преемственност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3200" algn="ctr"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Работа с детьми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•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Экскурсии в школу, посещение школьной библиотеки, школьного музе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Знакомство и взаимодействие дошкольников с учителями и учениками начальной школы; совместные праздники и соревновани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Выставки рисунков и поделок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Участие в совместной образовательной деятельности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•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143000" y="333360"/>
            <a:ext cx="580536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заимодействие педагогов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55600" y="1400040"/>
            <a:ext cx="636912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Семинары, мастер-классы, круглые столы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Открытые показы образовательной деятельности в детском саду и открытых уроков в школе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Дополнительные услуги «Подготовка руки к письму», «Подготовка к школе» и т.д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Проведение диагностики по определению готовности к школ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6520" y="731520"/>
            <a:ext cx="33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5080" y="1398600"/>
            <a:ext cx="3346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Текст 1" descr=""/>
          <p:cNvPicPr/>
          <p:nvPr/>
        </p:nvPicPr>
        <p:blipFill>
          <a:blip r:embed="rId1"/>
          <a:stretch/>
        </p:blipFill>
        <p:spPr>
          <a:xfrm>
            <a:off x="1146240" y="731880"/>
            <a:ext cx="7242120" cy="815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155600" y="1399680"/>
            <a:ext cx="3348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овместные родительские собрания с педагогами детского сада и учителями школ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руглые столы, дискуссионные встречи, педагогические «гостиные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онсультации с педагогами детского сада и школы, в том числе и заочные, с использованием ИК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46520" y="731520"/>
            <a:ext cx="33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5080" y="1398240"/>
            <a:ext cx="334656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стречи родителей с будущими учител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епосредственный контакт психолога с родителя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ни открытых двере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ворческие мастерск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нкетирование и тестирование родите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33465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4360" y="333360"/>
            <a:ext cx="7991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пециалисты (психолог, логопед) оказать консультативную помощь родителям проблемных дет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6520" y="731520"/>
            <a:ext cx="33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5080" y="1398600"/>
            <a:ext cx="3346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3346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1489f"/>
                </a:solidFill>
                <a:uFillTx/>
                <a:latin typeface="Trebuchet MS"/>
              </a:rPr>
              <a:t>Вывод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55240" y="1399680"/>
            <a:ext cx="600876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89f"/>
                </a:solidFill>
                <a:latin typeface="Trebuchet MS"/>
              </a:rPr>
              <a:t>Педагоги и школы, и детского сада должны работать в тесном сотрудничестве, учитывая специфику организации деятельности друг друга, обязательно привлекая ро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89f"/>
                </a:solidFill>
                <a:latin typeface="Trebuchet MS"/>
              </a:rPr>
              <a:t>Проблема преемственности может быть успешно решена при тесном взаимодействии детского сада и школы. Выиграют от этого все, особенно дети. Ради детей можно найти время, силы и средства для решения задачи преем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6520" y="731520"/>
            <a:ext cx="33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5080" y="1398600"/>
            <a:ext cx="3346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Заголовок 3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851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5:16:16Z</dcterms:created>
  <dc:creator>ДСад</dc:creator>
  <dc:description/>
  <dc:language>en-US</dc:language>
  <cp:lastModifiedBy>User</cp:lastModifiedBy>
  <dcterms:modified xsi:type="dcterms:W3CDTF">2017-09-21T05:30:29Z</dcterms:modified>
  <cp:revision>66</cp:revision>
  <dc:subject/>
  <dc:title>Презентация PowerPoint</dc:title>
</cp:coreProperties>
</file>