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jpeg" ContentType="image/jpeg"/>
  <Override PartName="/ppt/media/image4.gif" ContentType="image/gif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8288-9A80-4599-94E8-2C61BFE0C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FFFE-E655-449E-8706-5A14BF5B6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97D5-6BEF-438D-BFB4-6205370F5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C90D-C55C-45D6-BE3F-1830001B9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0D9FB-5B5B-44DB-AB88-43C4CD433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A0703-F100-425A-BB79-02637A142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36A4E-C0AE-4E4D-B252-DCE0A74CD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DD0CC-48AF-4B58-835D-F0EDD5354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CA81C-D239-4021-A019-91DDB706B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6944D-E3C1-4CB5-8919-DBCC095A9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6F745-F1F4-4860-8673-17ABC0A2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6BC2-6AA0-4CB3-86A1-A1AC4E929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DB206-AFA5-4AE6-8B39-D509A545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55D58-096C-4890-A261-7FEA3541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BED9D-4442-40DB-819B-3DD06D214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F65B1-56D4-49B0-B6D0-1D5A2F951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9CA62-C8C0-4F38-91E2-0783803A4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F3B1-2291-4617-B6AA-AF9E7B6A3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DA80-9327-4E2A-8A4E-E43AF702C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2775-6FAA-4D11-B2B7-897A6426A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60A8-161B-496E-AF97-96165B711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B671-BD48-4AC5-9558-4EB7B614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771A-1D10-46E7-BF99-DABF07A8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D054-92A2-46F7-9278-D506841D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bf39"/>
            </a:gs>
            <a:gs pos="100000">
              <a:srgbClr val="cc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A547F-E039-4469-A15D-3DFDD3ECCC4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bf39"/>
            </a:gs>
            <a:gs pos="100000">
              <a:srgbClr val="cc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8CCCB-0B42-44DF-901F-32BECA84726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600" spc="-1" strike="noStrike">
                <a:solidFill>
                  <a:srgbClr val="006633"/>
                </a:solidFill>
                <a:latin typeface="Garamond"/>
              </a:rPr>
              <a:t>Родительское собрание</a:t>
            </a:r>
            <a:br>
              <a:rPr sz="4600"/>
            </a:br>
            <a:r>
              <a:rPr b="1" i="1" lang="ru-RU" sz="4600" spc="-1" strike="noStrike">
                <a:solidFill>
                  <a:srgbClr val="006633"/>
                </a:solidFill>
                <a:latin typeface="Garamond"/>
              </a:rPr>
              <a:t>«Как помочь ребенку хорошо учиться»</a:t>
            </a:r>
            <a:br>
              <a:rPr sz="4600"/>
            </a:br>
            <a:r>
              <a:rPr b="1" i="1" lang="ru-RU" sz="4600" spc="-1" strike="noStrike">
                <a:solidFill>
                  <a:srgbClr val="006633"/>
                </a:solidFill>
                <a:latin typeface="Garamond"/>
              </a:rPr>
              <a:t>«</a:t>
            </a:r>
            <a:r>
              <a:rPr b="1" i="1" lang="ru-RU" sz="4400" spc="-1" strike="noStrike">
                <a:solidFill>
                  <a:srgbClr val="006633"/>
                </a:solidFill>
                <a:latin typeface="Garamond"/>
              </a:rPr>
              <a:t>Если ребёнку удается добиться успеха в</a:t>
            </a:r>
            <a:br>
              <a:rPr sz="4400"/>
            </a:br>
            <a:r>
              <a:rPr b="1" i="1" lang="ru-RU" sz="4400" spc="-1" strike="noStrike">
                <a:solidFill>
                  <a:srgbClr val="006633"/>
                </a:solidFill>
                <a:latin typeface="Garamond"/>
              </a:rPr>
              <a:t>школе, у него есть</a:t>
            </a:r>
            <a:br>
              <a:rPr sz="4400"/>
            </a:br>
            <a:r>
              <a:rPr b="1" i="1" lang="ru-RU" sz="4400" spc="-1" strike="noStrike">
                <a:solidFill>
                  <a:srgbClr val="006633"/>
                </a:solidFill>
                <a:latin typeface="Garamond"/>
              </a:rPr>
              <a:t>все шансы на </a:t>
            </a:r>
            <a:br>
              <a:rPr sz="4400"/>
            </a:br>
            <a:r>
              <a:rPr b="1" i="1" lang="ru-RU" sz="4400" spc="-1" strike="noStrike">
                <a:solidFill>
                  <a:srgbClr val="006633"/>
                </a:solidFill>
                <a:latin typeface="Garamond"/>
              </a:rPr>
              <a:t>успех в жизни.»  </a:t>
            </a:r>
            <a:br>
              <a:rPr sz="4400"/>
            </a:br>
            <a:r>
              <a:rPr b="1" i="1" lang="ru-RU" sz="4400" spc="-1" strike="noStrike">
                <a:solidFill>
                  <a:srgbClr val="006633"/>
                </a:solidFill>
                <a:latin typeface="Garamond"/>
              </a:rPr>
              <a:t>          У. Глассер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06907"/>
          <p:cNvPicPr/>
          <p:nvPr/>
        </p:nvPicPr>
        <p:blipFill>
          <a:blip r:embed="rId1"/>
          <a:stretch/>
        </p:blipFill>
        <p:spPr>
          <a:xfrm>
            <a:off x="5429160" y="3429000"/>
            <a:ext cx="3233880" cy="304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006633"/>
                </a:solidFill>
                <a:latin typeface="Garamond"/>
              </a:rPr>
              <a:t>Выполняя упражнение по русскому языку, необходимо:</a:t>
            </a: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вторить правил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читать задания к упражнению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вторить, что нужно сделать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читать упражнение и выполнить все задания устно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ыполнить задание письменно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верить работ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8964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нь важным моментом является выработка привычки к неукоснительному выполнению домашних заданий:</a:t>
            </a:r>
            <a:r>
              <a:rPr b="0" lang="ru-RU" sz="4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600"/>
            </a:b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84360" y="2060640"/>
            <a:ext cx="8208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ая бы погода ни бы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бы ни шли телепередачи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• чей бы день рождения ни отмечал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6633"/>
                </a:solidFill>
                <a:latin typeface="Arial"/>
              </a:rPr>
              <a:t>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роки должны быть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полнены, и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полнены хорошо. </a:t>
            </a:r>
            <a:br>
              <a:rPr sz="32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2613_NpAdvHover"/>
          <p:cNvPicPr/>
          <p:nvPr/>
        </p:nvPicPr>
        <p:blipFill>
          <a:blip r:embed="rId1"/>
          <a:stretch/>
        </p:blipFill>
        <p:spPr>
          <a:xfrm>
            <a:off x="250920" y="4005360"/>
            <a:ext cx="345600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468360" y="505728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Организация рабочего места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Важным является и место выполнения  работы. </a:t>
            </a:r>
            <a:br>
              <a:rPr sz="3200"/>
            </a:b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0" y="1428480"/>
            <a:ext cx="91440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но должно быть постоянны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икто не должен мешать учени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Очень важно заниматься собранн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орошем темпе,  не отвлекаясь на           посторонние дела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Очень важен темп рабо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Работают хорошо те, кто работают быстр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seminar3"/>
          <p:cNvPicPr/>
          <p:nvPr/>
        </p:nvPicPr>
        <p:blipFill>
          <a:blip r:embed="rId1"/>
          <a:stretch/>
        </p:blipFill>
        <p:spPr>
          <a:xfrm>
            <a:off x="0" y="3048120"/>
            <a:ext cx="185724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Garamond"/>
              </a:rPr>
              <a:t>Направление помощи — приучение к самостоятельности</a:t>
            </a:r>
            <a:r>
              <a:rPr b="0" lang="ru-RU" sz="3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543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 спешите указывать на ошибки, пусть ребенок найдет их са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 давайте готового ответа на их вопрос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чите детей выделять учебную задач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89707"/>
          <p:cNvPicPr/>
          <p:nvPr/>
        </p:nvPicPr>
        <p:blipFill>
          <a:blip r:embed="rId1"/>
          <a:stretch/>
        </p:blipFill>
        <p:spPr>
          <a:xfrm>
            <a:off x="7020000" y="2000160"/>
            <a:ext cx="212400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33"/>
                </a:solidFill>
                <a:latin typeface="Garamond"/>
              </a:rPr>
              <a:t>Составление правил, которыми стоит руководствоваться, общаясь с ребенком.</a:t>
            </a:r>
            <a:br>
              <a:rPr sz="3600"/>
            </a:b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58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Не вмешивайтесь в дело, которым занят ребенок, если он не просит помощи. Своим невмешательством вы будете сообщать ему: «С тобой все в порядке! Ты, конечно, справишься!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Если ребенку трудно, и он готов принять вашу помощь обязательно помогите ему. При эт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ьмите на себя только то, что он не может выполнить сам, а остальное предоставьте делать самом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мере освоения ребенком новых действий постепенно передавайте их 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Думайте при ребенке вслух, анализируйте, рассуждайте. Думай­те с ребенком вместе, планируйте, обсуждайте. Решайте жизненные ситуации. Научить собственного ребенка думать - главная обязанность родител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57200" y="213840"/>
            <a:ext cx="8229600" cy="59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икогда не называйте ребенка бестолковым и т.п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Хвалите ребенка за любой успех, пусть даже самый незначительный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Ежедневно просматривайте без нареканий тетради, дневник, спокойно попросите объяснения по тому или иному факту, а затем спросите, чем вы можете помочь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Любите своего ребенка и вселяйте ежедневно в него уверенность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 ругайте, а учите!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57200" y="0"/>
            <a:ext cx="8229600" cy="61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Родители должны говорить ребенку: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к хорошо, что ты у нас родился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Я рада тебя видеть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ы мне нравишься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Я люблю, когда ты дома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не хорошо, когда мы вместе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57200" y="0"/>
            <a:ext cx="8229600" cy="61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 объятия совершенно необходимы каждому просто для выживания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 для хорошего самочувствия нужно не менее 8 объятий в день! Не только ребенку, но и взрослом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58560" y="6857640"/>
            <a:ext cx="410508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WordArt 4"/>
          <p:cNvSpPr txBox="1"/>
          <p:nvPr/>
        </p:nvSpPr>
        <p:spPr>
          <a:xfrm>
            <a:off x="971640" y="620640"/>
            <a:ext cx="7466040" cy="5400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дуйтесь тому, 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то у вас есть такое счастье - 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 кем-то делать уроки, 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му-то помогать взрослеть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   </a:t>
            </a: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РЕШЕНИЕ СОБРАНИЯ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спользовать полученную информацию в своей работе с ребенк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менять различную популярную развивающую литературу для организации занятий с детьми (для развития памяти, мышления, внимания, наблюдательности, воображения и т. д.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1"/>
          <p:cNvSpPr/>
          <p:nvPr/>
        </p:nvSpPr>
        <p:spPr>
          <a:xfrm>
            <a:off x="285840" y="136080"/>
            <a:ext cx="8358120" cy="58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2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2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2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ш ребенок чему-то учится. Общий итог будет состоять из нескольких частных результатов. Назовем четыре из н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2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2192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ый очевидный - это знание, которое он получит, или умение, которое он осво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192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 менее очевидный - это тренировка общей способности учиться, то есть учить самого себ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192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 - эмоциональный след от занятия: удовлетворение или разочарование, уверенность или неуверенность в своих сил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192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 - след ваших взаимоотношений с ним, если вы прин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­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и участие в занятиях. Здесь итог может быть либо положительным (остались довольны друг другом), либо отрицательным (пополнилась копилка взаимных недовольст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4"/>
          <p:cNvSpPr txBox="1"/>
          <p:nvPr/>
        </p:nvSpPr>
        <p:spPr>
          <a:xfrm>
            <a:off x="2195640" y="1773360"/>
            <a:ext cx="4681440" cy="2303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асибо 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 внимание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0"/>
            <a:ext cx="8229600" cy="61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сохранить у ребенка желание учиться, стремление к знаниям, необходимо научить его хорошо учиться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57200" y="213840"/>
            <a:ext cx="8229600" cy="59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е значение в этом случае приобретает сотрудничество родителей и учителей, согласование их действий. Усилия семьи и школы в решении этой проблемы – едины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8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 детям должна быть эффективной, грамотной и должна идти в трех направлениях: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2636640"/>
            <a:ext cx="5914800" cy="30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режима дн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 за выполнением домашних заданий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учение детей к самостоятельности </a:t>
            </a:r>
            <a:br>
              <a:rPr sz="2600"/>
            </a:b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i"/>
          <p:cNvPicPr/>
          <p:nvPr/>
        </p:nvPicPr>
        <p:blipFill>
          <a:blip r:embed="rId1"/>
          <a:stretch/>
        </p:blipFill>
        <p:spPr>
          <a:xfrm>
            <a:off x="6215040" y="2492280"/>
            <a:ext cx="2714760" cy="303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Организация режима дня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режима дня позволяет ребенк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че справиться с учебной нагрузкой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щает нервную систему от переутомления, т.е. укрепляет здоровь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20% школьников плохое здоровье - причина неуспеваемости. </a:t>
            </a:r>
            <a:br>
              <a:rPr sz="2200"/>
            </a:br>
            <a:br>
              <a:rPr sz="2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18832091_6546"/>
          <p:cNvPicPr/>
          <p:nvPr/>
        </p:nvPicPr>
        <p:blipFill>
          <a:blip r:embed="rId1"/>
          <a:stretch/>
        </p:blipFill>
        <p:spPr>
          <a:xfrm>
            <a:off x="7236000" y="333360"/>
            <a:ext cx="1037880" cy="7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c00000"/>
                </a:solidFill>
                <a:latin typeface="Garamond"/>
              </a:rPr>
              <a:t>Точный распорядок занятий - это основа любого труда</a:t>
            </a:r>
            <a:r>
              <a:rPr b="0" lang="ru-RU" sz="3800" spc="-1" strike="noStrike">
                <a:solidFill>
                  <a:srgbClr val="c00000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жедневное выполнение домашних обязанносте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жедневное чтение кни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рганизация досуг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авильн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рганизованный со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antn071"/>
          <p:cNvPicPr/>
          <p:nvPr/>
        </p:nvPicPr>
        <p:blipFill>
          <a:blip r:embed="rId1"/>
          <a:stretch/>
        </p:blipFill>
        <p:spPr>
          <a:xfrm>
            <a:off x="5724360" y="3933720"/>
            <a:ext cx="3246480" cy="24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е помощи — контроль за выполнением домашних заданий.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 должен быть систематическим, а не от случая к случа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 детям должна оказываться своевремен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можно больше требовательности к детям и как можно больше уважения, контроль должен быть ненавязчивым и тактичн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нь важно контролировать не конечный продукт их труда, а сам процес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о учить их размышлять самостоятельно, анализировать, доказыв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РЕШАЯ ЗАДАЧУ, НЕОБХОДИМО</a:t>
            </a:r>
            <a:r>
              <a:rPr b="0" lang="ru-RU" sz="1600" spc="-1" strike="noStrike">
                <a:solidFill>
                  <a:srgbClr val="006633"/>
                </a:solidFill>
                <a:latin typeface="Garamond"/>
              </a:rPr>
              <a:t>:</a:t>
            </a:r>
            <a:endParaRPr b="0" lang="en-US" sz="1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000080"/>
            <a:ext cx="822960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читать задачу, представить, о чем говорится; кратко записать условие, схему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пояснить, что обозначает каждое число, повторить вопрос задачи; подумать, можно ли ответить на вопрос задачи; если нет, то почему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составить план решения задач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проверить решение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записать решение в тетрад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7T13:39:39Z</dcterms:created>
  <dc:creator>ЕГОР</dc:creator>
  <dc:description/>
  <dc:language>en-US</dc:language>
  <cp:lastModifiedBy>Света</cp:lastModifiedBy>
  <dcterms:modified xsi:type="dcterms:W3CDTF">2014-12-21T09:26:56Z</dcterms:modified>
  <cp:revision>24</cp:revision>
  <dc:subject/>
  <dc:title>Родительское собрание «Нравственные законы семьи - законы жизни»</dc:title>
</cp:coreProperties>
</file>