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A0F76-AFB3-4D11-B14A-AC7C68188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089C7-3C6D-48CC-904A-BC29DB80F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D227F-2B0F-4ACD-8526-ABFBFAA53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494BF-911C-4648-A7C1-F38EF44CC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76B7A-8FF3-4993-A2C9-56FE65B7A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60E8A-FF33-4964-9E2C-1248F0B3E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C3399-5ACA-47C8-BB85-190A445F6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006FA-5E6B-4EEF-B322-80DEE3272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CCC62-C60E-4022-AE59-92700A295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06AC3-1DE2-4AED-A8FF-DD781C269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D744C-5004-4E24-B917-BDF3406D8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4EEA7-71D6-43A5-961C-FAFBE7891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B5A67-09FD-4263-9512-418E091AC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BBAD5-B67A-45CB-8EA4-B46D3EA48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3D5C9-0BFE-4C77-A166-84D8959BD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5BEC0-0103-402A-9048-BD2BB46B0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A0FC6-2234-4B48-8CDC-A25CF4526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69445E-159F-4892-AFA0-1D6EEAD60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B17CFD-4E6F-40B6-B6F7-A262E2614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8CF3D5-2689-4167-BC6A-2FC66E561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7343B9-5D54-4F6B-ADD6-C950F305C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DE6BD8-95B7-4DEC-9EE6-BEE7353BE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D68CC-D6E5-4CCE-80BE-544F13C3B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2D9CD4-63B4-427F-8038-50A18E0E6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97A42C-CCEF-4979-B2CC-1D9AA5970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B5CD94-15ED-4786-B5E1-A2EC06B27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7289A2-638B-4536-904F-44B572C33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6B2A94-6C40-457C-9E20-120D94255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81BF01-94D1-4078-B483-9B9446176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25AC13-844E-4F18-AB9A-2FCFBC5CA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A6641-DB6C-4D5B-A20F-2F78DE01B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11E86-030D-4CDC-82BE-B6065782B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AA6EC-F8FB-4E2D-871B-BDC60437B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2B670-D2C3-4378-AAE8-A099BA25A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6F909-A058-468A-8944-08C20AD67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4DF0C-E14D-4E93-84E1-47DF113BA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9789A-49DE-41C4-A9BD-93E502FB4ED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4A6C6-2172-4512-AF1B-10569075AF9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ECDF3-4BF4-42DC-8CE4-1F2C935F690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images.google.ru/imgres?imgurl=http://www.antiq.info/images/pictures/large/270650381.jpg&amp;imgrefurl=http://www.antiq.info/arms_/7707.html&amp;usg=__f2qbzZhRRhsZSuytNgm6IcG-eRI=&amp;h=300&amp;w=500&amp;sz=48&amp;hl=ru&amp;start=19&amp;itbs=1&amp;tbnid=1REBublxcP8cJM:&amp;tbnh=78&amp;tbnw=130&amp;prev=/images%3Fq%3D%25D1%2580%25D0%25B8%25D1%2581%25D1%2583%25D0%25BD%25D0%25BA%25D0%25B8%2B%25D0%25BE%2B%25D0%25B4%25D1%2583%25D1%258D%25D0%25BB%25D0%25B8%26ndsp%3D20%26hl%3Dru%26sa%3DN%26newwindow%3D1" TargetMode="External"/><Relationship Id="rId3" Type="http://schemas.openxmlformats.org/officeDocument/2006/relationships/hyperlink" Target="http://images.google.ru/imgres?imgurl=http://www.antiq.info/images/pictures/large/270650381.jpg&amp;imgrefurl=http://www.antiq.info/arms_/7707.html&amp;usg=__f2qbzZhRRhsZSuytNgm6IcG-eRI=&amp;h=300&amp;w=500&amp;sz=48&amp;hl=ru&amp;start=19&amp;itbs=1&amp;tbnid=1REBublxcP8cJM:&amp;tbnh=78&amp;tbnw=130&amp;prev=/images%3Fq%3D%25D1%2580%25D0%25B8%25D1%2581%25D1%2583%25D0%25BD%25D0%25BA%25D0%25B8%2B%25D0%25BE%2B%25D0%25B4%25D1%2583%25D1%258D%25D0%25BB%25D0%25B8%26ndsp%3D20%26hl%3Dru%26sa%3DN%26newwindow%3D1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4.xm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6.xm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8.xml"/><Relationship Id="rId3" Type="http://schemas.openxmlformats.org/officeDocument/2006/relationships/slide" Target="slide8.xml"/><Relationship Id="rId4" Type="http://schemas.openxmlformats.org/officeDocument/2006/relationships/slide" Target="slide8.xml"/><Relationship Id="rId5" Type="http://schemas.openxmlformats.org/officeDocument/2006/relationships/slide" Target="slide8.xml"/><Relationship Id="rId6" Type="http://schemas.openxmlformats.org/officeDocument/2006/relationships/slide" Target="slide8.xml"/><Relationship Id="rId7" Type="http://schemas.openxmlformats.org/officeDocument/2006/relationships/slide" Target="slide8.xml"/><Relationship Id="rId8" Type="http://schemas.openxmlformats.org/officeDocument/2006/relationships/slide" Target="slide8.xml"/><Relationship Id="rId9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610920" y="299700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Verdana"/>
              </a:rPr>
              <a:t>ТЕМА: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Что представляет собой дуэль в романе И.С. Тургенева «Отцы и дети»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Text Box 6"/>
          <p:cNvSpPr/>
          <p:nvPr/>
        </p:nvSpPr>
        <p:spPr>
          <a:xfrm>
            <a:off x="4067280" y="476280"/>
            <a:ext cx="4535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рагам наследственным подобно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Как в </a:t>
            </a:r>
            <a:r>
              <a:rPr b="0" lang="ru-RU" sz="1800" spc="-1" strike="noStrike">
                <a:solidFill>
                  <a:srgbClr val="cc0000"/>
                </a:solidFill>
                <a:latin typeface="Verdana"/>
              </a:rPr>
              <a:t>страшном, непонятном сне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ни друг другу в тишине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Готовят </a:t>
            </a:r>
            <a:r>
              <a:rPr b="0" lang="ru-RU" sz="1800" spc="-1" strike="noStrike">
                <a:solidFill>
                  <a:srgbClr val="003366"/>
                </a:solidFill>
                <a:latin typeface="Verdana"/>
              </a:rPr>
              <a:t>гибель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003366"/>
                </a:solidFill>
                <a:latin typeface="Verdana"/>
              </a:rPr>
              <a:t>хладнокровно</a:t>
            </a:r>
            <a:r>
              <a:rPr b="0" lang="ru-RU" sz="1800" spc="-1" strike="noStrike">
                <a:solidFill>
                  <a:srgbClr val="cc0000"/>
                </a:solidFill>
                <a:latin typeface="Verdana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от пистолеты уж блеснули…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А.С. Пушкин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8" name="Picture 10" descr="i?id=11589404&amp;tov=4"/>
          <p:cNvPicPr/>
          <p:nvPr/>
        </p:nvPicPr>
        <p:blipFill>
          <a:blip r:embed="rId1"/>
          <a:stretch/>
        </p:blipFill>
        <p:spPr>
          <a:xfrm>
            <a:off x="6732720" y="3789360"/>
            <a:ext cx="2166840" cy="2781360"/>
          </a:xfrm>
          <a:prstGeom prst="rect">
            <a:avLst/>
          </a:prstGeom>
          <a:ln w="0">
            <a:noFill/>
          </a:ln>
        </p:spPr>
      </p:pic>
      <p:sp>
        <p:nvSpPr>
          <p:cNvPr id="129" name="AutoShape 12">
            <a:hlinkClick r:id="rId2"/>
          </p:cNvPr>
          <p:cNvSpPr/>
          <p:nvPr/>
        </p:nvSpPr>
        <p:spPr>
          <a:xfrm>
            <a:off x="3952800" y="3057480"/>
            <a:ext cx="1238400" cy="7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0" name="Picture 14" descr="27065038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95280" y="333360"/>
            <a:ext cx="309564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              </a:t>
            </a: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Словарь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692360" y="1628280"/>
            <a:ext cx="5400720" cy="491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990000"/>
                </a:solidFill>
                <a:latin typeface="Verdana"/>
              </a:rPr>
              <a:t>       </a:t>
            </a:r>
            <a:r>
              <a:rPr b="1" lang="ru-RU" sz="1600" spc="-1" strike="noStrike">
                <a:solidFill>
                  <a:srgbClr val="990000"/>
                </a:solidFill>
                <a:latin typeface="Verdana"/>
              </a:rPr>
              <a:t>Дуэль-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1)Поединок, бой (с применением оружия) между двумя лицами по вызову одного из них. Условия дуэли заранее устанавливались противниками или их представителями (секундантами) с соблюдением обычаев. Наиболее распространена в средние века, хотя формально запрещалась и была наказуема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2) В дворянском обществе: способ защиты личной чести - вооруженная борьба двух противников по вызову одного из них, в присутствии секундантов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3) Поединок, происходящий по определенным правилам, парный бой, имеющий целью восстановления чести, снятия с обиженного позорного пятна, нанесенного оскорблением.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3" name="Picture 4" descr="Базаров. Художник К. Рудаков. 1948-1949"/>
          <p:cNvPicPr/>
          <p:nvPr/>
        </p:nvPicPr>
        <p:blipFill>
          <a:blip r:embed="rId1"/>
          <a:stretch/>
        </p:blipFill>
        <p:spPr>
          <a:xfrm>
            <a:off x="0" y="549360"/>
            <a:ext cx="2124000" cy="32400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5" descr="Павел Петрович Кирсанов. Художник Е. Рудаков. 1946–1947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093080" y="2852640"/>
            <a:ext cx="2050920" cy="35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План урока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94920" y="2276280"/>
            <a:ext cx="80010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«Дуэль открывает столько возможностей…» или «Позвольте узнать, какое ваше мнение об этом предмете?»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« - Мне кажется, вы шутите, милостивый государь!»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«Утро было славное, свежее…» </a:t>
            </a:r>
            <a:r>
              <a:rPr b="0" lang="ru-RU" sz="2400" spc="-1" strike="noStrike" u="sng">
                <a:solidFill>
                  <a:srgbClr val="336699"/>
                </a:solidFill>
                <a:uFillTx/>
                <a:latin typeface="Verdana"/>
                <a:hlinkClick r:id="rId1" action="ppaction://hlinksldjump"/>
              </a:rPr>
              <a:t>Готовимся к ЕГЭ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«Побеждает не тот, кто прав, а кто лучше владеет пистолетом?»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         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7" name="Picture 7" descr="040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084720" y="5229360"/>
            <a:ext cx="2159280" cy="14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4"/>
          <p:cNvSpPr/>
          <p:nvPr/>
        </p:nvSpPr>
        <p:spPr>
          <a:xfrm>
            <a:off x="250920" y="1488960"/>
            <a:ext cx="806436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Verdana"/>
              </a:rPr>
              <a:t>- </a:t>
            </a:r>
            <a:r>
              <a:rPr b="0" lang="ru-RU" sz="2000" spc="-1" strike="noStrike">
                <a:solidFill>
                  <a:srgbClr val="333399"/>
                </a:solidFill>
                <a:latin typeface="Verdana"/>
              </a:rPr>
              <a:t>Даёшь дуэли!!!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- Я бы умерла заранее, от страха!!!!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Verdana"/>
              </a:rPr>
              <a:t>- Дуэль открывает столько возможностей для отстаивания своего права… приятно чувствовать на боку тяжесть пистолета и осознавать своё право защищать то, что я считаю правильным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- Сомнительный способ восстановления справедливост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Verdana"/>
              </a:rPr>
              <a:t>- Что?! Ты не веришь, что 2х2=10? Ты хочешь сказать, что я неуч? Ты меня оскорбить норовишь? СТРЕЛЯТЬСЯ!!!!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-  Разве вопросы порядочности / непорядочности решаются умением стрелять/ фехтовать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Verdana"/>
              </a:rPr>
              <a:t>- Что является главным в дуэли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- Для существования понятия  дуэль  необходимо, как минимум, распространение понятия  честь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Verdana"/>
              </a:rPr>
              <a:t>- Дуэль – это предумышленное убийство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Мн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17">
            <a:hlinkClick r:id="" action="ppaction://hlinkshowjump?jump=previousslide"/>
          </p:cNvPr>
          <p:cNvSpPr/>
          <p:nvPr/>
        </p:nvSpPr>
        <p:spPr>
          <a:xfrm>
            <a:off x="8101080" y="5877000"/>
            <a:ext cx="431640" cy="4316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285840" y="428400"/>
            <a:ext cx="846144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Утро было славное, свежее; маленькие пёстрые тучки стояли барашками на бледно-ясной лазури; мелкая роса высыпала на листьях и травах, блистала серебром на паутинках; влажная тёмная земля, казалось, ещё хранила румяный след зари; со всего неба сыпались песни жаворонков. Базаров дошёл до рощи, присел в тени на опушку и только тогда открыл Петру, какой он ждал от него услуги. Образованный лакей перепугался насмерть; но Базаров успокоил его уверением, что ему другого нечего будет делать, как только стоять в отдалении, да глядеть, и что ответственности он не подвергается никакой. «А между тем, - прибавил он, -  подумай, какая предстоит тебе важная роль!» Пётр развёл руками, потупился и, весь зелёный, прислонился к берёз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Дорога из Марьина огибала лесок; лёгкая пыль лежала на ней. Базаров невольно посматривал вдоль той дороги, рвал и кусал траву, а сам всё твердил про себя: «Экая глупость!». Утренний холодок заставил его раза  два вздрогнуть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990000"/>
                </a:solidFill>
                <a:latin typeface="Times New Roman"/>
              </a:rPr>
              <a:t>В1.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Times New Roman"/>
                <a:hlinkClick r:id="rId1" action="ppaction://hlinksldjump"/>
              </a:rPr>
              <a:t>Как называется описание природы, имеющее в произведении важное художественное значение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0000"/>
                </a:solidFill>
                <a:latin typeface="Times New Roman"/>
              </a:rPr>
              <a:t>В2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Times New Roman"/>
                <a:hlinkClick r:id="rId2" action="ppaction://hlinksldjump"/>
              </a:rPr>
              <a:t>Какой приём использует автор в описании: «маленькие пёстрые тучки стояли барашками на бледно-ясной лазури»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0000"/>
                </a:solidFill>
                <a:latin typeface="Times New Roman"/>
              </a:rPr>
              <a:t>В3.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Times New Roman"/>
                <a:hlinkClick r:id="rId3" action="ppaction://hlinksldjump"/>
              </a:rPr>
              <a:t>Этот приём, по мнению Тургенева, нужен для того, что художник не должен передавать подробно движения души своих героев, а передавать по средствам диалога, портрета, пейзажа, реалистических деталей в описании обстановки и поведения героев. О каком приёме идёт речь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0000"/>
                </a:solidFill>
                <a:latin typeface="Times New Roman"/>
              </a:rPr>
              <a:t>В4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Times New Roman"/>
                <a:hlinkClick r:id="rId4" action="ppaction://hlinksldjump"/>
              </a:rPr>
              <a:t>Выпишите из последнего абзаца слово(-а) или словосочетание(-я), представляющее(-ие) собой пример описанного в задании В3 приём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0000"/>
                </a:solidFill>
                <a:latin typeface="Times New Roman"/>
              </a:rPr>
              <a:t>В5.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Times New Roman"/>
                <a:hlinkClick r:id="rId5" action="ppaction://hlinksldjump"/>
              </a:rPr>
              <a:t>О ком так подумал Базаров: «Вот этот тоже рано встал, да, по крайней мере за делом, а мы?»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0000"/>
                </a:solidFill>
                <a:latin typeface="Times New Roman"/>
              </a:rPr>
              <a:t>В6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Times New Roman"/>
                <a:hlinkClick r:id="rId6" action="ppaction://hlinksldjump"/>
              </a:rPr>
              <a:t>Какой приём использует автор в речи героя: «…подумай, какая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Times New Roman"/>
                <a:hlinkClick r:id="rId7" action="ppaction://hlinksldjump"/>
              </a:rPr>
              <a:t>предстоит тебе важная роль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Times New Roman"/>
                <a:hlinkClick r:id="rId8" action="ppaction://hlinksldjump"/>
              </a:rPr>
              <a:t>!»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0000"/>
                </a:solidFill>
                <a:latin typeface="Times New Roman"/>
              </a:rPr>
              <a:t>В7.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Какой принцип соотношения данного пейзажа и предстоящей дуэли использует И.С. Тургенев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5"/>
          <p:cNvSpPr/>
          <p:nvPr/>
        </p:nvSpPr>
        <p:spPr>
          <a:xfrm>
            <a:off x="3209040" y="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Verdana"/>
              </a:rPr>
              <a:t>Готовимся к ЕГЭ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AutoShape 6"/>
          <p:cNvSpPr/>
          <p:nvPr/>
        </p:nvSpPr>
        <p:spPr>
          <a:xfrm>
            <a:off x="8643960" y="6357960"/>
            <a:ext cx="252360" cy="252360"/>
          </a:xfrm>
          <a:custGeom>
            <a:avLst/>
            <a:gdLst>
              <a:gd name="textAreaLeft" fmla="*/ 16200 w 252360"/>
              <a:gd name="textAreaRight" fmla="*/ 236160 w 252360"/>
              <a:gd name="textAreaTop" fmla="*/ 16200 h 252360"/>
              <a:gd name="textAreaBottom" fmla="*/ 236160 h 25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990000"/>
                </a:solidFill>
                <a:latin typeface="Verdana"/>
              </a:rPr>
              <a:t>Ключевые слова эпизода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8001000" cy="47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1. смерть 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–  кончина, смерть, убийство, задушить, как котёнка, умру, не умру, перепугался насмерть, истреблять, пока околею, как голова мертвеца, да он и был мертвец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2. холодность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 – хладнокровие Б., леденящая вежливость П.П., утренний холодок, Б. вздрогнул, белые как, снег панталоны П.П., скверно(4), холоден как лёд Б., не охладил вопросом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3. смешно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-  иронически, вы шутите, продолжаете шутить, комедию отломали, с усмешкой, необычен до смешного, вам всё же желательно шутить, почему не посмеяться, смеялся,  шутил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4. драться 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– поединок(2),столкновение, драться(3), дирывались, побоище, не воин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5. глупость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– нелепость, глупо, экая глупость, странность, глупая физиономия Петра, глупец Пётр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6. лес (зелёный цвет)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– лесок, позеленел (Пётр), зелёное сукно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7. мужик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987280" y="333360"/>
            <a:ext cx="565956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484000" y="1773000"/>
            <a:ext cx="633564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   “…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дуэль с Павлом Петровичем именно введена для наглядного доказательства </a:t>
            </a:r>
            <a:r>
              <a:rPr b="0" lang="ru-RU" sz="1800" spc="-1" strike="noStrike">
                <a:solidFill>
                  <a:srgbClr val="990000"/>
                </a:solidFill>
                <a:latin typeface="Verdana"/>
              </a:rPr>
              <a:t>пустоты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элегантно-дворянского рыцарства, выставленного почти преувеличенно </a:t>
            </a:r>
            <a:r>
              <a:rPr b="0" lang="ru-RU" sz="1800" spc="-1" strike="noStrike">
                <a:solidFill>
                  <a:srgbClr val="990000"/>
                </a:solidFill>
                <a:latin typeface="Verdana"/>
              </a:rPr>
              <a:t>комически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.”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И.С. Тургенев. По поводу «Отцов и детей»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   “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Личные мои наклонности тут ничего не значат; но, вероятно, многие из моих читателей удивятся, если я скажу им, что, за исключением воззрений Базарова на художества, - я разделяю почти все его убеждения. А меня уверяют, что я на стороне  «отцов»….”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И.С. Тургенев. По поводу «Отцов и детей»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8" name="Picture 7" descr="i?id=32592905&amp;tov=0"/>
          <p:cNvPicPr/>
          <p:nvPr/>
        </p:nvPicPr>
        <p:blipFill>
          <a:blip r:embed="rId1"/>
          <a:stretch/>
        </p:blipFill>
        <p:spPr>
          <a:xfrm>
            <a:off x="179280" y="189000"/>
            <a:ext cx="2305080" cy="331308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8"/>
          <p:cNvSpPr/>
          <p:nvPr/>
        </p:nvSpPr>
        <p:spPr>
          <a:xfrm>
            <a:off x="2987640" y="765000"/>
            <a:ext cx="331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т автор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a50021"/>
                </a:solidFill>
                <a:latin typeface="Arial"/>
              </a:rPr>
              <a:t>Подготовка к ЕГЭ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твет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1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ейза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2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равн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3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айный психологиз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4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аза  два вздрогнуть, рвал и кусал трав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5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 мужике с лошадь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6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нверс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7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онтра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втор презент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читель высшей квалификационной категори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римова Наталья Леонидов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. Казань МАОУ «Гимназия№37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3T12:20:17Z</dcterms:created>
  <dc:creator>Admin</dc:creator>
  <dc:description/>
  <dc:language>en-US</dc:language>
  <cp:lastModifiedBy>KN</cp:lastModifiedBy>
  <dcterms:modified xsi:type="dcterms:W3CDTF">2013-11-25T17:07:28Z</dcterms:modified>
  <cp:revision>24</cp:revision>
  <dc:subject/>
  <dc:title>Урок открытых мыслей</dc:title>
</cp:coreProperties>
</file>