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2.wmf" ContentType="image/x-wmf"/>
  <Override PartName="/ppt/media/image21.png" ContentType="image/png"/>
  <Override PartName="/ppt/media/image5.jpeg" ContentType="image/jpeg"/>
  <Override PartName="/ppt/media/image20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FE1-5688-4EB8-87AF-199E57B2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A0A-3FDA-4963-9EAC-C9CC3EC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7C2-9DCD-4607-AA3E-0D64C5BA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B64-C438-4A90-8302-0EE2C52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EB8-86D4-4C68-B90D-413C291A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FA4-1AB5-4C5F-91DB-E64C23B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C72-C037-4706-AB4A-B8E7949C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FF2-E0A1-419F-AB31-CDA9F0A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A4D-721A-4668-99D9-8BCDB8B7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046-1C42-4631-8223-307E99C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098-06FB-4C82-BD3B-585EA56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317-9F6E-4A24-AFD8-CA41EE4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83C-C3AD-4807-AFE8-5CD9F5250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492875"/>
          <p:cNvPicPr/>
          <p:nvPr/>
        </p:nvPicPr>
        <p:blipFill>
          <a:blip r:embed="rId1"/>
          <a:stretch/>
        </p:blipFill>
        <p:spPr>
          <a:xfrm>
            <a:off x="5076720" y="3500280"/>
            <a:ext cx="3187800" cy="292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24000" y="620640"/>
            <a:ext cx="84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зентация к уроку изобразительного искусства в 1-м клас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1341360"/>
            <a:ext cx="835344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" Домики, которые построила природ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-684360" y="5516640"/>
            <a:ext cx="65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Учи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МБОУ «Грязенятская основ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Чер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p312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00000" y="5516640"/>
            <a:ext cx="86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Очень опасный домик. Чей же он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ney_comb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403280" y="522936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Это соты. Их строят пчё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995400" y="2646360"/>
            <a:ext cx="71532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же науч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х, птиц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секомых строить себе дома 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5" descr="MCj04344110000[1]"/>
          <p:cNvPicPr/>
          <p:nvPr/>
        </p:nvPicPr>
        <p:blipFill>
          <a:blip r:embed="rId1"/>
          <a:stretch/>
        </p:blipFill>
        <p:spPr>
          <a:xfrm>
            <a:off x="5651640" y="4508640"/>
            <a:ext cx="2058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914480" y="1860480"/>
            <a:ext cx="531504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ит, можно сказать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гнездо, дупл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равейник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ты, нора -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всё природ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тройки 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5" descr="MCj04344110000[1]"/>
          <p:cNvPicPr/>
          <p:nvPr/>
        </p:nvPicPr>
        <p:blipFill>
          <a:blip r:embed="rId1"/>
          <a:stretch/>
        </p:blipFill>
        <p:spPr>
          <a:xfrm>
            <a:off x="6588000" y="4221000"/>
            <a:ext cx="1986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hishki"/>
          <p:cNvPicPr/>
          <p:nvPr/>
        </p:nvPicPr>
        <p:blipFill>
          <a:blip r:embed="rId1"/>
          <a:stretch/>
        </p:blipFill>
        <p:spPr>
          <a:xfrm>
            <a:off x="539640" y="476280"/>
            <a:ext cx="3954600" cy="328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698e18398d91"/>
          <p:cNvPicPr/>
          <p:nvPr/>
        </p:nvPicPr>
        <p:blipFill>
          <a:blip r:embed="rId2"/>
          <a:stretch/>
        </p:blipFill>
        <p:spPr>
          <a:xfrm>
            <a:off x="1714680" y="1773360"/>
            <a:ext cx="4152600" cy="374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214996277_rakushka"/>
          <p:cNvPicPr/>
          <p:nvPr/>
        </p:nvPicPr>
        <p:blipFill>
          <a:blip r:embed="rId3"/>
          <a:stretch/>
        </p:blipFill>
        <p:spPr>
          <a:xfrm>
            <a:off x="4427640" y="2637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84360" y="5877000"/>
            <a:ext cx="82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Природа – лучший учитель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egg"/>
          <p:cNvPicPr/>
          <p:nvPr/>
        </p:nvPicPr>
        <p:blipFill>
          <a:blip r:embed="rId4"/>
          <a:stretch/>
        </p:blipFill>
        <p:spPr>
          <a:xfrm>
            <a:off x="4572000" y="404640"/>
            <a:ext cx="3887640" cy="3025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normal_gnezdo"/>
          <p:cNvPicPr/>
          <p:nvPr/>
        </p:nvPicPr>
        <p:blipFill>
          <a:blip r:embed="rId5"/>
          <a:stretch/>
        </p:blipFill>
        <p:spPr>
          <a:xfrm>
            <a:off x="468360" y="2205000"/>
            <a:ext cx="4680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-web"/>
          <p:cNvPicPr/>
          <p:nvPr/>
        </p:nvPicPr>
        <p:blipFill>
          <a:blip r:embed="rId1"/>
          <a:stretch/>
        </p:blipFill>
        <p:spPr>
          <a:xfrm>
            <a:off x="4065480" y="404640"/>
            <a:ext cx="4610160" cy="612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492875"/>
          <p:cNvPicPr/>
          <p:nvPr/>
        </p:nvPicPr>
        <p:blipFill>
          <a:blip r:embed="rId2"/>
          <a:stretch/>
        </p:blipFill>
        <p:spPr>
          <a:xfrm>
            <a:off x="684360" y="2637000"/>
            <a:ext cx="2900160" cy="378612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395280" y="907920"/>
            <a:ext cx="51055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АСТОЧКИНО ГНЕЗД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Cj04263820000[1]"/>
          <p:cNvPicPr/>
          <p:nvPr/>
        </p:nvPicPr>
        <p:blipFill>
          <a:blip r:embed="rId1"/>
          <a:stretch/>
        </p:blipFill>
        <p:spPr>
          <a:xfrm>
            <a:off x="900000" y="476280"/>
            <a:ext cx="6120000" cy="576108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 rot="18627600">
            <a:off x="6108480" y="4628520"/>
            <a:ext cx="226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333360"/>
          <a:ext cx="6095880" cy="406404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57"/>
          <p:cNvSpPr/>
          <p:nvPr/>
        </p:nvSpPr>
        <p:spPr>
          <a:xfrm>
            <a:off x="539640" y="69228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я       й        ц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8"/>
          <p:cNvSpPr/>
          <p:nvPr/>
        </p:nvSpPr>
        <p:spPr>
          <a:xfrm>
            <a:off x="7574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44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686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324000" y="5445000"/>
            <a:ext cx="6105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Домик круглый, домик бе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ик был сначала целый.А ка треснул након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выскочил жил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3"/>
          <p:cNvSpPr/>
          <p:nvPr/>
        </p:nvSpPr>
        <p:spPr>
          <a:xfrm>
            <a:off x="66348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>
            <a:off x="539640" y="573408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Без рук, без топорёнка построена из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5"/>
          <p:cNvSpPr/>
          <p:nvPr/>
        </p:nvSpPr>
        <p:spPr>
          <a:xfrm>
            <a:off x="592200" y="179244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       н        е        з        д 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>
            <a:off x="468360" y="595008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Раскололся тесный домик на две полов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посыпались оттуда бусинки дроб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7"/>
          <p:cNvSpPr/>
          <p:nvPr/>
        </p:nvSpPr>
        <p:spPr>
          <a:xfrm>
            <a:off x="592200" y="323208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       т       р        у       ч         о      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9" descr="MCj04244760000[1]"/>
          <p:cNvPicPr/>
          <p:nvPr/>
        </p:nvPicPr>
        <p:blipFill>
          <a:blip r:embed="rId4"/>
          <a:stretch/>
        </p:blipFill>
        <p:spPr>
          <a:xfrm>
            <a:off x="6877080" y="40464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50c5765e866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239840" y="1000080"/>
            <a:ext cx="700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У лисы в лесу глух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Есть нора – надёжный д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55344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08200" y="1360440"/>
            <a:ext cx="73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Не страшны зимой мет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Белочке в дупле на е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88360" cy="590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92200" y="1073160"/>
            <a:ext cx="801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Под кустами ёж колю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Нагребает листья в ку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В них забьётся до вес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И всю зиму смотрит 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00364574-preview"/>
          <p:cNvPicPr/>
          <p:nvPr/>
        </p:nvPicPr>
        <p:blipFill>
          <a:blip r:embed="rId1"/>
          <a:stretch/>
        </p:blipFill>
        <p:spPr>
          <a:xfrm>
            <a:off x="971640" y="476280"/>
            <a:ext cx="7272360" cy="5905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 flipH="1" flipV="1">
            <a:off x="898920" y="1194840"/>
            <a:ext cx="799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Из ветвей, камней, к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Хатки делают бобры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Строят домик у пруд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Вход туда – из-подо ль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129440" cy="6120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060560" y="1052640"/>
            <a:ext cx="808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К дому своему стрем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Издалёка аист птиц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Прилетает кажд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И в родном гнезде жив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3951_ulitka"/>
          <p:cNvPicPr/>
          <p:nvPr/>
        </p:nvPicPr>
        <p:blipFill>
          <a:blip r:embed="rId1"/>
          <a:stretch/>
        </p:blipFill>
        <p:spPr>
          <a:xfrm>
            <a:off x="444600" y="476280"/>
            <a:ext cx="823104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9120" y="1289160"/>
            <a:ext cx="794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Разве спросишь без улы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Ну, а где же дом ули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И дошкольник рассмеё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- С ним она не расстаё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he-den-under-the-snow"/>
          <p:cNvPicPr/>
          <p:nvPr/>
        </p:nvPicPr>
        <p:blipFill>
          <a:blip r:embed="rId1"/>
          <a:stretch/>
        </p:blipFill>
        <p:spPr>
          <a:xfrm>
            <a:off x="684360" y="476280"/>
            <a:ext cx="7704000" cy="5832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03280" y="1341360"/>
            <a:ext cx="743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Есть у каждого свой дом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Всем тепло, уютно в нё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63480" y="5465880"/>
            <a:ext cx="77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Как вы думаете, чей это дом?                            Как он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img__i_26005_w_640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612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84360" y="522936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Маленькие лесные труженики постро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этот дом. Как он называется и кт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жи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15:31Z</dcterms:created>
  <dc:creator>Admin</dc:creator>
  <dc:description/>
  <dc:language>en-US</dc:language>
  <cp:lastModifiedBy>WWW</cp:lastModifiedBy>
  <dcterms:modified xsi:type="dcterms:W3CDTF">2017-09-20T21:36:30Z</dcterms:modified>
  <cp:revision>7</cp:revision>
  <dc:subject/>
  <dc:title>Слайд 1</dc:title>
</cp:coreProperties>
</file>