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236-5BF0-4D73-93F1-CF55FF5F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35B-7FBF-487D-92A7-2E3E73AC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6FA-2B59-46B3-B102-5A9900CC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327-CF94-4318-942D-24C8464A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1307-0950-4DE0-84EA-C6A2BE6A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B54F-CE2E-438F-B36D-A2A000C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5B9-0972-4322-BC23-8CC9DFF4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1F85-0DEA-4B24-96BD-DE33DA0F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F83E-3938-43E8-9966-7473299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7C6D-0D01-40BD-9691-0C16517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8FAE-E864-4F34-A645-83532BC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E09-F0B0-4FC4-987B-F42DB4ED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6C2-5463-4F0C-99FA-B4F47D9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BF8-95A7-4E0F-8756-6D01F55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3E0B-E121-4662-8BDC-63840B81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0D7-C8E0-41A3-948F-669A4A7D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666-504F-4257-9E7F-EFA6C420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709-F147-4858-808F-3C605711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94B-38EA-4067-8C16-121BB82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EF0-F436-4E33-9C21-20475C35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551-75C9-4129-830A-12D54A9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ABF-18C7-40CF-8901-9658B58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8C9-FC6C-48E6-9B70-D4CD949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CC3-4E37-40FE-ACD3-99E5E8C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6FA-0D00-49B1-934D-31C48C979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22C-DA15-41B2-AF70-8E024366F5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858080" cy="1071720"/>
          </a:xfrm>
          <a:prstGeom prst="rect">
            <a:avLst/>
          </a:prstGeom>
          <a:solidFill>
            <a:srgbClr val="0060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1414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1414"/>
                </a:solidFill>
                <a:latin typeface="Arial"/>
              </a:rPr>
              <a:t>Привычки и здоровь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http://prezentazia.ucoz.ru/000/489735-8-346.png"/>
          <p:cNvPicPr/>
          <p:nvPr/>
        </p:nvPicPr>
        <p:blipFill>
          <a:blip r:embed="rId1"/>
          <a:stretch/>
        </p:blipFill>
        <p:spPr>
          <a:xfrm>
            <a:off x="571680" y="1285920"/>
            <a:ext cx="7858080" cy="532440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6281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Действуя на человека, алкоголь   изменяет его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знание, внешний вид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ведение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, которое перестает   соответствовать реаль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7120" y="350028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Алкоголь угрожает здоровью и жизни как самого человека, так и окружающих его людей, поэтому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ьяный человека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опас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4429080" cy="58100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ез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ть режим д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ть гигие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о и регулярно пита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нимать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время и самостоятельно делать уро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вать на свежем воздух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ать утреннюю заряд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ить за чистотой своей одежды и своего жилищ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шаться родителей и близких люд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ля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ть круж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ть кни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ть вести себя в коллек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2920" y="285480"/>
            <a:ext cx="43578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дн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уливать занятия в шк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бить и не уважать старш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сидеть у телевизора или за компьюте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лять в неположенных местах, где есть опасность для жиз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овать незнакомые веще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чересчур много  сладко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ызть ног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и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692280"/>
            <a:ext cx="8485200" cy="180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орма ответа задания :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28760" y="26431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00"/>
                </a:solidFill>
                <a:latin typeface="Arial Black"/>
              </a:rPr>
              <a:t>«Если    … ,       то  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414"/>
                </a:solidFill>
                <a:latin typeface="Arial"/>
              </a:rPr>
              <a:t>Полезные и вредные привыч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44290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выч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льчик чистит зу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льчик не хочет мыться и умыв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а ребят делает зарядк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вочка и ее отец убираются в квартире и чистят свою одежд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 грызет ногти на уро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 опаздывает на у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а ребят куря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ое взрослых выпив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9080" y="85716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дств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оровая красивая улыб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грязным подростком никто не хочет общ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портивных состязаниях ребята легко и свободно преодолевают дистанц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ленам семьи приятно находиться в чисто убранной комна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ч лечит мальчику воспаленные пальц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ма ругает сына, увидев двойку в дневни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оревнования ребята, задыхаясь, с трудом прибежали к финиш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коголик дремлет на лавке, представляя, что он – Наполе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активные действ"/>
          <p:cNvPicPr/>
          <p:nvPr/>
        </p:nvPicPr>
        <p:blipFill>
          <a:blip r:embed="rId1"/>
          <a:stretch/>
        </p:blipFill>
        <p:spPr>
          <a:xfrm>
            <a:off x="357120" y="1428840"/>
            <a:ext cx="8215560" cy="531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Box 2"/>
          <p:cNvSpPr/>
          <p:nvPr/>
        </p:nvSpPr>
        <p:spPr>
          <a:xfrm>
            <a:off x="571680" y="5716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2c00"/>
                </a:solidFill>
                <a:latin typeface="Arial"/>
              </a:rPr>
              <a:t>Наши виды отдых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Характерные признаки внешнего вида человека, употребляющего алкогольные</a:t>
            </a:r>
            <a:br>
              <a:rPr sz="2800"/>
            </a:b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                             напит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714680"/>
            <a:ext cx="412272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аснение лица (и ше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аснение и повышенная влажность слизистой оболочки гл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туманенный тяжелый взгля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чность лиц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прятность и неряшливость в одеж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алкоголик"/>
          <p:cNvPicPr/>
          <p:nvPr/>
        </p:nvPicPr>
        <p:blipFill>
          <a:blip r:embed="rId1"/>
          <a:stretch/>
        </p:blipFill>
        <p:spPr>
          <a:xfrm>
            <a:off x="5214960" y="1857240"/>
            <a:ext cx="3110040" cy="43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Какие признаки могут свидетельствовать, что  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изображенные на рисунках люди находятся в 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       состоянии алкогольного опьянения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2" descr="ghnfh"/>
          <p:cNvPicPr/>
          <p:nvPr/>
        </p:nvPicPr>
        <p:blipFill>
          <a:blip r:embed="rId1"/>
          <a:stretch/>
        </p:blipFill>
        <p:spPr>
          <a:xfrm>
            <a:off x="142920" y="1557360"/>
            <a:ext cx="4214880" cy="511164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  <p:pic>
        <p:nvPicPr>
          <p:cNvPr id="114" name="Picture 14" descr="ghnfh 002"/>
          <p:cNvPicPr/>
          <p:nvPr/>
        </p:nvPicPr>
        <p:blipFill>
          <a:blip r:embed="rId2"/>
          <a:stretch/>
        </p:blipFill>
        <p:spPr>
          <a:xfrm>
            <a:off x="4572000" y="1571760"/>
            <a:ext cx="4390920" cy="511164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1414"/>
                </a:solidFill>
                <a:latin typeface="Arial"/>
              </a:rPr>
              <a:t>Особенности поведения человека,  </a:t>
            </a:r>
            <a:br>
              <a:rPr sz="3200"/>
            </a:br>
            <a:r>
              <a:rPr b="1" lang="ru-RU" sz="3200" spc="-1" strike="noStrike">
                <a:solidFill>
                  <a:srgbClr val="001414"/>
                </a:solidFill>
                <a:latin typeface="Arial"/>
              </a:rPr>
              <a:t>     употребляющего спиртные напит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 проявляет агрессивное или развязное поведение по отношению к окружающ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роение или неоправданно повышенное или необоснованно угрюмо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ь становится более громкой и часто невнятной, при этом человек проявляет повышенную «болтливость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ие правильной координации движ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етливость (или наоборот, заторможенность) движений (вплоть до полного «омертвления» и очень глубокого сн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jjjj"/>
          <p:cNvPicPr/>
          <p:nvPr/>
        </p:nvPicPr>
        <p:blipFill>
          <a:blip r:embed="rId1"/>
          <a:stretch/>
        </p:blipFill>
        <p:spPr>
          <a:xfrm>
            <a:off x="642960" y="571680"/>
            <a:ext cx="4103640" cy="6048360"/>
          </a:xfrm>
          <a:prstGeom prst="rect">
            <a:avLst/>
          </a:prstGeom>
          <a:ln cap="sq" w="38160">
            <a:solidFill>
              <a:srgbClr val="2c2c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216400" y="764640"/>
            <a:ext cx="3927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ая возникает опасность в данном случа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подвергается этой опас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поведение при встрече с таким человеком будет наиболее правиль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6:01:22Z</dcterms:created>
  <dc:creator>XTreme</dc:creator>
  <dc:description/>
  <dc:language>en-US</dc:language>
  <cp:lastModifiedBy>Курсы</cp:lastModifiedBy>
  <dcterms:modified xsi:type="dcterms:W3CDTF">2012-03-29T10:18:32Z</dcterms:modified>
  <cp:revision>38</cp:revision>
  <dc:subject/>
  <dc:title>Привычки и здоровье</dc:title>
</cp:coreProperties>
</file>