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9D02-4684-4884-A089-03F811026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CACF-7D50-496E-BE75-40AF660C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3A70-E9A9-4E69-AF2C-340489876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9C41-1CAE-45A7-824E-5A94F0304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88778-9DB0-4577-8C4E-596F24878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0F5C-C6D6-4632-8874-A930100B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B681-1B84-467B-9AED-03B5BBF9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9D87-1197-4648-A47A-61B8FE2C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D366-C209-4A39-BA9D-B60CA8DD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871AA-84EB-4C01-9D7C-34B3FB99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057F-9DBB-402E-B014-770E3F03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534A-676F-4DE1-A9C1-36001F02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503A-F694-46E6-AEC6-4D8CA422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4D357-1C74-4043-9B0C-33A26F64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4B96A-9137-4FA5-AF75-EDD7452A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EEEC-7BAA-4C53-A581-EB55CFC02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65D3-E135-43E8-8DD8-5FE5EE9B4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E458-4187-404A-A381-0F87B5AD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B9F6-A816-4865-A7BF-70823CFD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6A6F-2EE6-472A-8796-13A47F12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6E60-A87A-4C88-99F5-FB2B2EB7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C10C-956C-489C-8E80-56EC1061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3D6D-A184-417E-BBB3-176C7F38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FA94-AF4A-4D96-9A17-673636C8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5EAB-696F-42FC-9F11-F20D7DEAFC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BD6B-8384-485E-B144-E241B7B15BB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7858080" cy="1071720"/>
          </a:xfrm>
          <a:prstGeom prst="rect">
            <a:avLst/>
          </a:prstGeom>
          <a:solidFill>
            <a:srgbClr val="006000"/>
          </a:soli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1414"/>
                </a:solidFill>
                <a:latin typeface="Arial"/>
              </a:rPr>
              <a:t>     </a:t>
            </a:r>
            <a:r>
              <a:rPr b="1" lang="ru-RU" sz="4800" spc="-1" strike="noStrike">
                <a:solidFill>
                  <a:srgbClr val="001414"/>
                </a:solidFill>
                <a:latin typeface="Arial"/>
              </a:rPr>
              <a:t>Привычки и здоровье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6" descr="http://prezentazia.ucoz.ru/000/489735-8-346.png"/>
          <p:cNvPicPr/>
          <p:nvPr/>
        </p:nvPicPr>
        <p:blipFill>
          <a:blip r:embed="rId1"/>
          <a:stretch/>
        </p:blipFill>
        <p:spPr>
          <a:xfrm>
            <a:off x="571680" y="1285920"/>
            <a:ext cx="7858080" cy="5324400"/>
          </a:xfrm>
          <a:prstGeom prst="rect">
            <a:avLst/>
          </a:prstGeom>
          <a:ln w="38160">
            <a:solidFill>
              <a:srgbClr val="2c2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6760" y="500040"/>
            <a:ext cx="862812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1616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Действуя на человека, алкоголь   изменяет его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сознание, внешний вид 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и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оведение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, которое перестает   соответствовать реальности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357120" y="3500280"/>
            <a:ext cx="7858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616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Алкоголь угрожает здоровью и жизни как самого человека, так и окружающих его людей, поэтому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ьяный человека 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это опасно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13840" y="285480"/>
            <a:ext cx="4429080" cy="581004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лезн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ля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еловек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людать режим дн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людать гигиен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вильно и регулярно питатьс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ниматься спорт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время и самостоятельно делать урок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ывать на свежем воздух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лать утреннюю зарядк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ледить за чистотой своей одежды и своего жилищ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лушаться родителей и близких люде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калятьс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ещать кружк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итать книг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меть вести себя в коллектив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2920" y="285480"/>
            <a:ext cx="4357800" cy="58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редно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ля человек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гуливать занятия в школ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убить и не уважать старших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ного сидеть у телевизора или за компьютер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улять в неположенных местах, где есть опасность для жизн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бовать незнакомые веществ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ть чересчур много  сладкого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ызть ног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урит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рать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5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5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5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5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70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750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80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850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90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95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350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7120" y="692280"/>
            <a:ext cx="8485200" cy="1807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Форма ответа задания :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428760" y="2643120"/>
            <a:ext cx="714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00"/>
                </a:solidFill>
                <a:latin typeface="Arial Black"/>
              </a:rPr>
              <a:t>«Если    … ,       то  …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1414"/>
                </a:solidFill>
                <a:latin typeface="Arial"/>
              </a:rPr>
              <a:t>Полезные и вредные привычк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5480" y="857160"/>
            <a:ext cx="442908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ивычк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альчик чистит зубы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альчик не хочет мыться и умыватьс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руппа ребят делает зарядку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евочка и ее отец убираются в квартире и чистят свою одежду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ченик грызет ногти на уроке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ченик опаздывает на урок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руппа ребят курят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вое взрослых выпиваю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429080" y="857160"/>
            <a:ext cx="45007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следств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доровая красивая улыбк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 грязным подростком никто не хочет общатьс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 спортивных состязаниях ребята легко и свободно преодолевают дистанцию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членам семьи приятно находиться в чисто убранной комнате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рач лечит мальчику воспаленные пальцы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ама ругает сына, увидев двойку в дневнике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 соревнования ребята, задыхаясь, с трудом прибежали к финишу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лкоголик дремлет на лавке, представляя, что он – Наполеон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500"/>
                            </p:stCondLst>
                            <p:childTnLst>
                              <p:par>
                                <p:cTn id="2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500"/>
                            </p:stCondLst>
                            <p:childTnLst>
                              <p:par>
                                <p:cTn id="2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500"/>
                            </p:stCondLst>
                            <p:childTnLst>
                              <p:par>
                                <p:cTn id="2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6500"/>
                            </p:stCondLst>
                            <p:childTnLst>
                              <p:par>
                                <p:cTn id="2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7000"/>
                            </p:stCondLst>
                            <p:childTnLst>
                              <p:par>
                                <p:cTn id="2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7500"/>
                            </p:stCondLst>
                            <p:childTnLst>
                              <p:par>
                                <p:cTn id="2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8000"/>
                            </p:stCondLst>
                            <p:childTnLst>
                              <p:par>
                                <p:cTn id="2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850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9000"/>
                            </p:stCondLst>
                            <p:childTnLst>
                              <p:par>
                                <p:cTn id="2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активные действ"/>
          <p:cNvPicPr/>
          <p:nvPr/>
        </p:nvPicPr>
        <p:blipFill>
          <a:blip r:embed="rId1"/>
          <a:stretch/>
        </p:blipFill>
        <p:spPr>
          <a:xfrm>
            <a:off x="357120" y="1428840"/>
            <a:ext cx="8215560" cy="5311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8" name="TextBox 2"/>
          <p:cNvSpPr/>
          <p:nvPr/>
        </p:nvSpPr>
        <p:spPr>
          <a:xfrm>
            <a:off x="571680" y="57168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c2c00"/>
                </a:solidFill>
                <a:latin typeface="Arial"/>
              </a:rPr>
              <a:t>Наши виды отдых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1414"/>
                </a:solidFill>
                <a:latin typeface="Arial"/>
              </a:rPr>
              <a:t>Характерные признаки внешнего вида человека, употребляющего алкогольные</a:t>
            </a:r>
            <a:br>
              <a:rPr sz="2800"/>
            </a:br>
            <a:r>
              <a:rPr b="1" lang="ru-RU" sz="2800" spc="-1" strike="noStrike">
                <a:solidFill>
                  <a:srgbClr val="001414"/>
                </a:solidFill>
                <a:latin typeface="Arial"/>
              </a:rPr>
              <a:t>                             напитки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42960" y="1714680"/>
            <a:ext cx="4122720" cy="43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краснение лица (и шеи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краснение и повышенная влажность слизистой оболочки глаз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туманенный тяжелый взгляд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ечность лиц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опрятность и неряшливость в одежд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7" descr="алкоголик"/>
          <p:cNvPicPr/>
          <p:nvPr/>
        </p:nvPicPr>
        <p:blipFill>
          <a:blip r:embed="rId1"/>
          <a:stretch/>
        </p:blipFill>
        <p:spPr>
          <a:xfrm>
            <a:off x="5214960" y="1857240"/>
            <a:ext cx="3110040" cy="4357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161616"/>
                </a:solidFill>
                <a:latin typeface="Arial"/>
              </a:rPr>
              <a:t>Какие признаки могут свидетельствовать, что  </a:t>
            </a:r>
            <a:br>
              <a:rPr sz="2400"/>
            </a:br>
            <a:r>
              <a:rPr b="1" lang="ru-RU" sz="2400" spc="-1" strike="noStrike">
                <a:solidFill>
                  <a:srgbClr val="161616"/>
                </a:solidFill>
                <a:latin typeface="Arial"/>
              </a:rPr>
              <a:t>     изображенные на рисунках люди находятся в </a:t>
            </a:r>
            <a:br>
              <a:rPr sz="2400"/>
            </a:br>
            <a:r>
              <a:rPr b="1" lang="ru-RU" sz="2400" spc="-1" strike="noStrike">
                <a:solidFill>
                  <a:srgbClr val="161616"/>
                </a:solidFill>
                <a:latin typeface="Arial"/>
              </a:rPr>
              <a:t>            состоянии алкогольного опьянения?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3" name="Picture 12" descr="ghnfh"/>
          <p:cNvPicPr/>
          <p:nvPr/>
        </p:nvPicPr>
        <p:blipFill>
          <a:blip r:embed="rId1"/>
          <a:stretch/>
        </p:blipFill>
        <p:spPr>
          <a:xfrm>
            <a:off x="142920" y="1557360"/>
            <a:ext cx="4214880" cy="5111640"/>
          </a:xfrm>
          <a:prstGeom prst="rect">
            <a:avLst/>
          </a:prstGeom>
          <a:ln w="38160">
            <a:solidFill>
              <a:srgbClr val="2c2c00"/>
            </a:solidFill>
            <a:miter/>
          </a:ln>
        </p:spPr>
      </p:pic>
      <p:pic>
        <p:nvPicPr>
          <p:cNvPr id="114" name="Picture 14" descr="ghnfh 002"/>
          <p:cNvPicPr/>
          <p:nvPr/>
        </p:nvPicPr>
        <p:blipFill>
          <a:blip r:embed="rId2"/>
          <a:stretch/>
        </p:blipFill>
        <p:spPr>
          <a:xfrm>
            <a:off x="4572000" y="1571760"/>
            <a:ext cx="4390920" cy="5111640"/>
          </a:xfrm>
          <a:prstGeom prst="rect">
            <a:avLst/>
          </a:prstGeom>
          <a:ln w="38160">
            <a:solidFill>
              <a:srgbClr val="2c2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1414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1414"/>
                </a:solidFill>
                <a:latin typeface="Arial"/>
              </a:rPr>
              <a:t>Особенности поведения человека,  </a:t>
            </a:r>
            <a:br>
              <a:rPr sz="3200"/>
            </a:br>
            <a:r>
              <a:rPr b="1" lang="ru-RU" sz="3200" spc="-1" strike="noStrike">
                <a:solidFill>
                  <a:srgbClr val="001414"/>
                </a:solidFill>
                <a:latin typeface="Arial"/>
              </a:rPr>
              <a:t>     употребляющего спиртные напитки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628280"/>
            <a:ext cx="80074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асто проявляет агрессивное или развязное поведение по отношению к окружающи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строение или неоправданно повышенное или необоснованно угрюмо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чь становится более громкой и часто невнятной, при этом человек проявляет повышенную «болтливость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сутствие правильной координации движен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уетливость (или наоборот, заторможенность) движений (вплоть до полного «омертвления» и очень глубокого сна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500"/>
                            </p:stCondLst>
                            <p:childTnLst>
                              <p:par>
                                <p:cTn id="3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fjjjj"/>
          <p:cNvPicPr/>
          <p:nvPr/>
        </p:nvPicPr>
        <p:blipFill>
          <a:blip r:embed="rId1"/>
          <a:stretch/>
        </p:blipFill>
        <p:spPr>
          <a:xfrm>
            <a:off x="642960" y="571680"/>
            <a:ext cx="4103640" cy="6048360"/>
          </a:xfrm>
          <a:prstGeom prst="rect">
            <a:avLst/>
          </a:prstGeom>
          <a:ln cap="sq" w="38160">
            <a:solidFill>
              <a:srgbClr val="2c2c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216400" y="764640"/>
            <a:ext cx="3927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ая возникает опасность в данном случа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то подвергается этой опасност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е поведение при встрече с таким человеком будет наиболее правильным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6T16:01:22Z</dcterms:created>
  <dc:creator>XTreme</dc:creator>
  <dc:description/>
  <dc:language>en-US</dc:language>
  <cp:lastModifiedBy>Курсы</cp:lastModifiedBy>
  <dcterms:modified xsi:type="dcterms:W3CDTF">2012-03-29T10:18:32Z</dcterms:modified>
  <cp:revision>38</cp:revision>
  <dc:subject/>
  <dc:title>Привычки и здоровье</dc:title>
</cp:coreProperties>
</file>