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26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ABA-2E68-482C-A0D1-ED4BB854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838-6812-41D6-A8EB-DC7362A0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AEC7E-1AEA-4CC7-BDE2-58500DEC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68A6-F15C-4CD0-A69E-285A1A9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F9590-FDC4-4F58-BFA8-8A9E867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AD234-92EA-40A4-8A55-A9A393F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5B988-3494-45C7-A674-F4554CF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98134-1968-4310-BB92-86E535D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1CC87-32D5-4D47-90C1-A5B1E1AC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2B00F-E50D-4469-AC93-DCB45B5B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6FE51-FB40-4A95-A4FA-4D5A64DB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A70B-9DE3-4F7B-92FA-473E5255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E45-2C7D-4746-956C-7777E5C2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8000-6BCF-4438-B880-D0D937F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7A4AA-3C64-414A-A43D-575C5840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C8415-D666-4015-B212-75B75892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773AD-42C9-4607-8D8D-17CE4012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71D3D-9703-47B3-BFA9-347D6CE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530B-6903-40D4-A40E-83B09818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94E5B-C4C5-4DBA-B657-0629D8D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7EA21-BEB3-4746-A9AC-76250C1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23F6F-31D2-4FC6-A955-82CA882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FD21F-BF22-442A-95D5-EC6E76E7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A7B-32E1-467D-A4FD-E03590FC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F6B07-C90E-49B2-9DC5-8DD15491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48C88-FDD5-4429-AF7E-EDC0F1F6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B9FF9-9C8A-4ACC-8D34-9329FEB7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DD41D-01F0-4C46-9E2C-FD4250B1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4407D-3408-4D6E-94F6-0D37991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091AC-5ECB-4A78-A66C-0008487B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BEAD2-58D8-482F-8558-12E3634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0CEBC-5611-43C1-963C-0D82669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0F4F6-5173-4C15-BF31-3284EF7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6446D-5CC9-446B-BB76-B448372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3BDE-5A79-4045-AE88-A3F97A9A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B468E-A441-4364-8B01-552CE3C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2678F-2111-41F6-ADF9-C344CEB8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0C096-0BC3-4A41-8A7F-185D0165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24477-AD8C-49C4-A7FD-3DAFC4E8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31CCC-7D6A-46D1-9B8E-48EBA543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B6395-1CD2-4FA5-A519-81684A04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FC967-0D60-4574-9EFC-CAD3F89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C917B-FCEB-4449-B312-9878BF1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85626-996C-4B55-B831-5BCBD51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C307D-0F4C-4576-B42E-1C82671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4199-4F1D-4EB2-8F2B-1717CEC2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49D31-7375-4C34-9F4F-376C67D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2682F-342D-4AD3-9804-A6A0DDF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B4025-6D74-4700-84BD-7888D998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3345F-AE7D-46CF-BEC7-19235E75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457D3-7205-4ADD-B465-D3AAA74E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3909C-E0A1-46BD-83E5-5D72F81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9F151-3DD1-4AE3-B044-CA23FE66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B90FE-DC86-4673-8893-9C34054D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3C9DF-8E89-4BD5-A0CD-BF22B3E0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86197-8AFD-405F-8619-1299F1F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EDDC-EAE4-4333-946B-2D545F58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C1DF7-4ED4-4FC9-82AE-DFB619F0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26C1C-BA3B-4D72-ACC4-5871A52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0BDD8-7D1C-4E18-9436-F39D0C7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D7989-E7BC-4915-A2AB-B835E51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73422-336E-41BC-A6E4-B5619368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774FD-A46F-4D88-A830-4334D70C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F1F02-7B28-4A2F-86E1-F2FC94A8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60FC8-3018-46D3-BCA5-784CF9C3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116B9-35FD-4EDE-896C-7BFE0DA1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80FAE-0907-4287-BE28-34B5E48E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D01A-A055-40E0-BBB1-F9D4C9DA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8B49C-FA96-48A2-B0CD-80A23E2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F3E41-B375-40B3-B249-05714E38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1FB98-F124-4DDC-A7B7-BEB82C48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C8987-EC08-4C3C-8E8F-429DA5F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5C4E6-8B31-4A1D-B4BF-00F7E6C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AA2C7-4152-4E30-ADFD-FFCB2DA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58727-B0D5-4F25-86B7-98EB768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20420-5033-412E-9341-69441C11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11B22-C831-4CDB-A123-A180C46C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0B45-AF57-4E6E-94EB-CE55B874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1077-FE0E-4C14-AF71-E3F3944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2161-10DE-4DD8-BEAA-CDA33BC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6DA-9B6A-4184-A4AB-F25788C0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82AA-8F40-46DB-9694-1F29A34F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FA1E-7C65-4766-B940-196CC26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7F1E-2DE8-4CE5-8FD9-DAC7B548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8551-5770-4382-9CF6-B57684C9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9E05-CD24-471E-904E-4FD6B010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846B-F051-4F8E-BB1A-A19E356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59CC-DE19-4CDD-92FB-5F75FADE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B75C-102F-4E54-84D5-8290618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2689-EDBB-4033-9124-DDECA7EB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436F-4CCF-4A2D-AA83-C10ADEC1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1F0-4534-4912-B316-95ADC43C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AD2A-5E18-49BD-96C4-6B68A8B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0FB9-955F-441E-AD1C-CFDBC08E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68CE-CFC6-46CD-894F-7CF0287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7EFC-A9EF-453A-8192-8312271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5431-BA25-4088-BC2B-C428E97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A46E-824C-4362-BE0B-C022EEF8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44EE-706D-4A1B-9E1B-A5B7AA3D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5F8C-50AB-474E-A497-E7E3770D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7E4D-9FE1-4D65-B5D7-F5DF9D6F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B9BC-7AC4-4D27-8940-CAF114B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AB5-E1E6-44DE-B6D9-F740490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83C4-6090-41C2-8E9A-E2579BF2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323A-867A-4400-8F24-3BDDE82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82C9-D813-48D4-9883-741F5FA5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FDBED-B1D6-4FF9-A718-868BF14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3851-052E-4A86-8EC1-C6BD378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93BF-4BB9-4FB4-AFF6-71CC098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E856-7A7A-473A-B11A-94BFBB0D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E55C-3731-4BE7-80F1-5D41CBDA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44FD-9720-42C0-A5F8-C7356FB2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710A-EDF9-4DDC-A291-EBED9CC5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AE4-819E-4654-91CC-1A8F1CC3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6D99-57FD-4394-B301-188FFCB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F844B-3DDA-47AD-975B-EE75F44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8E63E-626A-4FEA-9157-C728F980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0E57-2A15-43B1-B450-967660A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FAA4-6419-4B89-81C8-9DA319EB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5CA6-D906-4EA1-A09E-0DA4A779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FAD2-F95D-4943-867F-FDC56F09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846C-4F84-434A-AF5F-88A6A86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FAF6-B143-42C0-BB3B-1B57275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9873-536B-4CE9-969D-01E3CC4D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9D6-17D0-4EB0-86DC-BF99F06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CA789-F504-46CA-9432-1FDF8218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B27AE-7A5E-43C5-95D4-ED737654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6F0C-304B-4A56-8CC7-05561E0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28362-0202-487A-9DEC-F92668A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F51A-BD84-45C9-A707-F8224822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FEDA-4D03-4295-AA2B-A6E6A0B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DE17-4B37-4830-8138-4801D473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7B7C-627D-41D3-91B6-ADC56E6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D035-1FEC-4F55-899D-3F94EEB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C5A1-F568-4617-807C-8BF4F3F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FB7-3898-4216-B7C4-ECCC2CB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1872-6D85-44B0-89D3-BF91D76F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225E-49EF-48C4-90AB-863619B1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21889-F174-42EB-BB10-9215B9C0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5231-7F6E-4847-9AE6-83F43E0E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11F1-C758-4F71-903D-01236C45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EF04A-00E2-4495-987B-458FBA37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5048-CCB1-4E37-8577-FE4135E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C48F1-C504-44BF-AEA3-F2FE055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E5B7B-ABC2-4B99-B81E-F8C14F5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8B5B-BBBF-481F-B03B-CC14D4EC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638-A265-44BA-809E-9EED454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EFCD-2FB8-454F-80FB-986D60CC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21E0C-25DC-4466-B8CA-C1B1C7F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27E5-D8B8-4A1F-85C9-9EEDD824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C9E6-FC0E-4A4D-A0E2-7D674F95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AA1E-DB24-439C-9FAD-9ACE7D07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7E41D-016C-4FB5-A7BE-7008A6A0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7B424-F8D5-47E4-A013-654FD2AA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9DA19-21E7-4F83-B30A-BDDBBEB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78533-46A5-4D16-963B-DAC00409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177A-9BDA-459D-80F3-7FBF6E0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C79-181F-4964-AC5F-BBDE15B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DA90-73AB-4BBB-9582-4D31AA5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9A6F-5CBC-407D-B9B4-37DA8ED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A365A-3123-4817-83BF-13EF0E1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5FF8-B02A-4CDF-B714-AD9F5DBA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DBCD5-29B2-492F-943F-2595181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6FA3-BD23-4382-964D-D6865375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7D0ED-14E6-471F-B1B2-1668117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8F24-C41E-4E40-854F-8F4DA688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B66C-D41B-4B1B-B26B-435F18A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2776-2C0E-443A-9B80-B0804B6C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CC6-C361-411C-B111-F2BFA920F9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FDF3-37BD-4291-9C42-ACCD98B2A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510C-C53C-4E55-9621-D967AACD97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08E-2E47-481B-AA15-F561B70CD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5EE-2D00-4E3D-BADD-EA4972985B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185D-9683-40FB-BDDE-FA36713EC6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D472-016B-41D2-8B35-06167D8B58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1CB8-0B18-4FB6-A2C6-4CD7ADBF8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B61-0C63-4F53-A1A3-562E943A5C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AA3-98C8-46DC-9B1C-CCC1021D2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5E7B-95B2-42D5-B477-E5C13C0FB6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5855-04D8-4A7B-9915-9721012EE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948B-FB3A-44B2-9086-4FA7591EF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B9F4-3204-4BE5-9403-8225F7992D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4" descr="рисуно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WordArt 6"/>
          <p:cNvSpPr txBox="1"/>
          <p:nvPr/>
        </p:nvSpPr>
        <p:spPr>
          <a:xfrm>
            <a:off x="900000" y="404640"/>
            <a:ext cx="720108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з и дефекты зр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611280" y="4581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полнил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ченики  11 класса МБОУ СОШ №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азурин А, Шилко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539640" y="177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аиболее распространённых дефекта зрения – это близорукость и дальнозоркость. Их можно обнаружить при определении остроты зрения в кабинете офтальмолога по особым таблица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Риме таких таблиц не было, и остроту зрения проверяли по созвездию Большой Медведицы. При достаточно высокой остроте зрения можно увидеть рядом со звездой Мицар (вторая слева в ручке ковша) слабенькую вторую звёздочку Алькор. По этой звезде древние римляне проверяли остроту зрения у воин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7" name="Picture 5" descr="-"/>
          <p:cNvPicPr/>
          <p:nvPr/>
        </p:nvPicPr>
        <p:blipFill>
          <a:blip r:embed="rId1"/>
          <a:stretch/>
        </p:blipFill>
        <p:spPr>
          <a:xfrm>
            <a:off x="5143680" y="4929120"/>
            <a:ext cx="3095280" cy="1928880"/>
          </a:xfrm>
          <a:prstGeom prst="rect">
            <a:avLst/>
          </a:prstGeom>
          <a:ln w="0">
            <a:noFill/>
          </a:ln>
        </p:spPr>
      </p:pic>
      <p:sp>
        <p:nvSpPr>
          <p:cNvPr id="628" name="WordArt 9"/>
          <p:cNvSpPr txBox="1"/>
          <p:nvPr/>
        </p:nvSpPr>
        <p:spPr>
          <a:xfrm>
            <a:off x="1116000" y="620640"/>
            <a:ext cx="468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екты з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0920" y="1916280"/>
            <a:ext cx="806436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ие люди плохо видят отдаленные предметы, а дальнозоркие - то, что находится поблизости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0" name="Picture 3" descr="з"/>
          <p:cNvPicPr/>
          <p:nvPr/>
        </p:nvPicPr>
        <p:blipFill>
          <a:blip r:embed="rId1"/>
          <a:stretch/>
        </p:blipFill>
        <p:spPr>
          <a:xfrm>
            <a:off x="3059280" y="3933720"/>
            <a:ext cx="360036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57736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лизорукости изображение предмета фокусируется перед сетчатк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- слишком большая выпуклость хрустали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ется при помощи рассеивающей лин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WordArt 5"/>
          <p:cNvSpPr txBox="1"/>
          <p:nvPr/>
        </p:nvSpPr>
        <p:spPr>
          <a:xfrm>
            <a:off x="755640" y="692280"/>
            <a:ext cx="56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изорук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3" name="Picture 7" descr="Картинка 16 из 1242"/>
          <p:cNvPicPr/>
          <p:nvPr/>
        </p:nvPicPr>
        <p:blipFill>
          <a:blip r:embed="rId1"/>
          <a:stretch/>
        </p:blipFill>
        <p:spPr>
          <a:xfrm>
            <a:off x="1571760" y="4572000"/>
            <a:ext cx="561960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альнозоркости изображение предмета фокусируется за сетчатко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- слишком маленькая выпуклость хрустал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ется при помощи собирающей лин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WordArt 5"/>
          <p:cNvSpPr txBox="1"/>
          <p:nvPr/>
        </p:nvSpPr>
        <p:spPr>
          <a:xfrm>
            <a:off x="900000" y="620640"/>
            <a:ext cx="58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льнозорк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6" name="Picture 8" descr="Картинка 16 из 1242"/>
          <p:cNvPicPr/>
          <p:nvPr/>
        </p:nvPicPr>
        <p:blipFill>
          <a:blip r:embed="rId1"/>
          <a:stretch/>
        </p:blipFill>
        <p:spPr>
          <a:xfrm>
            <a:off x="1000080" y="4286160"/>
            <a:ext cx="707220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99"/>
                </a:solidFill>
                <a:latin typeface="Verdana"/>
              </a:rPr>
              <a:t>Астигматиз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54064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«астигматизме»после преломления в оптической системе глаза световые лучи не сходятся в одну точку, а проецируются на сетчатку в виде нескольких точек, отрезков разной длины, кругов или овалов. Человек видит предметы нерезкими или искаженными, вне зависимости от того, где они расположен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астигматизма – неправильная форма линз оптической системы глаза.</a:t>
            </a:r>
            <a:r>
              <a:rPr b="0" lang="ru-RU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4" descr="astigmatizm"/>
          <p:cNvPicPr/>
          <p:nvPr/>
        </p:nvPicPr>
        <p:blipFill>
          <a:blip r:embed="rId1"/>
          <a:stretch/>
        </p:blipFill>
        <p:spPr>
          <a:xfrm>
            <a:off x="2195640" y="4437000"/>
            <a:ext cx="46209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6816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ма опроса: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ыявить процент учащихся, имеющих  дефекты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250920" y="1773360"/>
          <a:ext cx="8540640" cy="436536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класс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класс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 учени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меющие дефект зр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учащихся (3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8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рук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1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4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льнозорк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4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худшение зр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8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5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полученным данным построили диаграмм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3" name="Object 12"/>
          <p:cNvGraphicFramePr/>
          <p:nvPr/>
        </p:nvGraphicFramePr>
        <p:xfrm>
          <a:off x="611280" y="1844640"/>
          <a:ext cx="806436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806436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Object 4"/>
          <p:cNvGraphicFramePr/>
          <p:nvPr/>
        </p:nvGraphicFramePr>
        <p:xfrm>
          <a:off x="395280" y="476280"/>
          <a:ext cx="81471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81471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Object 4"/>
          <p:cNvGraphicFramePr/>
          <p:nvPr/>
        </p:nvGraphicFramePr>
        <p:xfrm>
          <a:off x="468360" y="333360"/>
          <a:ext cx="849636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84963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ая работа за компьютер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освещени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ы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леж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санка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324000" y="260280"/>
            <a:ext cx="78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ричины ухудшения з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нению уче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571680" y="4000680"/>
            <a:ext cx="7917840" cy="2565000"/>
            <a:chOff x="571680" y="4000680"/>
            <a:chExt cx="7917840" cy="2565000"/>
          </a:xfrm>
        </p:grpSpPr>
        <p:pic>
          <p:nvPicPr>
            <p:cNvPr id="605" name="Picture 3" descr=""/>
            <p:cNvPicPr/>
            <p:nvPr/>
          </p:nvPicPr>
          <p:blipFill>
            <a:blip r:embed="rId1"/>
            <a:stretch/>
          </p:blipFill>
          <p:spPr>
            <a:xfrm>
              <a:off x="571680" y="4000680"/>
              <a:ext cx="27144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4" descr=""/>
            <p:cNvPicPr/>
            <p:nvPr/>
          </p:nvPicPr>
          <p:blipFill>
            <a:blip r:embed="rId2"/>
            <a:stretch/>
          </p:blipFill>
          <p:spPr>
            <a:xfrm>
              <a:off x="2990160" y="4801320"/>
              <a:ext cx="278676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" descr=""/>
            <p:cNvPicPr/>
            <p:nvPr/>
          </p:nvPicPr>
          <p:blipFill>
            <a:blip r:embed="rId3"/>
            <a:stretch/>
          </p:blipFill>
          <p:spPr>
            <a:xfrm>
              <a:off x="5630040" y="5524560"/>
              <a:ext cx="2859480" cy="104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213920" y="1785960"/>
            <a:ext cx="741708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троения гл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дефекты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качество зрения школь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способы улучшения качеств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WordArt 8"/>
          <p:cNvSpPr txBox="1"/>
          <p:nvPr/>
        </p:nvSpPr>
        <p:spPr>
          <a:xfrm>
            <a:off x="1042920" y="620640"/>
            <a:ext cx="53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раб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560" y="5444640"/>
            <a:ext cx="845964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смотря на то, что глаза способны сами себя защищать, о них нужно все равно заботи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3" descr="MPj04230340000[1]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99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рение дает людям 90%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формации, воспринимаемой из внешнего мира.  Хорошее зрение необходимо человеку для учебы, отдыха, в повседневной жизни. И каждый должен понимать, как важно оберегать и сохранять зрени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6589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MPj04117010000[1]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24980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560" y="5876640"/>
            <a:ext cx="88930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тобы глазки всегда хорошо видели и не болели, нужно есть продукты, содержащие полезные витамины для зрения – морковка, черника, лук, петрушка, помидоры, красный перец,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шиповни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179280" y="1700280"/>
            <a:ext cx="432144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трите глаза грязными ру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мывайтесь ежедневно с мыло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смотрите близко телевизор (не менее 3м) и долго (более час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играйте в компьютерные игры более 15-20 мину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читайте в транспорт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читайте, не рисуйте  лежа в постел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итайте и рисуйте за столом, в хорошо освещенной комнате, свет должен падать сле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берегайте глаза от попадания в них едких и опасных жидкост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ерегите глаза от колющих и режущих предме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Ешьте продукты с витамин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уляйте часто на свежем воздух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8" name="Picture 4" descr="MPj04312160000[1]"/>
          <p:cNvPicPr/>
          <p:nvPr/>
        </p:nvPicPr>
        <p:blipFill>
          <a:blip r:embed="rId1"/>
          <a:stretch/>
        </p:blipFill>
        <p:spPr>
          <a:xfrm>
            <a:off x="4689360" y="1773360"/>
            <a:ext cx="4203720" cy="4751280"/>
          </a:xfrm>
          <a:prstGeom prst="rect">
            <a:avLst/>
          </a:prstGeom>
          <a:ln w="0">
            <a:noFill/>
          </a:ln>
        </p:spPr>
      </p:pic>
      <p:sp>
        <p:nvSpPr>
          <p:cNvPr id="659" name="WordArt 6"/>
          <p:cNvSpPr txBox="1"/>
          <p:nvPr/>
        </p:nvSpPr>
        <p:spPr>
          <a:xfrm>
            <a:off x="611280" y="549360"/>
            <a:ext cx="75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о охране з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пражнения, которые способствуют снятию напряжения мышц глаза, улучшают кровообращение: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5041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лотно закрыть глаза, а затем широко открыть их (5-6 раз с интервалом 30 се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смотреть вверх, вниз, влево, вправо, не поворачивая головы (3-4 раз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ращать глазами по кругу по 2-3 сек (3-4 раз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ыстро-быстро моргать (1 ми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мотреть вдаль, сидя перед окном (3-4 раза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MPj04228270000[1]"/>
          <p:cNvPicPr/>
          <p:nvPr/>
        </p:nvPicPr>
        <p:blipFill>
          <a:blip r:embed="rId1"/>
          <a:stretch/>
        </p:blipFill>
        <p:spPr>
          <a:xfrm>
            <a:off x="4572000" y="3795840"/>
            <a:ext cx="4537080" cy="30178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MPj01788270000[1]"/>
          <p:cNvPicPr/>
          <p:nvPr/>
        </p:nvPicPr>
        <p:blipFill>
          <a:blip r:embed="rId2"/>
          <a:stretch/>
        </p:blipFill>
        <p:spPr>
          <a:xfrm>
            <a:off x="0" y="0"/>
            <a:ext cx="5329080" cy="35244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95280" y="3312720"/>
            <a:ext cx="82296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ерегите свои глаза!</a:t>
            </a:r>
            <a:br>
              <a:rPr sz="3400"/>
            </a:b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ботьтесь о зрении</a:t>
            </a:r>
            <a:r>
              <a:rPr b="0" lang="ru-RU" sz="3400" spc="-1" strike="noStrike">
                <a:solidFill>
                  <a:srgbClr val="993300"/>
                </a:solidFill>
                <a:latin typeface="Comic Sans MS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53928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роверять зр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овать время работы за компьютер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жидкокристаллический монитор с защитным покрыт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освещение классных комна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и здоровый образ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гимнастику для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WordArt 4"/>
          <p:cNvSpPr txBox="1"/>
          <p:nvPr/>
        </p:nvSpPr>
        <p:spPr>
          <a:xfrm>
            <a:off x="1547640" y="620640"/>
            <a:ext cx="396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зучения различной литературы, узнать, как устроен глаз челове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е дефекты зрения встречаются у людей и каковы способы их профилактик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оцент учащихся в 5 и 8 классах, имеющих различные заболевания гла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основные причины ухудшения зр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нформации о способах сохранения и улучшения зр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WordArt 4"/>
          <p:cNvSpPr txBox="1"/>
          <p:nvPr/>
        </p:nvSpPr>
        <p:spPr>
          <a:xfrm>
            <a:off x="684360" y="620640"/>
            <a:ext cx="648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99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- один из ценнейших органов чувств человека. Благодаря глазам мы получаем почти всю информацию об окружающем мир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3" descr="MPj04096540000[1]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99164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330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глаз человек видит предметы, их цвета, размеры, форму, перемещение предметов. Глаза помогают человеку передвигаться в нужном направлении, ориентироваться в пространстве и во времен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3" descr="MPj04230230000[1]"/>
          <p:cNvPicPr/>
          <p:nvPr/>
        </p:nvPicPr>
        <p:blipFill>
          <a:blip r:embed="rId1"/>
          <a:stretch/>
        </p:blipFill>
        <p:spPr>
          <a:xfrm>
            <a:off x="2556000" y="2637000"/>
            <a:ext cx="40320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611280" y="3213000"/>
          <a:ext cx="6318000" cy="2687760"/>
        </p:xfrm>
        <a:graphic>
          <a:graphicData uri="http://schemas.openxmlformats.org/drawingml/2006/table">
            <a:tbl>
              <a:tblPr/>
              <a:tblGrid>
                <a:gridCol w="3168720"/>
                <a:gridCol w="3149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лиц с недостатками з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ё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средней школы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лет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лет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Rectangle 84"/>
          <p:cNvSpPr/>
          <p:nvPr/>
        </p:nvSpPr>
        <p:spPr>
          <a:xfrm>
            <a:off x="395280" y="260280"/>
            <a:ext cx="82090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казывают, что более 95% младенцев рождается с нормальным зрением и без дефектов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чень малый процент их достигает пожилого возраста с нормальным зр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8" name="Picture 85" descr="glaz"/>
          <p:cNvPicPr/>
          <p:nvPr/>
        </p:nvPicPr>
        <p:blipFill>
          <a:blip r:embed="rId1"/>
          <a:stretch/>
        </p:blipFill>
        <p:spPr>
          <a:xfrm>
            <a:off x="7236000" y="4653000"/>
            <a:ext cx="167616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3920" y="6327360"/>
            <a:ext cx="707724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за у человека бывают разные по цвету – карие, голубые, зеленые, но строение глаз у всех одинаковое</a:t>
            </a:r>
            <a:r>
              <a:rPr b="0" lang="ru-RU" sz="1700" spc="-1" strike="noStrike">
                <a:solidFill>
                  <a:srgbClr val="9933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0" name="Picture 3" descr="MPj04022480000[1]"/>
          <p:cNvPicPr/>
          <p:nvPr/>
        </p:nvPicPr>
        <p:blipFill>
          <a:blip r:embed="rId1"/>
          <a:stretch/>
        </p:blipFill>
        <p:spPr>
          <a:xfrm>
            <a:off x="4859280" y="189000"/>
            <a:ext cx="3924360" cy="53276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MPj04254990000[1]"/>
          <p:cNvPicPr/>
          <p:nvPr/>
        </p:nvPicPr>
        <p:blipFill>
          <a:blip r:embed="rId2"/>
          <a:stretch/>
        </p:blipFill>
        <p:spPr>
          <a:xfrm>
            <a:off x="250920" y="189000"/>
            <a:ext cx="44355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78eee"/>
                </a:solidFill>
                <a:latin typeface="Verdana"/>
              </a:rPr>
              <a:t>Строение гла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3" name="Picture 3" descr="1236155023643b"/>
          <p:cNvPicPr/>
          <p:nvPr/>
        </p:nvPicPr>
        <p:blipFill>
          <a:blip r:embed="rId1"/>
          <a:stretch/>
        </p:blipFill>
        <p:spPr>
          <a:xfrm>
            <a:off x="1193760" y="1897200"/>
            <a:ext cx="6904080" cy="39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468360" y="0"/>
            <a:ext cx="835344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  информации Федерального агентства по здравоохранению и социальному развитию, каждый второй россиянин страдает заболеванием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 стране регистрируется полмиллиона инвалидов по зрению. Показатели заболеваний органов зрения в России растут и в большинстве регионов превышают среднеевропейские в 1,5-2 раз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2000 году только зарегистрированных глазных заболеваний в стране было около 9,3 млн., в 2009 их насчитывалось уже более 13 млн. При этом рост заболеваемости продолжается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13" descr="i"/>
          <p:cNvPicPr/>
          <p:nvPr/>
        </p:nvPicPr>
        <p:blipFill>
          <a:blip r:embed="rId1"/>
          <a:stretch/>
        </p:blipFill>
        <p:spPr>
          <a:xfrm>
            <a:off x="5072040" y="4429080"/>
            <a:ext cx="3313080" cy="21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2:53:52Z</dcterms:created>
  <dc:creator>User</dc:creator>
  <dc:description/>
  <dc:language>en-US</dc:language>
  <cp:lastModifiedBy>СОШ №20</cp:lastModifiedBy>
  <dcterms:modified xsi:type="dcterms:W3CDTF">2017-09-21T12:53:25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