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7.wmf" ContentType="image/x-wmf"/>
  <Override PartName="/ppt/media/image15.jpeg" ContentType="image/jpeg"/>
  <Override PartName="/ppt/media/image19.wmf" ContentType="image/x-wmf"/>
  <Override PartName="/ppt/media/image14.jpeg" ContentType="image/jpeg"/>
  <Override PartName="/ppt/media/image26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CA23-B305-4D31-BB8F-442F9F59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8E1-85BF-4AA1-B7A7-3F54232C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7CA03-EDFB-42EC-A72E-1E414ED5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C6152-6409-4FEB-84E0-35AB114B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4ECDE-4297-4FCC-B35D-7360D3AC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97D84-F2C6-4C31-895C-A55FEBD1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D1BF6-9371-41F8-9FA3-F3C863BC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EAD3B-9826-4528-9596-99A3D5ED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81B05-1308-4309-B6A7-78A64E5A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97602-196A-4156-ABFC-9F4A2733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97DE1-D0C7-48A7-822C-A39C5A2E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18A49-0E78-4470-BC3F-32996228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812-1C5A-4DFD-A373-93E9240D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7CFD3-CE02-4DD4-89E1-2A0D3950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BA682-43E6-4B41-99A7-094E2C87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C2FF0-FC72-483C-B4A5-7C077DDF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FB050-12CA-48DC-A798-F66AEF3E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45A90-7621-42B1-8BEB-373D0903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CF1DB-C382-4EC0-BAAE-5C92E696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BD910-F991-4A26-A78D-BBE85528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116DF-4991-408D-B172-1E5EBDA0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FCDE0-972F-4CBA-92B2-BBD09651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801E6-974B-43EB-B147-84C94634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9E9-A9D2-4826-A387-562749B0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E73DF-FF7B-410C-8CEB-81C79747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CDF40-DD29-402A-AD6C-64D9B501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50B1F-7AFA-40FF-8AE3-315622DA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95C99-9E34-4D74-8431-F0C8BF00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79E38-F11C-4DF3-9F38-64920D5B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5C5EF-371D-4884-AF87-16D5CDE6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E79C7-E533-454A-B1B0-63684B55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A133A-6B76-4B79-8AFF-59DA92E0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E92F9-5101-45E5-860D-F6A8BBA1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F7DDF-31B4-4EB8-AD0C-FC7828A1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17AB-6351-484F-B5F6-5C36923B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147CA-B8C5-4D8D-A7F5-7861ABF4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C9CEF-0C3D-4471-8D10-E21D884C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8F2B8-289A-4D05-B588-C23F22BC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AF781-21BB-43DE-800B-5E3D6092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E396D-896B-461B-8B05-2739A79E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7587B-431B-471C-8005-757BAD49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1D8F6-5A19-4EDF-B274-3AADD96B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A4FEA-FC17-4205-9EEE-79A76159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F1B6C-FA44-4AC2-A526-B9F48CD8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63A58-995D-455E-93EC-F3A441F0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4B4F-E0AA-4BDB-B2CE-7BB12666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E55DD-E7D9-4BC8-A903-9030DDBD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42194-C852-4962-8E28-7EE55605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50B2A-CCBE-4522-99CC-0070EF44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1E2BD-3932-4B2E-AC61-FB494854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B2D1A-866C-45EE-8A21-CBA31173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9FD49E-BD82-47EE-A481-6D0459C6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6C737-54B8-4EBC-BEF5-CC14031B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74FC0-2BDA-454E-B05E-DE4D69D3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E6136-8654-4F58-A3DB-459F73F0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C7C37-74B3-465F-AB2E-1D67C69B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03F2-2B8B-44B4-AC78-292A9F8A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B79EEA-A8C5-42F9-BC7A-7E0C8696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DF29AE-AEBA-45A4-97D8-EBED88A9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B7EBB-3571-40A8-9BDF-3AFA1918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CF985-882F-4FDD-95FF-F7555C5A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242FF-3528-4B30-9873-C85DCFC6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FFD5AD-E52D-454E-A176-C3EB4578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1189A2-8D43-4422-B2E2-4C8EC144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5E7D1-6475-4BCE-939F-5250B76E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9361C9-EA75-420A-B535-072F71C8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B89172-297E-4D21-982B-FACC6EE2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1EAB-6788-4B1D-8113-82BCF1E3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402D44-69D1-4363-94D4-87478E99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89399A-C6FF-4BB4-83FF-33D7979D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92057A-2F7F-45EE-B109-A2F292CF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4298E-5D62-4D84-BA79-D3AF71D8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D6F353-B077-4101-B785-6E79F142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64458F-D4BD-4A9B-96FF-6DD78B2B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E45E3-24A2-4FE3-BC6A-626D8F90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53CD86-8A11-40D7-8AA0-D6A20F33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031B0-9592-48FC-9F2E-55567DE8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C0B1-98AF-49FF-BA93-D849DC4A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B25B-108C-4676-9755-BD7536D2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B29C-5610-49F2-8A6C-8197D086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3ED-00A6-47E9-AD37-137766A2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AEF5-4AF3-4C29-8108-930CEC69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BB7A-B286-4291-80BE-E65A4A1D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1522-5F12-487C-AE0E-3771B67C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9D51-BE5C-4763-83C8-3CC6CA82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9FC5-1EDC-4489-BE8F-9DBCF198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BC2C6-F024-4CFF-90B7-E81C5912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462A8-DB89-4B1A-A383-A956F792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E30BE-7C8B-4C1C-8F45-E39F0FFB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028C0-ED68-48AC-BC8E-47BE43EF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4F5F1-0AD0-4A0C-809D-8787D13C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E44C-A822-42D7-AB64-6F4A371D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B63AD-8978-43FE-81F7-411A7561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8A75D-1592-4B75-A764-230A3161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9890D-CDA0-471B-89BF-EBF935B4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C1514-033F-4EBC-BCCB-6ECA3F74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FBADB-5179-4307-9820-F8F0D670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3A601-EC30-4B24-958D-0A38C22A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BCBC5-6FF2-4DC3-BD76-9EC154AE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DA3C9-0A7D-4461-8140-DD164AC2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2A8C7-DC84-4224-A939-0AB7F436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386F5-BB2A-4D65-A4E7-420BCCCA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3608-C8FF-4D57-B1B4-F1E42175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A3F9B-7560-4430-84E6-BAE531E3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4435B-6D2B-49CC-BE05-64DB4446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F2589-010C-41E9-8DE8-7E33ABD5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7A49C-159D-4A15-B8E8-FA20B8AB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E588D-3BB3-4528-8458-7DFDD737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B5429-EF71-4CD9-999A-242A9FEE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130D8-6F6A-4680-A768-B1984623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2DF07-0669-4ABE-96ED-A4396A87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DEB55-0156-448A-B5F4-B0832DC2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13CA7-9112-49FF-B30B-58CEF81A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DA2-46D1-4C1A-BBAA-FAF07D99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B7731-9719-49B2-97C4-DB8168AA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E0DFC-6BFE-42B4-9A3C-37DB71AC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FDAEF-6893-4050-B48C-21688E25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5AFA0-ADD3-4093-9944-3DBE16DD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73B59-0F62-4557-8C92-92B15C29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981E2-AAEF-4517-916F-952B4807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ED843-05A7-4607-87F3-B91894BA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7BF25-C266-4739-976A-4D4E2448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540A8-D049-450C-BCB2-33EBA844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B6F27-F9DB-48D1-B4A3-E82B828E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6EC-2A38-4959-BE00-6337A38A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F1A40-ADC4-4285-A6D8-0C1E3346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CEF8B-DCB7-444E-B993-208A9FC7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F3317-A391-49A3-88EA-C3A188BC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5D9FE-B5CA-46B9-B808-FC763D60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A2CB7-BF24-45A3-8CA1-40E826C3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680F4-1053-4731-8059-54C67EEA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97577-FB37-46ED-A2C8-520AADDD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50110-3DAF-4342-A49F-3ADEE5D7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94C5C-7152-46AE-864B-1212CD44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68FB6-7851-4DD9-BE92-299E777D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A23-1973-4481-AF18-5F2B58BD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AFBCE-8288-42FE-89E2-011C4DF0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1F8F6-7A18-4715-9A90-CF6C23B8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884C1-6D50-4429-8661-4B4ED5FC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8FBBB-4966-4AF6-86E9-2E700BB3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0ED4A-96A6-40B7-8419-C1D1A9E8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9ED53-18A5-4D0E-A93C-EBAA6AFF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2ADDD-3538-46CC-96B0-96DC36A0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78AAF-1C76-42D2-8F22-17755FD1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7926E-20A0-49AE-B80D-A70E8EBF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75DCB-63BB-4F34-A944-35A22102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E71-7A84-48F8-A36E-D208BB53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A507C-8EA8-4EFB-A2B1-44267CA9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3F8A0-EC73-4262-9F86-5DD59BF9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144B1-B42D-4BDF-92BD-3B349A54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06986-0ADB-4AD5-B415-A16BDAA0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6988B-3846-4474-8798-F9C17B62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8FCD8-C6B1-4819-8036-27CF76BE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03B9F-E33F-4FDB-8E48-73D3C25C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BCCEB-1F17-4B4A-97E6-43843F97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57D80-2F9A-462F-B291-34B21B71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5C6B8-4BA3-40E1-A0CC-54B7D0F5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B35-4E6D-4DFA-B645-FD379C23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EDB04-D152-42A8-AB9F-19B500AF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524EB-32B1-4BE7-BA09-98A441E6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F930A-A138-40E1-B1EF-6271832E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9815F-00FB-4880-8D8B-5128DFAD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51CA1-6C8D-46E2-95BA-00115810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F3D8A-A409-47F8-BBB1-A45C99FF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1FF58-6507-43BA-89CB-45B085CC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9386B-4F25-4A49-A1E7-A1B5CBE1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602F2-277F-4F0A-B864-482BE678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8302F-37F4-4E54-B64D-398F8E1B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6DA8-1F28-42A6-AB3F-A7D272A070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093C-10EF-4BD5-865F-9E6E56A894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94F9-3040-439B-9097-CF53A51299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E74E-A88D-4297-94C2-6FBA93F760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F824-C605-42C2-9A31-936A5BEA0D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C7B1-C36D-44DB-B4FB-7F82243506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AEB7-D71F-44AC-BC44-D2F6129B40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50AD-FFFF-4050-BF14-2EAA927ADF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4DCE-1E27-4050-B2C4-C38D83AECF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A303-6AFA-4030-A441-1EE84ECD8A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DA32-03FC-4208-B4CF-0881934DA6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CE1C-863C-44D9-BC88-C723E60B7B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CB77-1C89-4187-8905-08672334FD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53B9-BD73-4CD3-AAD8-F71AEF7838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4" descr="рисунок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2" name="WordArt 6"/>
          <p:cNvSpPr txBox="1"/>
          <p:nvPr/>
        </p:nvSpPr>
        <p:spPr>
          <a:xfrm>
            <a:off x="900000" y="404640"/>
            <a:ext cx="7201080" cy="27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Глаз и дефекты зре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611280" y="4581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ыполнили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ученики  11 класса МБОУ СОШ №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Мазурин А, Шилко 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4"/>
          <p:cNvSpPr/>
          <p:nvPr/>
        </p:nvSpPr>
        <p:spPr>
          <a:xfrm>
            <a:off x="539640" y="177336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наиболее распространённых дефекта зрения – это близорукость и дальнозоркость. Их можно обнаружить при определении остроты зрения в кабинете офтальмолога по особым таблица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ем Риме таких таблиц не было, и остроту зрения проверяли по созвездию Большой Медведицы. При достаточно высокой остроте зрения можно увидеть рядом со звездой Мицар (вторая слева в ручке ковша) слабенькую вторую звёздочку Алькор. По этой звезде древние римляне проверяли остроту зрения у воин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7" name="Picture 5" descr="-"/>
          <p:cNvPicPr/>
          <p:nvPr/>
        </p:nvPicPr>
        <p:blipFill>
          <a:blip r:embed="rId1"/>
          <a:stretch/>
        </p:blipFill>
        <p:spPr>
          <a:xfrm>
            <a:off x="5143680" y="4929120"/>
            <a:ext cx="3095280" cy="1928880"/>
          </a:xfrm>
          <a:prstGeom prst="rect">
            <a:avLst/>
          </a:prstGeom>
          <a:ln w="0">
            <a:noFill/>
          </a:ln>
        </p:spPr>
      </p:pic>
      <p:sp>
        <p:nvSpPr>
          <p:cNvPr id="628" name="WordArt 9"/>
          <p:cNvSpPr txBox="1"/>
          <p:nvPr/>
        </p:nvSpPr>
        <p:spPr>
          <a:xfrm>
            <a:off x="1116000" y="620640"/>
            <a:ext cx="468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фекты зр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10920" y="1916280"/>
            <a:ext cx="806436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орукие люди плохо видят отдаленные предметы, а дальнозоркие - то, что находится поблизости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0" name="Picture 3" descr="з"/>
          <p:cNvPicPr/>
          <p:nvPr/>
        </p:nvPicPr>
        <p:blipFill>
          <a:blip r:embed="rId1"/>
          <a:stretch/>
        </p:blipFill>
        <p:spPr>
          <a:xfrm>
            <a:off x="3059280" y="3933720"/>
            <a:ext cx="3600360" cy="21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577360" cy="28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близорукости изображение предмета фокусируется перед сетчатко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 - слишком большая выпуклость хрустали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ется при помощи рассеивающей линз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WordArt 5"/>
          <p:cNvSpPr txBox="1"/>
          <p:nvPr/>
        </p:nvSpPr>
        <p:spPr>
          <a:xfrm>
            <a:off x="755640" y="692280"/>
            <a:ext cx="5616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изорук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3" name="Picture 7" descr="Картинка 16 из 1242"/>
          <p:cNvPicPr/>
          <p:nvPr/>
        </p:nvPicPr>
        <p:blipFill>
          <a:blip r:embed="rId1"/>
          <a:stretch/>
        </p:blipFill>
        <p:spPr>
          <a:xfrm>
            <a:off x="1571760" y="4572000"/>
            <a:ext cx="561960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дальнозоркости изображение предмета фокусируется за сетчатко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 - слишком маленькая выпуклость хрустали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ется при помощи собирающей лин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WordArt 5"/>
          <p:cNvSpPr txBox="1"/>
          <p:nvPr/>
        </p:nvSpPr>
        <p:spPr>
          <a:xfrm>
            <a:off x="900000" y="620640"/>
            <a:ext cx="5832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льнозорк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6" name="Picture 8" descr="Картинка 16 из 1242"/>
          <p:cNvPicPr/>
          <p:nvPr/>
        </p:nvPicPr>
        <p:blipFill>
          <a:blip r:embed="rId1"/>
          <a:stretch/>
        </p:blipFill>
        <p:spPr>
          <a:xfrm>
            <a:off x="1000080" y="4286160"/>
            <a:ext cx="7072200" cy="23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99"/>
                </a:solidFill>
                <a:latin typeface="Verdana"/>
              </a:rPr>
              <a:t>Астигматиз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540640" cy="21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«астигматизме»после преломления в оптической системе глаза световые лучи не сходятся в одну точку, а проецируются на сетчатку в виде нескольких точек, отрезков разной длины, кругов или овалов. Человек видит предметы нерезкими или искаженными, вне зависимости от того, где они расположены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причина астигматизма – неправильная форма линз оптической системы глаза.</a:t>
            </a:r>
            <a:r>
              <a:rPr b="0" lang="ru-RU" sz="2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9" name="Picture 4" descr="astigmatizm"/>
          <p:cNvPicPr/>
          <p:nvPr/>
        </p:nvPicPr>
        <p:blipFill>
          <a:blip r:embed="rId1"/>
          <a:stretch/>
        </p:blipFill>
        <p:spPr>
          <a:xfrm>
            <a:off x="2195640" y="4437000"/>
            <a:ext cx="462096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6816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ема опроса:</a:t>
            </a:r>
            <a:br>
              <a:rPr sz="2400"/>
            </a:b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ыявить процент учащихся, имеющих  дефекты зр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250920" y="1773360"/>
          <a:ext cx="8540640" cy="4365360"/>
        </p:xfrm>
        <a:graphic>
          <a:graphicData uri="http://schemas.openxmlformats.org/drawingml/2006/table">
            <a:tbl>
              <a:tblPr/>
              <a:tblGrid>
                <a:gridCol w="2846160"/>
                <a:gridCol w="2847960"/>
                <a:gridCol w="284652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класс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класс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сего ученик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6 учащих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 учащих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меющие дефект зр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учащихся (31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 учащих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8 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лизорук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 учащих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1 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 учащих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4 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льнозорк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учащих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0 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 учащих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4 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худшение зр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учащих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8 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 учащих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5 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 полученным данным построили диаграмм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3" name="Object 12"/>
          <p:cNvGraphicFramePr/>
          <p:nvPr/>
        </p:nvGraphicFramePr>
        <p:xfrm>
          <a:off x="611280" y="1844640"/>
          <a:ext cx="806436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44640"/>
                    <a:ext cx="806436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Object 4"/>
          <p:cNvGraphicFramePr/>
          <p:nvPr/>
        </p:nvGraphicFramePr>
        <p:xfrm>
          <a:off x="395280" y="476280"/>
          <a:ext cx="814716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76280"/>
                    <a:ext cx="814716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Object 4"/>
          <p:cNvGraphicFramePr/>
          <p:nvPr/>
        </p:nvGraphicFramePr>
        <p:xfrm>
          <a:off x="468360" y="333360"/>
          <a:ext cx="8496360" cy="59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33360"/>
                    <a:ext cx="849636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ая работа за компьютеро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ое освещени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мы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леж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ая осанка.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WordArt 4"/>
          <p:cNvSpPr txBox="1"/>
          <p:nvPr/>
        </p:nvSpPr>
        <p:spPr>
          <a:xfrm>
            <a:off x="324000" y="260280"/>
            <a:ext cx="7819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е причины ухудшения зр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мнению ученик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2"/>
          <p:cNvGrpSpPr/>
          <p:nvPr/>
        </p:nvGrpSpPr>
        <p:grpSpPr>
          <a:xfrm>
            <a:off x="571680" y="4000680"/>
            <a:ext cx="7917840" cy="2565000"/>
            <a:chOff x="571680" y="4000680"/>
            <a:chExt cx="7917840" cy="2565000"/>
          </a:xfrm>
        </p:grpSpPr>
        <p:pic>
          <p:nvPicPr>
            <p:cNvPr id="605" name="Picture 3" descr=""/>
            <p:cNvPicPr/>
            <p:nvPr/>
          </p:nvPicPr>
          <p:blipFill>
            <a:blip r:embed="rId1"/>
            <a:stretch/>
          </p:blipFill>
          <p:spPr>
            <a:xfrm>
              <a:off x="571680" y="4000680"/>
              <a:ext cx="2714400" cy="112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4" descr=""/>
            <p:cNvPicPr/>
            <p:nvPr/>
          </p:nvPicPr>
          <p:blipFill>
            <a:blip r:embed="rId2"/>
            <a:stretch/>
          </p:blipFill>
          <p:spPr>
            <a:xfrm>
              <a:off x="2990160" y="4801320"/>
              <a:ext cx="2786760" cy="10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5" descr=""/>
            <p:cNvPicPr/>
            <p:nvPr/>
          </p:nvPicPr>
          <p:blipFill>
            <a:blip r:embed="rId3"/>
            <a:stretch/>
          </p:blipFill>
          <p:spPr>
            <a:xfrm>
              <a:off x="5630040" y="5524560"/>
              <a:ext cx="2859480" cy="104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1213920" y="1785960"/>
            <a:ext cx="741708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особенности строения гла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дефекты зр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качество зрения школьник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ь способы улучшения качества зр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WordArt 8"/>
          <p:cNvSpPr txBox="1"/>
          <p:nvPr/>
        </p:nvSpPr>
        <p:spPr>
          <a:xfrm>
            <a:off x="1042920" y="620640"/>
            <a:ext cx="532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 рабо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50560" y="5444640"/>
            <a:ext cx="8459640" cy="4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смотря на то, что глаза способны сами себя защищать, о них нужно все равно заботи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2" name="Picture 3" descr="MPj04230340000[1]"/>
          <p:cNvPicPr/>
          <p:nvPr/>
        </p:nvPicPr>
        <p:blipFill>
          <a:blip r:embed="rId1"/>
          <a:stretch/>
        </p:blipFill>
        <p:spPr>
          <a:xfrm>
            <a:off x="539640" y="26028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990000"/>
                </a:solidFill>
                <a:latin typeface="Verdana"/>
              </a:rPr>
              <a:t>      </a:t>
            </a:r>
            <a:r>
              <a:rPr b="0" lang="ru-RU" sz="3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Зрение дает людям 90%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нформации, воспринимаемой из внешнего мира.  Хорошее зрение необходимо человеку для учебы, отдыха, в повседневной жизни. И каждый должен понимать, как важно оберегать и сохранять зрени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4" name="Picture 3" descr=""/>
          <p:cNvPicPr/>
          <p:nvPr/>
        </p:nvPicPr>
        <p:blipFill>
          <a:blip r:embed="rId1"/>
          <a:stretch/>
        </p:blipFill>
        <p:spPr>
          <a:xfrm>
            <a:off x="5651640" y="4437000"/>
            <a:ext cx="265896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MPj04117010000[1]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424980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0560" y="5876640"/>
            <a:ext cx="889308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Чтобы глазки всегда хорошо видели и не болели, нужно есть продукты, содержащие полезные витамины для зрения – морковка, черника, лук, петрушка, помидоры, красный перец, </a:t>
            </a:r>
            <a:r>
              <a:rPr b="0" lang="ru-RU" sz="20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шиповник и т.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3"/>
          <p:cNvSpPr/>
          <p:nvPr/>
        </p:nvSpPr>
        <p:spPr>
          <a:xfrm>
            <a:off x="179280" y="1700280"/>
            <a:ext cx="4321440" cy="49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 трите глаза грязными рука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мывайтесь ежедневно с мыло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 смотрите близко телевизор (не менее 3м) и долго (более час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 играйте в компьютерные игры более 15-20 мину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 читайте в транспорт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 читайте, не рисуйте  лежа в постел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Читайте и рисуйте за столом, в хорошо освещенной комнате, свет должен падать сле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берегайте глаза от попадания в них едких и опасных жидкост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Берегите глаза от колющих и режущих предмет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Ешьте продукты с витамина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уляйте часто на свежем воздух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8" name="Picture 4" descr="MPj04312160000[1]"/>
          <p:cNvPicPr/>
          <p:nvPr/>
        </p:nvPicPr>
        <p:blipFill>
          <a:blip r:embed="rId1"/>
          <a:stretch/>
        </p:blipFill>
        <p:spPr>
          <a:xfrm>
            <a:off x="4689360" y="1773360"/>
            <a:ext cx="4203720" cy="4751280"/>
          </a:xfrm>
          <a:prstGeom prst="rect">
            <a:avLst/>
          </a:prstGeom>
          <a:ln w="0">
            <a:noFill/>
          </a:ln>
        </p:spPr>
      </p:pic>
      <p:sp>
        <p:nvSpPr>
          <p:cNvPr id="659" name="WordArt 6"/>
          <p:cNvSpPr txBox="1"/>
          <p:nvPr/>
        </p:nvSpPr>
        <p:spPr>
          <a:xfrm>
            <a:off x="611280" y="549360"/>
            <a:ext cx="756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а по охране зр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8137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Упражнения, которые способствуют снятию напряжения мышц глаза, улучшают кровообращение: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50418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лотно закрыть глаза, а затем широко открыть их (5-6 раз с интервалом 30 се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смотреть вверх, вниз, влево, вправо, не поворачивая головы (3-4 раз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ращать глазами по кругу по 2-3 сек (3-4 раз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Быстро-быстро моргать (1 мин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мотреть вдаль, сидя перед окном (3-4 раза</a:t>
            </a: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2" name="Picture 4" descr="MPj04312170000[1]"/>
          <p:cNvPicPr/>
          <p:nvPr/>
        </p:nvPicPr>
        <p:blipFill>
          <a:blip r:embed="rId1"/>
          <a:stretch/>
        </p:blipFill>
        <p:spPr>
          <a:xfrm>
            <a:off x="5364000" y="2060640"/>
            <a:ext cx="345600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MPj04228270000[1]"/>
          <p:cNvPicPr/>
          <p:nvPr/>
        </p:nvPicPr>
        <p:blipFill>
          <a:blip r:embed="rId1"/>
          <a:stretch/>
        </p:blipFill>
        <p:spPr>
          <a:xfrm>
            <a:off x="4572000" y="3795840"/>
            <a:ext cx="4537080" cy="30178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" descr="MPj01788270000[1]"/>
          <p:cNvPicPr/>
          <p:nvPr/>
        </p:nvPicPr>
        <p:blipFill>
          <a:blip r:embed="rId2"/>
          <a:stretch/>
        </p:blipFill>
        <p:spPr>
          <a:xfrm>
            <a:off x="0" y="0"/>
            <a:ext cx="5329080" cy="352440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95280" y="3312720"/>
            <a:ext cx="8229600" cy="97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Берегите свои глаза!</a:t>
            </a:r>
            <a:br>
              <a:rPr sz="3400"/>
            </a:br>
            <a:r>
              <a:rPr b="0" lang="ru-RU" sz="3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Заботьтесь о зрении</a:t>
            </a:r>
            <a:r>
              <a:rPr b="0" lang="ru-RU" sz="3400" spc="-1" strike="noStrike">
                <a:solidFill>
                  <a:srgbClr val="993300"/>
                </a:solidFill>
                <a:latin typeface="Comic Sans MS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53928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66120" indent="-3661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проверять зрен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6120" indent="-3661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ксировать время работы за компьютеро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6120" indent="-3661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жидкокристаллический монитор с защитным покрытие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6120" indent="-3661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ить освещение классных комна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6120" indent="-3661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ти здоровый образ жизн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6120" indent="-3661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гимнастику для глаз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6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6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6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6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6120" indent="-36612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WordArt 4"/>
          <p:cNvSpPr txBox="1"/>
          <p:nvPr/>
        </p:nvSpPr>
        <p:spPr>
          <a:xfrm>
            <a:off x="1547640" y="620640"/>
            <a:ext cx="3961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изучения различной литературы, узнать, как устроен глаз челове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какие дефекты зрения встречаются у людей и каковы способы их профилактик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процент учащихся в 5 и 8 классах, имеющих различные заболевания глаз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 основные причины ухудшения зр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информации о способах сохранения и улучшения зр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WordArt 4"/>
          <p:cNvSpPr txBox="1"/>
          <p:nvPr/>
        </p:nvSpPr>
        <p:spPr>
          <a:xfrm>
            <a:off x="684360" y="620640"/>
            <a:ext cx="6480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и проек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1680" y="4929120"/>
            <a:ext cx="79927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- один из ценнейших органов чувств человека. Благодаря глазам мы получаем почти всю информацию об окружающем мире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3" name="Picture 3" descr="MPj04096540000[1]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99164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93300"/>
                </a:solidFill>
                <a:latin typeface="Verdana"/>
              </a:rPr>
              <a:t>     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глаз человек видит предметы, их цвета, размеры, форму, перемещение предметов. Глаза помогают человеку передвигаться в нужном направлении, ориентироваться в пространстве и во времен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5" name="Picture 3" descr="MPj04230230000[1]"/>
          <p:cNvPicPr/>
          <p:nvPr/>
        </p:nvPicPr>
        <p:blipFill>
          <a:blip r:embed="rId1"/>
          <a:stretch/>
        </p:blipFill>
        <p:spPr>
          <a:xfrm>
            <a:off x="2556000" y="2637000"/>
            <a:ext cx="403200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"/>
          <p:cNvGraphicFramePr/>
          <p:nvPr/>
        </p:nvGraphicFramePr>
        <p:xfrm>
          <a:off x="611280" y="3213000"/>
          <a:ext cx="6318000" cy="2687760"/>
        </p:xfrm>
        <a:graphic>
          <a:graphicData uri="http://schemas.openxmlformats.org/drawingml/2006/table">
            <a:tbl>
              <a:tblPr/>
              <a:tblGrid>
                <a:gridCol w="3168720"/>
                <a:gridCol w="3149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ная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лиц с недостатками зр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ё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средней школы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лет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лет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7" name="Rectangle 84"/>
          <p:cNvSpPr/>
          <p:nvPr/>
        </p:nvSpPr>
        <p:spPr>
          <a:xfrm>
            <a:off x="395280" y="260280"/>
            <a:ext cx="82090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я показывают, что более 95% младенцев рождается с нормальным зрением и без дефектов глаз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очень малый процент их достигает пожилого возраста с нормальным зрени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8" name="Picture 85" descr="glaz"/>
          <p:cNvPicPr/>
          <p:nvPr/>
        </p:nvPicPr>
        <p:blipFill>
          <a:blip r:embed="rId1"/>
          <a:stretch/>
        </p:blipFill>
        <p:spPr>
          <a:xfrm>
            <a:off x="7236000" y="4653000"/>
            <a:ext cx="1676160" cy="19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13920" y="6327360"/>
            <a:ext cx="707724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лаза у человека бывают разные по цвету – карие, голубые, зеленые, но строение глаз у всех одинаковое</a:t>
            </a:r>
            <a:r>
              <a:rPr b="0" lang="ru-RU" sz="1700" spc="-1" strike="noStrike">
                <a:solidFill>
                  <a:srgbClr val="99330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0" name="Picture 3" descr="MPj04022480000[1]"/>
          <p:cNvPicPr/>
          <p:nvPr/>
        </p:nvPicPr>
        <p:blipFill>
          <a:blip r:embed="rId1"/>
          <a:stretch/>
        </p:blipFill>
        <p:spPr>
          <a:xfrm>
            <a:off x="4859280" y="189000"/>
            <a:ext cx="3924360" cy="53276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MPj04254990000[1]"/>
          <p:cNvPicPr/>
          <p:nvPr/>
        </p:nvPicPr>
        <p:blipFill>
          <a:blip r:embed="rId2"/>
          <a:stretch/>
        </p:blipFill>
        <p:spPr>
          <a:xfrm>
            <a:off x="250920" y="189000"/>
            <a:ext cx="443556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78eee"/>
                </a:solidFill>
                <a:latin typeface="Verdana"/>
              </a:rPr>
              <a:t>Строение глаз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3" name="Picture 3" descr="1236155023643b"/>
          <p:cNvPicPr/>
          <p:nvPr/>
        </p:nvPicPr>
        <p:blipFill>
          <a:blip r:embed="rId1"/>
          <a:stretch/>
        </p:blipFill>
        <p:spPr>
          <a:xfrm>
            <a:off x="1193760" y="1897200"/>
            <a:ext cx="6904080" cy="39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10"/>
          <p:cNvSpPr/>
          <p:nvPr/>
        </p:nvSpPr>
        <p:spPr>
          <a:xfrm>
            <a:off x="468360" y="0"/>
            <a:ext cx="8353440" cy="50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  информации Федерального агентства по здравоохранению и социальному развитию, каждый второй россиянин страдает заболеванием глаз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годно в стране регистрируется полмиллиона инвалидов по зрению. Показатели заболеваний органов зрения в России растут и в большинстве регионов превышают среднеевропейские в 1,5-2 раз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2000 году только зарегистрированных глазных заболеваний в стране было около 9,3 млн., в 2009 их насчитывалось уже более 13 млн. При этом рост заболеваемости продолжается.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13" descr="i"/>
          <p:cNvPicPr/>
          <p:nvPr/>
        </p:nvPicPr>
        <p:blipFill>
          <a:blip r:embed="rId1"/>
          <a:stretch/>
        </p:blipFill>
        <p:spPr>
          <a:xfrm>
            <a:off x="5072040" y="4429080"/>
            <a:ext cx="3313080" cy="216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2:53:52Z</dcterms:created>
  <dc:creator>User</dc:creator>
  <dc:description/>
  <dc:language>en-US</dc:language>
  <cp:lastModifiedBy>СОШ №20</cp:lastModifiedBy>
  <dcterms:modified xsi:type="dcterms:W3CDTF">2017-09-21T12:53:25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