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E8DE-10F3-4511-A3EA-5EE92084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117-3EDA-4D94-91E0-FD5308E2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D5D-87F4-47FE-95D1-96BAF3FA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A717-0B0C-4ED8-9CB3-E684B1AD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F761-64AE-45DF-9004-47496BB3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55A7-6A13-48F9-8E32-77FD4909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031C-74A4-451C-9796-DA1D60F2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9BA8-F049-4DAC-9F0B-0070A588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C4CF-CD90-4144-A265-DC83752C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7039-0AFB-4D0F-9B5F-B01973C3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FB2B-A83C-439F-9F30-2B276C11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6E6-8C35-40A9-BA6B-F2A6E433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423F-D271-424A-BB36-C4C3672D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83B1-5B7C-489C-92B8-9CE2F361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773C-CC67-4D79-B4F4-4335758E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6D4C-2D63-4723-B672-46BC26B7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2845-0894-4FF2-98F7-48EA46CE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FA17-92A9-4AE7-A9E7-6531F204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129D-5D46-400B-8793-73015AFE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42EC-3698-4B3D-BFF1-B8F8B0A7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7485-048C-4D85-BB62-14075697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8E7A-C2DA-4BC4-9C75-B78263DD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90B-84EA-4504-8F0D-6C737413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64E6-BBB7-42B7-AE4A-21AB411A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917F-150F-4149-A69A-304CB82078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780D-4D40-4C06-9A4D-1B9347E3DA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714680" y="3071520"/>
            <a:ext cx="603216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Стихотворения для самых маленьких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готовила воспитатель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имазиева Заррина Асхато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357200" y="1285560"/>
            <a:ext cx="6400800" cy="15699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Comic Sans MS"/>
              </a:rPr>
              <a:t>Агния Барто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omic Sans MS"/>
              </a:rPr>
              <a:t>Зайка</a:t>
            </a:r>
            <a:r>
              <a:rPr b="0" lang="ru-RU" sz="44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7" descr="ЗАЙКА"/>
          <p:cNvPicPr/>
          <p:nvPr/>
        </p:nvPicPr>
        <p:blipFill>
          <a:blip r:embed="rId1"/>
          <a:stretch/>
        </p:blipFill>
        <p:spPr>
          <a:xfrm>
            <a:off x="1660680" y="2349360"/>
            <a:ext cx="1935000" cy="24177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Comic Sans MS"/>
              </a:rPr>
              <a:t>Зайку бросила хозяйка 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Comic Sans MS"/>
              </a:rPr>
              <a:t>Под дождем остался зай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Comic Sans MS"/>
              </a:rPr>
              <a:t>Со скамейки слезть не смо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Comic Sans MS"/>
              </a:rPr>
              <a:t>Весь до ниточки промо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ccff"/>
                </a:solidFill>
                <a:latin typeface="Comic Sans MS"/>
              </a:rPr>
              <a:t>Миш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Comic Sans MS"/>
              </a:rPr>
              <a:t>Уронили мишку на по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Comic Sans MS"/>
              </a:rPr>
              <a:t>Оторвали мишке лап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Comic Sans MS"/>
              </a:rPr>
              <a:t>Все равно его не брошу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Comic Sans MS"/>
              </a:rPr>
              <a:t>Потому что он хорош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6" descr="welcome"/>
          <p:cNvPicPr/>
          <p:nvPr/>
        </p:nvPicPr>
        <p:blipFill>
          <a:blip r:embed="rId1"/>
          <a:stretch/>
        </p:blipFill>
        <p:spPr>
          <a:xfrm>
            <a:off x="5257800" y="2217600"/>
            <a:ext cx="2476440" cy="2880000"/>
          </a:xfrm>
          <a:prstGeom prst="rect">
            <a:avLst/>
          </a:prstGeom>
          <a:ln w="76320">
            <a:solidFill>
              <a:srgbClr val="ccff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ff"/>
                </a:solidFill>
                <a:latin typeface="Comic Sans MS"/>
              </a:rPr>
              <a:t>Лошадка</a:t>
            </a:r>
            <a:r>
              <a:rPr b="0" lang="ru-RU" sz="4400" spc="-1" strike="noStrike">
                <a:solidFill>
                  <a:srgbClr val="99cc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7" descr="Единорог"/>
          <p:cNvPicPr/>
          <p:nvPr/>
        </p:nvPicPr>
        <p:blipFill>
          <a:blip r:embed="rId1"/>
          <a:stretch/>
        </p:blipFill>
        <p:spPr>
          <a:xfrm>
            <a:off x="1535040" y="2400480"/>
            <a:ext cx="2073240" cy="25146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Comic Sans MS"/>
              </a:rPr>
              <a:t>Я люблю свою лошадку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Comic Sans MS"/>
              </a:rPr>
              <a:t>Причешу ей шерстку гладко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Comic Sans MS"/>
              </a:rPr>
              <a:t>Гребешком приглажу хвости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Comic Sans MS"/>
              </a:rPr>
              <a:t>И верхом поеду в го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99ff"/>
                </a:solidFill>
                <a:latin typeface="Comic Sans MS"/>
              </a:rPr>
              <a:t>Бычок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Идет бычок, качаетс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Вздыхает на ходу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b2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Ох доска кончается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Сейчас я упаду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7" descr="Теплота"/>
          <p:cNvPicPr/>
          <p:nvPr/>
        </p:nvPicPr>
        <p:blipFill>
          <a:blip r:embed="rId1"/>
          <a:stretch/>
        </p:blipFill>
        <p:spPr>
          <a:xfrm>
            <a:off x="5505480" y="2060640"/>
            <a:ext cx="2309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386400" cy="13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6600" spc="-1" strike="noStrike">
                <a:solidFill>
                  <a:srgbClr val="0066ff"/>
                </a:solidFill>
                <a:latin typeface="Comic Sans MS"/>
              </a:rPr>
              <a:t>Слон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76360" y="1828800"/>
            <a:ext cx="510516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Спать пора! Уснул бычок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Лег в кроватку на бочо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Сонный мишка лег в кровать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Только слон не хочет спать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Головой кивает слон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Он слонихе шлет покло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10" descr="Мишутка"/>
          <p:cNvPicPr/>
          <p:nvPr/>
        </p:nvPicPr>
        <p:blipFill>
          <a:blip r:embed="rId1"/>
          <a:stretch/>
        </p:blipFill>
        <p:spPr>
          <a:xfrm>
            <a:off x="642960" y="2571840"/>
            <a:ext cx="26431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6029280" cy="96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omic Sans MS"/>
              </a:rPr>
              <a:t>Котено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Прямоугольник 2"/>
          <p:cNvSpPr/>
          <p:nvPr/>
        </p:nvSpPr>
        <p:spPr>
          <a:xfrm>
            <a:off x="2000160" y="1571760"/>
            <a:ext cx="4000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тёно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тёнок возит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клубком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 подползёт к нем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йком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 на клубо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чнёт кидаться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лкнёт его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прыгнет вбок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икак не мож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гадаться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то здесь не мышка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клубо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Рисунок 3" descr="D113CBCA044D-36.jpg"/>
          <p:cNvPicPr/>
          <p:nvPr/>
        </p:nvPicPr>
        <p:blipFill>
          <a:blip r:embed="rId1"/>
          <a:stretch/>
        </p:blipFill>
        <p:spPr>
          <a:xfrm>
            <a:off x="6286680" y="2928960"/>
            <a:ext cx="221436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56880" y="213840"/>
            <a:ext cx="500076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4400"/>
            </a:br>
            <a:br>
              <a:rPr sz="1400"/>
            </a:b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Мячик</a:t>
            </a:r>
            <a:br>
              <a:rPr sz="40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ша Таня громко плачет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ронила в речку мячи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Тише, Танечка, не плачь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 утонет в речке мяч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Содержимое 5" descr="117594606_5687032_bartoagniyalvovnaigrushki.jpg"/>
          <p:cNvPicPr/>
          <p:nvPr/>
        </p:nvPicPr>
        <p:blipFill>
          <a:blip r:embed="rId1"/>
          <a:stretch/>
        </p:blipFill>
        <p:spPr>
          <a:xfrm>
            <a:off x="5429160" y="2286000"/>
            <a:ext cx="267516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07:50:24Z</dcterms:created>
  <dc:creator>Заррина</dc:creator>
  <dc:description/>
  <dc:language>en-US</dc:language>
  <cp:lastModifiedBy>User</cp:lastModifiedBy>
  <dcterms:modified xsi:type="dcterms:W3CDTF">2017-09-22T20:04:40Z</dcterms:modified>
  <cp:revision>10</cp:revision>
  <dc:subject/>
  <dc:title>Агния Барто</dc:title>
</cp:coreProperties>
</file>