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B07-8683-4DAF-8E3E-FF270FF5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40C-3CF3-429D-B5A8-5DB11C6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416-7145-48DC-9CFC-00BDD15C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0C4-42EC-4C99-B1F9-D7906AC7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F225-5742-4376-B3D1-E057079E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8299-1AE1-4C43-B177-EB21AC5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C4F9-2381-4818-8B6B-CF0A076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397-00D0-4594-B972-9802D6E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E0F9-8E1D-46B0-B3B8-BD938D4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2D8-6209-42CF-AA3E-04C775B6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568-00C7-4BDB-9A22-3E14E18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6F0-12A8-435A-80E2-1126D6C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D6D-8725-48B6-90E8-49705B2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9DE-883C-4785-9455-C75633A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F701-6435-46F2-B7B3-67A83D0F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C131-B584-4494-A909-357232FE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A7E7-BB81-4925-AF23-9DD1C3DD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1FE-18CF-4135-B61C-DB6B1D26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CF9-04C5-4F5F-A30C-3A61119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8B3-DE54-4B16-8AE4-A9AF178A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39A-49CA-45CB-B479-3FD9A6AB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0FB-CF81-40A4-A4E1-A760961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917-B7C1-415B-A2F5-1AC2991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FEA-70D7-4948-A505-724F4AB5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C39-BE1E-4817-9204-AFFCB3CC9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ABC5-E3B2-4575-A89F-AF6668A55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105;&#1090;&#1088;_I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105;&#1090;&#1088;_III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25_&#1084;&#1072;&#1088;&#1090;&#1072;" TargetMode="External"/><Relationship Id="rId3" Type="http://schemas.openxmlformats.org/officeDocument/2006/relationships/hyperlink" Target="https://ru.wikipedia.org/wiki/1716_&#1075;&#1086;&#1076;" TargetMode="External"/><Relationship Id="rId4" Type="http://schemas.openxmlformats.org/officeDocument/2006/relationships/hyperlink" Target="https://ru.wikipedia.org/wiki/&#1057;&#1072;&#1085;&#1082;&#1090;-&#1055;&#1077;&#1090;&#1077;&#1088;&#1073;&#1091;&#1088;&#1075;" TargetMode="External"/><Relationship Id="rId5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6" Type="http://schemas.openxmlformats.org/officeDocument/2006/relationships/hyperlink" Target="https://ru.wikipedia.org/wiki/23_&#1080;&#1102;&#1085;&#1103;" TargetMode="External"/><Relationship Id="rId7" Type="http://schemas.openxmlformats.org/officeDocument/2006/relationships/hyperlink" Target="https://ru.wikipedia.org/wiki/1795_&#1075;&#1086;&#1076;" TargetMode="External"/><Relationship Id="rId8" Type="http://schemas.openxmlformats.org/officeDocument/2006/relationships/hyperlink" Target="https://ru.wikipedia.org/wiki/&#1057;&#1072;&#1085;&#1082;&#1090;-&#1055;&#1077;&#1090;&#1077;&#1088;&#1073;&#1091;&#1088;&#1075;" TargetMode="External"/><Relationship Id="rId9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0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1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2" Type="http://schemas.openxmlformats.org/officeDocument/2006/relationships/hyperlink" Target="https://ru.wikipedia.org/wiki/&#1055;&#1100;&#1077;&#1090;&#1088;&#1086;_&#1056;&#1086;&#1090;&#1072;&#1088;&#1080;" TargetMode="External"/><Relationship Id="rId13" Type="http://schemas.openxmlformats.org/officeDocument/2006/relationships/hyperlink" Target="https://ru.wikipedia.org/wiki/&#1055;&#1100;&#1077;&#1090;&#1088;&#1086;_&#1056;&#1086;&#1090;&#1072;&#1088;&#1080;" TargetMode="External"/><Relationship Id="rId14" Type="http://schemas.openxmlformats.org/officeDocument/2006/relationships/hyperlink" Target="https://ru.wikipedia.org/wiki/&#1055;&#1100;&#1077;&#1090;&#1088;&#1086;_&#1056;&#1086;&#1090;&#1072;&#1088;&#1080;" TargetMode="External"/><Relationship Id="rId15" Type="http://schemas.openxmlformats.org/officeDocument/2006/relationships/hyperlink" Target="https://ru.wikipedia.org/wiki/&#1044;&#1088;&#1086;&#1078;&#1076;&#1080;&#1085;,_&#1055;&#1077;&#1090;&#1088;_&#1057;&#1077;&#1084;&#1077;&#1085;&#1086;&#1074;&#1080;&#1095;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6;&#1091;&#1084;&#1103;&#1085;&#1094;&#1077;&#1074;&#1072;,_&#1052;&#1072;&#1088;&#1080;&#1103;_&#1040;&#1085;&#1076;&#1088;&#1077;&#1077;&#1074;&#1085;&#1072;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0;&#1088;&#1072;&#1089;&#1085;&#1086;&#1097;&#1105;&#1082;&#1086;&#1074;,_&#1060;&#1105;&#1076;&#1086;&#1088;_&#1048;&#1074;&#1072;&#1085;&#1086;&#1074;&#1080;&#1095;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083;&#1072;&#1090;&#1086;&#1085;_(&#1051;&#1077;&#1074;&#1096;&#1080;&#1085;)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0;&#1077;&#1088;&#1084;&#1086;&#1088;,_&#1042;&#1080;&#1083;&#1083;&#1080;&#1084;_&#1042;&#1080;&#1083;&#1083;&#1080;&#1084;&#1086;&#1074;&#1080;&#1095;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s://ru.wikipedia.org/w/index.php?title=&#1061;&#1088;&#1091;&#1097;&#1086;&#1074;&#1072;,_&#1045;&#1082;&#1072;&#1090;&#1077;&#1088;&#1080;&#1085;&#1072;_&#1053;&#1080;&#1082;&#1086;&#1083;&#1072;&#1077;&#1074;&#1085;&#1072;&amp;action=edit&amp;redlink=1" TargetMode="External"/><Relationship Id="rId5" Type="http://schemas.openxmlformats.org/officeDocument/2006/relationships/hyperlink" Target="https://ru.wikipedia.org/w/index.php?title=&#1061;&#1088;&#1091;&#1097;&#1086;&#1074;&#1072;,_&#1045;&#1082;&#1072;&#1090;&#1077;&#1088;&#1080;&#1085;&#1072;_&#1053;&#1080;&#1082;&#1086;&#1083;&#1072;&#1077;&#1074;&#1085;&#1072;&amp;action=edit&amp;redlink=1" TargetMode="External"/><Relationship Id="rId6" Type="http://schemas.openxmlformats.org/officeDocument/2006/relationships/hyperlink" Target="https://ru.wikipedia.org/w/index.php?title=&#1061;&#1086;&#1074;&#1072;&#1085;&#1089;&#1082;&#1072;&#1103;,_&#1045;&#1082;&#1072;&#1090;&#1077;&#1088;&#1080;&#1085;&#1072;_&#1053;&#1080;&#1082;&#1086;&#1083;&#1072;&#1077;&#1074;&#1085;&#1072;&amp;action=edit&amp;redlink=1" TargetMode="External"/><Relationship Id="rId7" Type="http://schemas.openxmlformats.org/officeDocument/2006/relationships/hyperlink" Target="https://ru.wikipedia.org/wiki/&#1056;&#1091;&#1089;&#1089;&#1082;&#1080;&#1081;_&#1084;&#1091;&#1079;&#1077;&#1081;" TargetMode="External"/><Relationship Id="rId8" Type="http://schemas.openxmlformats.org/officeDocument/2006/relationships/hyperlink" Target="https://ru.wikipedia.org/wiki/&#1057;&#1072;&#1085;&#1082;&#1090;-&#1055;&#1077;&#1090;&#1077;&#1088;&#1073;&#1091;&#1088;&#1075;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760_&#1075;&#1086;&#1076;" TargetMode="External"/><Relationship Id="rId3" Type="http://schemas.openxmlformats.org/officeDocument/2006/relationships/hyperlink" Target="https://ru.wikipedia.org/wiki/&#1045;&#1082;&#1072;&#1090;&#1077;&#1088;&#1080;&#1085;&#1072;_II" TargetMode="External"/><Relationship Id="rId4" Type="http://schemas.openxmlformats.org/officeDocument/2006/relationships/hyperlink" Target="https://ru.wikipedia.org/wiki/1789_&#1075;&#1086;&#1076;" TargetMode="External"/><Relationship Id="rId5" Type="http://schemas.openxmlformats.org/officeDocument/2006/relationships/hyperlink" Target="https://ru.wikipedia.org/wiki/&#1055;&#1088;&#1080;&#1082;&#1072;&#1079;_&#1086;&#1073;&#1097;&#1077;&#1089;&#1090;&#1074;&#1077;&#1085;&#1085;&#1086;&#1075;&#1086;_&#1087;&#1088;&#1080;&#1079;&#1088;&#1077;&#1085;&#1080;&#1103;" TargetMode="External"/><Relationship Id="rId6" Type="http://schemas.openxmlformats.org/officeDocument/2006/relationships/hyperlink" Target="https://ru.wikipedia.org/wiki/&#1051;&#1072;&#1079;&#1072;&#1088;&#1077;&#1074;&#1089;&#1082;&#1086;&#1077;_&#1082;&#1083;&#1072;&#1076;&#1073;&#1080;&#1097;&#1077;_(&#1057;&#1072;&#1085;&#1082;&#1090;-&#1055;&#1077;&#1090;&#1077;&#1088;&#1073;&#1091;&#1088;&#1075;)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s://ru.wikipedia.org/wiki/&#1045;&#1082;&#1072;&#1090;&#1077;&#1088;&#1080;&#1085;&#1072;_I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ЕК XVIII В ПОРТРЕТАХ А.П.АНТРОПОВА,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дного из первых живописцев,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писавших светские портреты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ыполнили: </a:t>
            </a:r>
            <a:br>
              <a:rPr sz="3200"/>
            </a:b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Ковтун Елена, Ковтун А.М.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3504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тропов А.П. Портрет Екатерины II 1766, (Тверская областная картинная галере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37200" y="609480"/>
            <a:ext cx="477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графа Михаила Дмитриевича Бутурл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."/>
          <p:cNvPicPr/>
          <p:nvPr/>
        </p:nvPicPr>
        <p:blipFill>
          <a:blip r:embed="rId2"/>
          <a:stretch/>
        </p:blipFill>
        <p:spPr>
          <a:xfrm>
            <a:off x="4191120" y="457200"/>
            <a:ext cx="4771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трет графини Агриппины Леонтьевны Апракси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."/>
          <p:cNvPicPr/>
          <p:nvPr/>
        </p:nvPicPr>
        <p:blipFill>
          <a:blip r:embed="rId2"/>
          <a:stretch/>
        </p:blipFill>
        <p:spPr>
          <a:xfrm>
            <a:off x="4114800" y="228600"/>
            <a:ext cx="48196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Екатерины II Велик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."/>
          <p:cNvPicPr/>
          <p:nvPr/>
        </p:nvPicPr>
        <p:blipFill>
          <a:blip r:embed="rId2"/>
          <a:stretch/>
        </p:blipFill>
        <p:spPr>
          <a:xfrm>
            <a:off x="3505320" y="0"/>
            <a:ext cx="52671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28951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тра 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4581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тра I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6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44229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трет Дмитрия Ивановича Бутурл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."/>
          <p:cNvPicPr/>
          <p:nvPr/>
        </p:nvPicPr>
        <p:blipFill>
          <a:blip r:embed="rId2"/>
          <a:stretch/>
        </p:blipFill>
        <p:spPr>
          <a:xfrm>
            <a:off x="3809880" y="190440"/>
            <a:ext cx="52102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трет графини Татьяны Алексеевны Трубец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."/>
          <p:cNvPicPr/>
          <p:nvPr/>
        </p:nvPicPr>
        <p:blipFill>
          <a:blip r:embed="rId2"/>
          <a:stretch/>
        </p:blipFill>
        <p:spPr>
          <a:xfrm>
            <a:off x="4267080" y="228600"/>
            <a:ext cx="46576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ртрет графины Анн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нцов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."/>
          <p:cNvPicPr/>
          <p:nvPr/>
        </p:nvPicPr>
        <p:blipFill>
          <a:blip r:embed="rId2"/>
          <a:stretch/>
        </p:blipFill>
        <p:spPr>
          <a:xfrm>
            <a:off x="4191120" y="304920"/>
            <a:ext cx="454320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великой княгини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Екатерины Алексеев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50-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33760" y="914400"/>
            <a:ext cx="410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3733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А. М. Измайловой, 175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979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ЕКСЕЙ ПЕТРОВИЧ АНТРОП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4 (25) мар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7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рождения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анкт-Петербур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смерти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12 (23) июн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17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(79 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смерти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ажданство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ан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сский живописец, представитель стиля барок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ёб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Пьетро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Рота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52320" y="57146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П.С.Дрожди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ртрет А.П. Антропова с сыном перед портретом жены Елены Васильев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П.С.Дрождин. Портрет А.П. Антропова с сыном перед портретом жены Елены Васильевны"/>
          <p:cNvPicPr/>
          <p:nvPr/>
        </p:nvPicPr>
        <p:blipFill>
          <a:blip r:embed="rId16"/>
          <a:stretch/>
        </p:blipFill>
        <p:spPr>
          <a:xfrm>
            <a:off x="4495680" y="685800"/>
            <a:ext cx="4140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графини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. А. Румянцев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6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09880" y="152280"/>
            <a:ext cx="503568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казачьего генерала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. И. Краснощёков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176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38480" y="457200"/>
            <a:ext cx="4799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тверского архиепископа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латона Левши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177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733920" y="152280"/>
            <a:ext cx="515772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.В.Фермо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176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086360" y="152280"/>
            <a:ext cx="491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einternet.ru/users/3176052/post306924297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s://ru.wikipedia.org/wiki/Заглавная_стра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18century-ru.livejournal.com/468342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9560"/>
            <a:ext cx="4114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380880"/>
            <a:ext cx="4343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ексей Антропов родился 14 (25) марта 1716 года в Санкт-Петербурге, в семье чиновника — отец художника служил в Канцелярии от стро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732 года Алексей также учился в Канцелярии от строений в Петербурге у своего родственника А. М. Матвеева, у Л. Карава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 А. Захарова, И. Я. Вишняк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739 года работал там же в «живописной команде» у И. Я. Вишнякова. Стал одним из самых известных его уче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2971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81400" cy="5619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19920" y="62215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портрет 1784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42 г. Антропов участвует, в качестве художника, в коронационных торжествах императрицы Елизаветы в Моск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етербурге он пишет картины для триумфальных ворот в Аничковой слободе; участвует в росписях плафона и создании икон для Зимнего дворц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руководством Дж. Валериани работает в Летнем дворце, в Царском Селе, в Петергофе, Аничковом дворц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началом Валериани и Перезинотти Антропов создаёт декорации для Оперного дом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54860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ртрет императрицы Елизаветы Петров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20984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6040" y="3700440"/>
            <a:ext cx="279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510320" y="4267080"/>
          <a:ext cx="39531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0320" y="4267080"/>
                    <a:ext cx="3953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752 г. он получает самостоятельный заказ на «письмо икон в куполе и прочих местах нового храма Андрея Первозванного», только что построенного в Киеве архитектором Мичуриным по проекту Растрелли. Наиболее значительна из его росписей собора монументальная «Тайная вечеря» — запрестольный алтарный образ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Антропов А.П. (1716-1795). Тайная вечеря. 1752-1755 годы. Холст, масло. Музей Андреевская церковь, Ки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лексей Антропов имел собственную художественную студию, в которой, в частности, работал И. Л. Колокольни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752480" y="1600200"/>
            <a:ext cx="5791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5486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Киева художник отправился в Москву, где расписал два плафона для Головинского дворца на Яузе. Здесь он знакомится с меценатом И. И. Шуваловым, куратором созданного в 1755 г. Московского университета. Шувалов приглашает художника преподавать на создаваемом факультете искусства, а до его основания — зачисляет в университет на должность «живописного мастера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ко в Москве у Антропова нет постоянной работы, и он возвращается в Петербург и с помощью Шувалова получает место надзирателя за живописцами и иконописцами при Синоде, с обязательством взять учеников и «обучать их не скрыто искусному живописному, иконописному и финифтяному мастерству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оме Антропова поселились ученики из Украины, одним из которых был Дмитрий Левиц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Автопортрет, 1783 год"/>
          <p:cNvPicPr/>
          <p:nvPr/>
        </p:nvPicPr>
        <p:blipFill>
          <a:blip r:embed="rId2"/>
          <a:stretch/>
        </p:blipFill>
        <p:spPr>
          <a:xfrm>
            <a:off x="5943600" y="304920"/>
            <a:ext cx="235728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992320" cy="394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6172200"/>
            <a:ext cx="7056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к Антропова Д.Левицкий и его произвед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Е. Н.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Хрущова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Е. Н. Хованска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» 1773 (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Русский музе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4876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ей Петрович Антропов 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760 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 аттестован как «мастер». В 1762—1763 годах художник принимал участие в оформлении коронационных торжест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Екатерины 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 Москве. В Петербурге у Антропова была частная шко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789 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Антропов передал свой дом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иказу Общественного призр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для устройства в нём народного училищ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ропов скончался 12 (23) июня 1795 года в Санкт-Петербурге. Похоронен на некрополе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Александро-Невской лав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хранилась надгробная плита с надпись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«В надежде воскресения погребен на месте сем раб божий коллежский асессор и живописи художник Алексей Петрович Антропов. Родился 1716 года марта 14 дня. Скончался 1795 года июня 12 дня. Жития его было 79 лет 2 м-ца и 28 дней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844880" y="152280"/>
            <a:ext cx="4299120" cy="563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65040" y="6135840"/>
            <a:ext cx="325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Екатерины II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17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изведения</a:t>
            </a:r>
            <a:br>
              <a:rPr sz="40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А.П.АНТРОПОВ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тропов Алексей Петрович известен не только как искусный иконописец, но и знаменит своими портретами, особенно женски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личительной чертой Антропова является его стремление не уходить от жизненной правды, его наблюдательность позволяет ему достоверно передавать характе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ортретах знатн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ьмож много деталей, но нет ничего лишнего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62481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Портрет великого князя Павла Петровича, впоследствии императора Павла I, в детстве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Холст, масло 65 х 49,5 см 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Музей изобразительных искусств, Ростов-на-Дону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1765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005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400" y="266652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трет Анны Ивановны Колыче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."/>
          <p:cNvPicPr/>
          <p:nvPr/>
        </p:nvPicPr>
        <p:blipFill>
          <a:blip r:embed="rId2"/>
          <a:stretch/>
        </p:blipFill>
        <p:spPr>
          <a:xfrm>
            <a:off x="152280" y="152280"/>
            <a:ext cx="47437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2:52:59Z</dcterms:created>
  <dc:creator>User</dc:creator>
  <dc:description/>
  <dc:language>en-US</dc:language>
  <cp:lastModifiedBy>User</cp:lastModifiedBy>
  <dcterms:modified xsi:type="dcterms:W3CDTF">2017-09-22T19:23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