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1E8-459B-4816-A339-A55BF1BD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7A6-157A-4D34-AD9E-B7ABA3E3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EF8-6A24-4194-B1A9-047371C8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D1A-98EB-45BA-822C-B5E5F914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393-FEF8-4EC0-AA93-CC9E87E7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4B1-2BBA-447D-919E-028A29A3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D72-29AD-48D7-A0CB-6D5C3D96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3DC-3D9E-4C0A-9865-F3C2AE5D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7AA-A144-4035-8900-4B709DCA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1E6-861B-4B54-84CB-15472B0E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900-A232-4C38-BF7C-35B5995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2D1-3226-497C-88D1-ADED497A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0110-CB04-4A6D-A66E-1D96D1108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atehistory.ru/books/Maya-Kurmacheva_Krepostnaya-intelligentsiya-Rossii---vtoraya-polovina-XVIII-nachalo-XIX-veka-/7" TargetMode="External"/><Relationship Id="rId2" Type="http://schemas.openxmlformats.org/officeDocument/2006/relationships/hyperlink" Target="http://statehistory.ru/books/Maya-Kurmacheva_Krepostnaya-intelligentsiya-Rossii---vtoraya-polovina-XVIII-nachalo-XIX-veka-/7" TargetMode="External"/><Relationship Id="rId3" Type="http://schemas.openxmlformats.org/officeDocument/2006/relationships/hyperlink" Target="http://statehistory.ru/books/Maya-Kurmacheva_Krepostnaya-intelligentsiya-Rossii---vtoraya-polovina-XVIII-nachalo-XIX-veka-/7" TargetMode="External"/><Relationship Id="rId4" Type="http://schemas.openxmlformats.org/officeDocument/2006/relationships/hyperlink" Target="http://statehistory.ru/books/Maya-Kurmacheva_Krepostnaya-intelligentsiya-Rossii---vtoraya-polovina-XVIII-nachalo-XIX-veka-/7" TargetMode="External"/><Relationship Id="rId5" Type="http://schemas.openxmlformats.org/officeDocument/2006/relationships/hyperlink" Target="http://statehistory.ru/books/Maya-Kurmacheva_Krepostnaya-intelligentsiya-Rossii---vtoraya-polovina-XVIII-nachalo-XIX-veka-/7" TargetMode="External"/><Relationship Id="rId6" Type="http://schemas.openxmlformats.org/officeDocument/2006/relationships/hyperlink" Target="http://statehistory.ru/books/Maya-Kurmacheva_Krepostnaya-intelligentsiya-Rossii---vtoraya-polovina-XVIII-nachalo-XIX-veka-/7" TargetMode="External"/><Relationship Id="rId7" Type="http://schemas.openxmlformats.org/officeDocument/2006/relationships/hyperlink" Target="http://statehistory.ru/books/Maya-Kurmacheva_Krepostnaya-intelligentsiya-Rossii---vtoraya-polovina-XVIII-nachalo-XIX-veka-/7" TargetMode="External"/><Relationship Id="rId8" Type="http://schemas.openxmlformats.org/officeDocument/2006/relationships/hyperlink" Target="http://statehistory.ru/books/Maya-Kurmacheva_Krepostnaya-intelligentsiya-Rossii---vtoraya-polovina-XVIII-nachalo-XIX-veka-/7" TargetMode="External"/><Relationship Id="rId9" Type="http://schemas.openxmlformats.org/officeDocument/2006/relationships/hyperlink" Target="http://biblioiskusstwo.blogspot.ru/" TargetMode="External"/><Relationship Id="rId10" Type="http://schemas.openxmlformats.org/officeDocument/2006/relationships/hyperlink" Target="https://ru.wikipedia.org/wiki/&#1040;&#1088;&#1075;&#1091;&#1085;&#1086;&#1074;,_&#1048;&#1074;&#1072;&#1085;_&#1055;&#1077;&#1090;&#1088;&#1086;&#1074;&#1080;&#1095;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РЕПОСТН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ТЕЛЛИГЕНЦИЯ 18 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и: Ковтун Еле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тун А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вь скрывали от всех, т.к. она была запретной: хотя Паша была уже очень известной певицей, она продолжала оставаться крепостной. Только на 30-м году ей дали «вольную». И только через 3 года наконец Паша Жемчугова и Николай Шереметев тайно обвенчались. И снова это не принесло им счастья, т.к. ни красота, ни талант не повлияли на взгляды общества, которое не приняло в свой круг молодую графиню Шереметеву. Все это подорвало силы и здоровье Паши. И на 34-м году жизни после рождения сына она скончалась от чахот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удожник много писал актрису Жемчугову, но особенно хорош портрет, написанный в 1789 году, когда Паша была в самом расцвете своей красоты. Аргунов изобразил молодую женщину в роскошном платье с портретом Шереметева на груди. Взгляд больших черных глаз умный и проницательный. Красивые, подвижные брови. Слегка поджатые уголки губ подчеркивают упорный характер. Вся ее фигура выражает сдержанное достоинство, она как бы бросает вызов окружающему ее враждебному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0" y="190512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Портрет молодой графини Шереметевой (1789)"/>
          <p:cNvPicPr/>
          <p:nvPr/>
        </p:nvPicPr>
        <p:blipFill>
          <a:blip r:embed="rId1"/>
          <a:stretch/>
        </p:blipFill>
        <p:spPr>
          <a:xfrm>
            <a:off x="4419720" y="152280"/>
            <a:ext cx="446076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91120" y="6019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ртрет молодой графини Шереметевой (1789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лерина Татьяна Вавсильевна Шлыкова родилась в семье крепостных графов Шереметевых. В 7 лет ее взяли на воспитание в господский дом, учили этикету, декламации, французскому и итальянскому языкам, музыке, пению и танцам. С детства она выступала на сцене домашних театров в Кусково и Останкино. Татьяна Шлыкова считалась первой танцовщицей труппы крепостного театра Шереметевых. Тогда же она получила псевдоним Гранатов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тьяна Гранатова-Шлыкова выступала перед монаршими гостями Шереметевых. Во время посещения Кускова императрицы Екатерины II выступление Татьяны так понравилось императрице, что та вызвала ее к себе в ложу, дала ей поцеловать свою руку, похвалила за танец и подарила несколько червонце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03 году Гранатова получила вольную, но продолжала жить в имении графов Шереметевых. Татьяна была близкой подругой жены графа Николая Шереметева - Прасковьи (Ковалевой-Жемчуговой). Когда Прасковья вскоре после родов сына умерла, а затем умер и сам Николай Петрович, Татьяна Гранатова-Шлыкова вырастила их сына Дмитрия, а потом помогала растить и внука, Серге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Портрет балерины Т.В.Шлыковой-Гранатовой (1789)"/>
          <p:cNvPicPr/>
          <p:nvPr/>
        </p:nvPicPr>
        <p:blipFill>
          <a:blip r:embed="rId1"/>
          <a:stretch/>
        </p:blipFill>
        <p:spPr>
          <a:xfrm>
            <a:off x="4495680" y="457200"/>
            <a:ext cx="4127760" cy="570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91280" y="6248520"/>
            <a:ext cx="64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трет балерины Т.В.Шлыковой-Гранатовой (17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ртрет Екатерины II (176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катерина изображена на фоне драпировки, в роскошном белом платье из переливающегося атласа. Накидка, подбитая горностаем, живописными складками легла у ног императрицы.Рука указывает на атрибуты царской власти, лежащие на столике в стиле барокк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а написана в светлых голубых и бежевых то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38098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456840"/>
            <a:ext cx="350496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трет императрицы Елизаветы Петров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ператрица Елизавета Петровна отличалась красотой, что и передал художник в этом портрете, может быть, чуть приукрашенном, так как Елизавета отличалась еще и полнотой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цо привлекает свежестью красок, выразительные глаза, темные дугообразные брови, светлые пудреные волосы - все в сочетании создает яркий привлекательный образ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ета императрица в роскошные одежды с синей лентой через грудь и с орденом - все указывает на принадлежность изображенной женщины к высшей государственной в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092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92520" y="152280"/>
            <a:ext cx="4551480" cy="5991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4621320" cy="5991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574440" y="638316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а Хрипун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410080" y="380520"/>
            <a:ext cx="3276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внутреннему миру человека был характерен для И. П. Аргунова, художника конца XVIII в., создавшего портретную галерею своих соврем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ортреты, по словам Т. А. Селиновой, являются воплощением «складывающегося нового идеала человеческой личности, возникшего в передовых кругах русского обществ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аправление в искусстве оказало влияние на последующее развитие русского реалистического портр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ет внимание колоритный, выразительный «Портрет неизвестной крестьянки в русском костюме» И. П. Аргун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написан в 1785 году, в нем художник хотел показать, что и обыкновенные крестьяне могли стать волею художника предметом искусства. Перед нами статная, с лицом куда более прекрасным, чем у многих полнотелых, важных матрон, которые глядят на нас с портретов мастеров 18-го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молодая женщина показана автором так, словно бы именно она олицетворяет идеал русской женщины. Чувствуется, что художник хотел ее приукрасить: нарядил в лучшее платье, высокий кокошник выглядит коро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 же, несмотря на условности, Аргунов вводит зрителя в неведомый тогда для многих мир прост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828800" y="13716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Портрет крестьянки в нарядном костюме.(1784)"/>
          <p:cNvPicPr/>
          <p:nvPr/>
        </p:nvPicPr>
        <p:blipFill>
          <a:blip r:embed="rId1"/>
          <a:stretch/>
        </p:blipFill>
        <p:spPr>
          <a:xfrm>
            <a:off x="0" y="0"/>
            <a:ext cx="53341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790-е годы и в самом начале нового столетия, Аргунов почти перестаёт творить. Это связано опять с его подневольным, рабским положением. В 1788 году его назначают управителем "Московского дома" Шереметевых и членом крепостной коллегии, ведавшей всеми хозяйственными делами графа. Перебравшись из Петербурга в Москву и, видимо, чувствуя, что проходит его время и на смену является новое поколение молодых талантливых живописцев, Аргунов повиновался воле хозяина, которым теперь стал, после смерти отца, Николай Петрович Шеремет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многочисленных сохранившихся документов известно, как неинтересна и, порой унизительна стала жизнь художника, превратившегося в "управителя Аргунова". Кисть, выпавшую из отцовской руки, поднял сын художника, Николай, однако,  создав красивые портреты интересных личностей, он не превзошёл своего отц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р Иван Петрович Аргунов в начале 1802 года в возрасте 73 лет, крепостным человеком графов Шереметев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5791320"/>
            <a:ext cx="4038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.Аргу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019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atehistory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oks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aya-Kurmacheva_Krepostnaya-intelligentsiya-Rossii---vtoraya-polovina-XVIII-nachalo-XIX-veka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/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biblioiskusstwo.blogspot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ru.wikipedia.org/wiki/Аргунов,_Иван_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ЕПОСТНАЯ ИНТЕЛЛИГЕНЦИЯ 18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епостная интеллигенция появилась в России среди крепостного крестьянства, главным образом дворовых. Использовалась для удовлетворения хозяйственных, административных и культурных потребностей помещичьих хозяйст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епостная интеллигенция вместе с тем внесла большой вклад в развитие русской национальной культуры. Отдельные выходцы из кабальных крестьян, холопов и крепостных известны в русской культуре 17 и первой половины 18 в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 второй половины 18 в. крепостные широко использовались как управляющие имений, канцеляристы, врачи, учителя, а также художники различных специальностей: архитекторы, живописцы, мастера прикладного искусства, деятели театра и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мотря на то, что получение образования для крепостных было крайне затруднено, некоторые из них достигали высокого уровня профессиональной подготовки в результате частного ученичества или в качестве сверхштатных учеников Академии художеств или университетов ( в последнем случае крепостной, оканчивающий курс, забирался помещиком из учебного заведения накануне выпускных экзаменов, т. к. диплом давал право на освобождение от крепостной зависимости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 редко крепостных обучали лучшие уч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562720" y="4038120"/>
            <a:ext cx="3200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танкино. Дворец Шереметьевых 90-е годы 18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рхитекторы: Аргун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10080" y="4633200"/>
            <a:ext cx="358164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орец Останкино по праву признается одним из лучших памятников архитектуры конца XVIII в. В архитектуре здания и в его внутреннем убранстве сказался талант, проявилась самобытность и большой художественный вкус его создателей — людей из народа. Это известные крепостные архитекторы П. И. Аргунов, Г. Е. Дикушин, А. Ф. Миронов. архитектору из крепостных Н. Б. Юсупова В. Я. Стрижак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образные культурные центры крепостных, которые складывались в XVIII в. в усадьбах крупных феодалов Шереметевых, Воронцовых, Юсуповых, Куракиных и др. В первой четверти XIX в.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упные центры технической интеллигенции возникли в Пермском крае, в вотчинах Голицыных, Лазаревых, Демидовых. 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266720" y="4038120"/>
            <a:ext cx="4419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атральный зал в Останкине 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 графа П. Б. Шереметева, устроившего крепостной театр в последней трети XVIII в., было три театра — один в Москве, два в подмосковных имениях — Кускове и Останкине. Кусковский театр по величине равнялся московскому Малому театру, а по внешней отделке даже превосходил его. В дни представлений, по четвергам и воскресеньям, «вся Москва» стекалась в Кусковский театр (вход был бесплатным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Театральный зал в Останкине"/>
          <p:cNvPicPr/>
          <p:nvPr/>
        </p:nvPicPr>
        <p:blipFill>
          <a:blip r:embed="rId1"/>
          <a:stretch/>
        </p:blipFill>
        <p:spPr>
          <a:xfrm>
            <a:off x="4495680" y="304920"/>
            <a:ext cx="44960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4419720"/>
            <a:ext cx="29718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9120" y="3200040"/>
            <a:ext cx="80773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дающийся архитектор А. Н. Воронихин, до 1785 г. крепостной графа А. С. Строганова, возглавил строительство Казанского собора, Горного института в Петербурге и других зданий. Большие заслуги принадлежат (1780—1819), фактически руководившему строительством в Архангельском. Он был настолько компетентным мастером, что не раз оспаривал проекты и предложения известных московских зодчих.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2392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62720" y="220968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гунов Иван Петрович (1729-180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3760" y="4572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и известных крепостных Шереметьевых художник, архит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Аргунов Иван Петрович. Автопортрет"/>
          <p:cNvPicPr/>
          <p:nvPr/>
        </p:nvPicPr>
        <p:blipFill>
          <a:blip r:embed="rId1"/>
          <a:stretch/>
        </p:blipFill>
        <p:spPr>
          <a:xfrm>
            <a:off x="228600" y="28440"/>
            <a:ext cx="5110200" cy="6829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89440" y="6134040"/>
            <a:ext cx="2846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гунов Иван Петрови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портр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ван Аргунов родился в семье крепостных графа А. М. Черкасского, позже отошедших к графу Шереметеву в качестве «приданого» его жены Варвары Алексеевны. Воспитывался в семье дяди, С. М. Аргун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лся портретной живописи у своего двоюродного брата Фёдора Леонтьевича Аргунова, а также у иностранных мастеров. Под руководством своего учителя Георга Христофора Гроота создал иконы для церкви Екатерининского дворца в Царском Се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гунов, помимо живописного, имел и педагогический талант. По приказанию императрицы Елизаветы Петровны, к нему были отданы «в ученье художеству» придворные певчие, потерявшие голоса: А. П. Лосенко (бывший потом профессором и директором Академии художеств), К. И. Головачевский (инспектор Воспитательного училища Академии), И. С. Саблучок (Саблуков, Иван Семёнович) (академи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ал И. П. Аргунов и собственных сыновей: Павла, ставшего архитектором, и Якова и Николая, будущих живопис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357440" cy="5334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5720" y="5715000"/>
            <a:ext cx="226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Аргу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 П.Шеремет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80520"/>
            <a:ext cx="35812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тво Аргунова было связано с Шереметевыми,их окружениеми их крепост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ня Варвара Алексеевна - статс-дама, единственная дочь князя Алексея Михайловича Черкасского, канцлера, обладателя огромного состояния. Была камер-фрейлиной императрицы Елизаветы. Вышла замуж за графа Петра Борисовича Шеремет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Портрет княгини Варвары Алексеевны Шереметевой (1760)"/>
          <p:cNvPicPr/>
          <p:nvPr/>
        </p:nvPicPr>
        <p:blipFill>
          <a:blip r:embed="rId2"/>
          <a:stretch/>
        </p:blipFill>
        <p:spPr>
          <a:xfrm>
            <a:off x="4238640" y="0"/>
            <a:ext cx="49053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31240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 Николай Петрович Шереметев -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Портрет графа Н.П.Шереметева"/>
          <p:cNvPicPr/>
          <p:nvPr/>
        </p:nvPicPr>
        <p:blipFill>
          <a:blip r:embed="rId1"/>
          <a:stretch/>
        </p:blipFill>
        <p:spPr>
          <a:xfrm>
            <a:off x="3657600" y="0"/>
            <a:ext cx="52293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380880"/>
            <a:ext cx="42670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веркающий метеор промелькнула в русской истории судьба Прасковьи Жемчуговой, крепостной графов Шереметевых и замечательной певицы. Юная Паша Жемчугова обладала необычайно колоритным, теплым и мягким голосом, яркой, запоминающейся внешност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была дочерью крепостного кузнеца Ковалева, но поскольку Шереметевы интересовались культурой, у них был свой театр, то на способности Паши рано обратили внимание. В 7 лет ее начали учить пению. а в 11 она стала почти профессиональной актрис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Паша повзрослела, в нее самозабвенно влюбился молодой граф Николай Шереметев. Любовь была взаимной и страстной, но она не принесла счастья Паше Жемчуг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25680" cy="5790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1T00:03:50Z</dcterms:created>
  <dc:creator>User</dc:creator>
  <dc:description/>
  <dc:language>en-US</dc:language>
  <cp:lastModifiedBy>User</cp:lastModifiedBy>
  <dcterms:modified xsi:type="dcterms:W3CDTF">2017-09-22T19:34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