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F6E-E05C-4CB3-BA68-6FE431A9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082-8031-48A4-8798-8EC09DF6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F5A-135A-4298-9B92-7760D53C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05B-9966-465E-B0FB-480314D7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0E6-E5D3-4599-A41D-174581D2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451-EFB6-40CD-ADE5-5F59F8E3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C98-0624-46B5-B719-CB1007EF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E6A-2034-4C6F-9486-49DAB2D0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D06-F270-4A09-98E6-D5B8E0FE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DA6-2E17-4147-BB49-5B9327F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049-46D4-40C0-A742-64D12F14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BB2-F283-4A1C-8D7F-40A9BB4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06C3-7F54-42D7-B846-DFCC69557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6880" y="2285640"/>
            <a:ext cx="57610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гровые приемы и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методы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на уроках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англий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24000" y="3933360"/>
            <a:ext cx="521964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етрюк Тамара      Ильинич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рисунок"/>
          <p:cNvPicPr/>
          <p:nvPr/>
        </p:nvPicPr>
        <p:blipFill>
          <a:blip r:embed="rId2"/>
          <a:stretch/>
        </p:blipFill>
        <p:spPr>
          <a:xfrm>
            <a:off x="-285840" y="3254400"/>
            <a:ext cx="3996000" cy="3603600"/>
          </a:xfrm>
          <a:prstGeom prst="rect">
            <a:avLst/>
          </a:prstGeom>
          <a:ln w="0">
            <a:noFill/>
          </a:ln>
        </p:spPr>
      </p:pic>
      <p:pic>
        <p:nvPicPr>
          <p:cNvPr id="45" name="усатый нянь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C:\Users\shestakov\Desktop\эскиз - копия.jpg"/>
          <p:cNvPicPr/>
          <p:nvPr/>
        </p:nvPicPr>
        <p:blipFill>
          <a:blip r:embed="rId4"/>
          <a:srcRect l="0" t="0" r="3299" b="6045"/>
          <a:stretch/>
        </p:blipFill>
        <p:spPr>
          <a:xfrm>
            <a:off x="2786040" y="0"/>
            <a:ext cx="2936880" cy="1149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logo"/>
          <p:cNvPicPr/>
          <p:nvPr/>
        </p:nvPicPr>
        <p:blipFill>
          <a:blip r:embed="rId5"/>
          <a:stretch/>
        </p:blipFill>
        <p:spPr>
          <a:xfrm>
            <a:off x="7437600" y="6286680"/>
            <a:ext cx="1706400" cy="466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4166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гра – путь детей к познанию мира, в котором они живу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 который они призваны измен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7632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тобы сохранить инте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учащихся к предмету с первого до последнего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оздать атмосферу поиска и творчества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чтобы учиться было интерес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ему нужно обучать на уроках английского я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4000" y="260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Ради чег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676908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 характеру игро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метод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м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юж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Ролев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Делов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Имитацио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Игры-драмат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mult16"/>
          <p:cNvPicPr/>
          <p:nvPr/>
        </p:nvPicPr>
        <p:blipFill>
          <a:blip r:embed="rId2"/>
          <a:stretch/>
        </p:blipFill>
        <p:spPr>
          <a:xfrm>
            <a:off x="5867280" y="2349360"/>
            <a:ext cx="2868840" cy="3789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 характеру педагогиче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роце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Обучающие, тренировочные, контролирующие, обобщ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ознавательные, воспитательные, развив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Твор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офориентацио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ult9"/>
          <p:cNvPicPr/>
          <p:nvPr/>
        </p:nvPicPr>
        <p:blipFill>
          <a:blip r:embed="rId2"/>
          <a:stretch/>
        </p:blipFill>
        <p:spPr>
          <a:xfrm>
            <a:off x="468360" y="3500280"/>
            <a:ext cx="2427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0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НУЖНО ВСЕГДА ПОМН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Выбор формы игры должен быть педагогически и дидактически обоснован.Нужно всегда знать ЦЕЛИ использования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2. В играх должно быть задействовано как можно больш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3. Игры должны соответствовать возрасту и языковым возможностям де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. е. быть ДОСТУП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4. Игры служат развитию всех видов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images 2"/>
          <p:cNvPicPr/>
          <p:nvPr/>
        </p:nvPicPr>
        <p:blipFill>
          <a:blip r:embed="rId2"/>
          <a:stretch/>
        </p:blipFill>
        <p:spPr>
          <a:xfrm>
            <a:off x="6804000" y="3716280"/>
            <a:ext cx="2060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Грамма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употреблению речевых образцов, содержащих определенные грамматические труд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здать естественную ситуацию для употребления данного речевого образ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звить речевую активность и самостоятель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Monotype Corsiva"/>
              </a:rPr>
              <a:t>Лексическ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Тренировать учащихся в употреблении лексики в ситуациях, приближенных к естественной обстан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Активизировать речемыслительную деятельность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азвивать речевую реакцию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ознакомить учащихся с сочетаемостью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Рисунок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67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Фоне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ренировать учащихся в произношении английских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громко и отчетливо читать стихотвор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ировать навыки фонетического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686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движн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в качестве физкультминуток, для закрепления лексического и грамматическ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Игры с пальчиками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для развития мелкой моторики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00:12Z</dcterms:created>
  <dc:creator>Customer</dc:creator>
  <dc:description/>
  <dc:language>en-US</dc:language>
  <cp:lastModifiedBy>PetrjukTI</cp:lastModifiedBy>
  <dcterms:modified xsi:type="dcterms:W3CDTF">2017-09-16T14:09:02Z</dcterms:modified>
  <cp:revision>50</cp:revision>
  <dc:subject/>
  <dc:title>Слайд 1</dc:title>
</cp:coreProperties>
</file>