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978C-6515-406F-9CDA-DBA2E58DA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51C3-1D53-4783-8997-32B6615C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A302-32B7-48EB-9896-5C30556A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D8CB-EB13-4C04-A983-29C4F3404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BB3C-2EA3-43EC-AE63-D72F48FB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25D5-4E28-4913-8212-481984DA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34B7-CFD4-4A25-9748-08996B8C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4F2B-098E-4AC7-BFCB-3A7624DA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5D4F-9EAF-43FE-B470-95B619A6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D815-FC88-4B23-924A-26273936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9E86-0048-46C1-9D17-BBB76562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731C-4E70-469F-AF9F-212B634B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7079-C0A7-4465-91F6-A4FBAAFB91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56880" y="2285640"/>
            <a:ext cx="576108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Monotype Corsiva"/>
              </a:rPr>
              <a:t>Игровые приемы и 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Monotype Corsiva"/>
              </a:rPr>
              <a:t>методы 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Monotype Corsiva"/>
              </a:rPr>
              <a:t>на уроках 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Monotype Corsiva"/>
              </a:rPr>
              <a:t>английского язы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24000" y="3933360"/>
            <a:ext cx="5219640" cy="24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Петрюк Тамара      Ильинич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Учитель английск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рисунок"/>
          <p:cNvPicPr/>
          <p:nvPr/>
        </p:nvPicPr>
        <p:blipFill>
          <a:blip r:embed="rId2"/>
          <a:stretch/>
        </p:blipFill>
        <p:spPr>
          <a:xfrm>
            <a:off x="-285840" y="3254400"/>
            <a:ext cx="3996000" cy="3603600"/>
          </a:xfrm>
          <a:prstGeom prst="rect">
            <a:avLst/>
          </a:prstGeom>
          <a:ln w="0">
            <a:noFill/>
          </a:ln>
        </p:spPr>
      </p:pic>
      <p:pic>
        <p:nvPicPr>
          <p:cNvPr id="45" name="усатый нянь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9" descr="C:\Users\shestakov\Desktop\эскиз - копия.jpg"/>
          <p:cNvPicPr/>
          <p:nvPr/>
        </p:nvPicPr>
        <p:blipFill>
          <a:blip r:embed="rId4"/>
          <a:srcRect l="0" t="0" r="3299" b="6045"/>
          <a:stretch/>
        </p:blipFill>
        <p:spPr>
          <a:xfrm>
            <a:off x="2786040" y="0"/>
            <a:ext cx="2936880" cy="11494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9" descr="logo"/>
          <p:cNvPicPr/>
          <p:nvPr/>
        </p:nvPicPr>
        <p:blipFill>
          <a:blip r:embed="rId5"/>
          <a:stretch/>
        </p:blipFill>
        <p:spPr>
          <a:xfrm>
            <a:off x="7437600" y="6286680"/>
            <a:ext cx="1706400" cy="466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6500"/>
                            </p:stCondLst>
                            <p:childTnLst>
                              <p:par>
                                <p:cTn id="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750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41668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Monotype Corsiva"/>
              </a:rPr>
              <a:t>Игра – путь детей к познанию мира, в котором они живут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Monotype Corsiva"/>
              </a:rPr>
              <a:t>и который они призваны измени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800"/>
                            </p:stCondLst>
                            <p:childTnLst>
                              <p:par>
                                <p:cTn id="23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7632720" cy="522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Как сделать та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чтобы сохранить интере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учащихся к предмету с первого до последнего уро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Как создать атмосферу поиска и творчества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Как сделать так, чтобы учиться было интересн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Чему нужно обучать на уроках английского язы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24000" y="26028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Monotype Corsiva"/>
              </a:rPr>
              <a:t>Ради чего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2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676908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Monotype Corsiva"/>
              </a:rPr>
              <a:t>По характеру игров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i="1" lang="ru-RU" sz="4000" spc="-1" strike="noStrike">
                <a:solidFill>
                  <a:srgbClr val="333399"/>
                </a:solidFill>
                <a:latin typeface="Monotype Corsiva"/>
              </a:rPr>
              <a:t>метод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Предметны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Сюжетны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Ролевы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Деловы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Имитационны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Игры-драмат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mult16"/>
          <p:cNvPicPr/>
          <p:nvPr/>
        </p:nvPicPr>
        <p:blipFill>
          <a:blip r:embed="rId2"/>
          <a:stretch/>
        </p:blipFill>
        <p:spPr>
          <a:xfrm>
            <a:off x="5867280" y="2349360"/>
            <a:ext cx="2868840" cy="37893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1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0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1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362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Monotype Corsiva"/>
              </a:rPr>
              <a:t>По характеру педагогическ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Monotype Corsiva"/>
              </a:rPr>
              <a:t>процесс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Обучающие, тренировочные, контролирующие, обобщающи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Познавательные, воспитательные, развивающи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Творчески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Профориентационны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mult9"/>
          <p:cNvPicPr/>
          <p:nvPr/>
        </p:nvPicPr>
        <p:blipFill>
          <a:blip r:embed="rId2"/>
          <a:stretch/>
        </p:blipFill>
        <p:spPr>
          <a:xfrm>
            <a:off x="468360" y="3500280"/>
            <a:ext cx="242712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-360" y="0"/>
            <a:ext cx="7093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Monotype Corsiva"/>
              </a:rPr>
              <a:t>НУЖНО ВСЕГДА ПОМНИ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Выбор формы игры должен быть педагогически и дидактически обоснован.Нужно всегда знать ЦЕЛИ использования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2. В играх должно быть задействовано как можно больше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3. Игры должны соответствовать возрасту и языковым возможностям дет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т. е. быть ДОСТУП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4. Игры служат развитию всех видов речев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images 2"/>
          <p:cNvPicPr/>
          <p:nvPr/>
        </p:nvPicPr>
        <p:blipFill>
          <a:blip r:embed="rId2"/>
          <a:stretch/>
        </p:blipFill>
        <p:spPr>
          <a:xfrm>
            <a:off x="6804000" y="3716280"/>
            <a:ext cx="20606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20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Рисунок1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Monotype Corsiva"/>
              </a:rPr>
              <a:t>Грамматические иг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учить учащихся употреблению речевых образцов, содержащих определенные грамматические труд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оздать естественную ситуацию для употребления данного речевого образ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Развить речевую активность и самостоятельность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00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Рисунок1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7138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Monotype Corsiva"/>
              </a:rPr>
              <a:t>Лексические иг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Тренировать учащихся в употреблении лексики в ситуациях, приближенных к естественной обстанов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Активизировать речемыслительную деятельность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Развивать речевую реакцию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Познакомить учащихся с сочетаемостью с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8000"/>
                            </p:stCondLst>
                            <p:childTnLst>
                              <p:par>
                                <p:cTn id="1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2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Рисунок1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-360" y="475920"/>
            <a:ext cx="867564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Monotype Corsiva"/>
              </a:rPr>
              <a:t>Фонетические иг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Тренировать учащихся в произношении английских сл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учить учащихся громко и отчетливо читать стихотвор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Формировать навыки фонетического сл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6868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Monotype Corsiva"/>
              </a:rPr>
              <a:t>Подвижные иг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спользуются в качестве физкультминуток, для закрепления лексического и грамматического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Monotype Corsiva"/>
              </a:rPr>
              <a:t>Игры с пальчиками</a:t>
            </a: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спользуются для развития мелкой моторики ру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2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1:00:12Z</dcterms:created>
  <dc:creator>Customer</dc:creator>
  <dc:description/>
  <dc:language>en-US</dc:language>
  <cp:lastModifiedBy>PetrjukTI</cp:lastModifiedBy>
  <dcterms:modified xsi:type="dcterms:W3CDTF">2017-09-16T14:09:02Z</dcterms:modified>
  <cp:revision>50</cp:revision>
  <dc:subject/>
  <dc:title>Слайд 1</dc:title>
</cp:coreProperties>
</file>