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2A2-BB88-4027-8934-025F6A23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088-A92B-4E68-AEAB-F1B7BF8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CE5-C373-456E-86C2-593C959A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D5D-42E3-40C3-A4BE-1A2FD886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93F-F1A8-4F15-8D57-E403AF43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3B4-5D2D-43C5-B849-5D908A2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50B-8A74-46B9-B6A3-4A299634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FB8-6A70-49CA-9F0C-E65FC61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CE6-B1AA-4CAA-AA32-DDAF28B0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F88-9331-4DB8-BFE5-D9FE175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6F0-9A4F-4452-A436-0E7F104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A82-AF57-4BF8-B8BE-8A523CE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6F8-6B5F-41C3-ABFC-F5E4A4ABD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 Black"/>
              </a:rPr>
              <a:t>Голодный аллигато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690560"/>
            <a:ext cx="10515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GO We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аковский Сергей, ГБОУ Школа №1460, 3 «Б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276720" y="3105000"/>
            <a:ext cx="5638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Программировани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9520" y="2408040"/>
            <a:ext cx="39322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м программу, которая определяет поведение мод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04920" y="1236600"/>
            <a:ext cx="11887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Программа работает верно, механические детали соединены прави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ОДЕЛЬ РАБОТА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мотрим видео испытани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"/>
          <p:cNvSpPr/>
          <p:nvPr/>
        </p:nvSpPr>
        <p:spPr>
          <a:xfrm>
            <a:off x="450720" y="1546200"/>
            <a:ext cx="112172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Список литерат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 LEGO® Education WeDo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ягин А.В. Образовательная робототехника Lego WeDo. Сборник методических рекомендаций и практикумов. "ДМК-Пресс", 201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81080" y="117360"/>
            <a:ext cx="115394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 хочу поня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электрическая энергия переходит в механическу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ередается движение от детали к дет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работа датчика движения меняет поведение мо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этого я построю модель аллигатора и испытаю её. Мне понадобятся компьютер и конструктор Lego We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опыта аллигатор ждёт, когда появится пища. Датчик расстояния сообщает об этом, аллигатор закрывает пасть, программа включает звук «Хрус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ан выполнения проек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борка моде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ыт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9520" y="113940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Начало работы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9520" y="2279160"/>
            <a:ext cx="3932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инаем сборку модели по инструк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Подключение мотор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9520" y="2344680"/>
            <a:ext cx="393228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ектрическая энергия передается от компьютера к мот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 Light"/>
              </a:rPr>
              <a:t>Зубчатая передач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2305080"/>
            <a:ext cx="39322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тор вращает зубчатое колес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Зубчатая передач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9520" y="2408040"/>
            <a:ext cx="39322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 колесо сцепляется зубцами со вторым колесом и вращает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Датчик расстоя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2344680"/>
            <a:ext cx="393228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тчик расстояния распознает появление пищи, передает сигнал компьютер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олняется та часть программы, которая отвечает за закрывание челюстей и звук (хрус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Ременная передач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Рисунок 6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2279160"/>
            <a:ext cx="393228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помощи жгута энергия передается челюстям аллигатора, и он открывает и закрывает 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 Light"/>
              </a:rPr>
              <a:t>Подключение к компьютер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5183280" y="98748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9520" y="2692440"/>
            <a:ext cx="39322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ключаем датчик расстояния и мотор к коммутат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5:52:37Z</dcterms:created>
  <dc:creator>Екатерина Романова</dc:creator>
  <dc:description/>
  <dc:language>en-US</dc:language>
  <cp:lastModifiedBy>Иван</cp:lastModifiedBy>
  <dcterms:modified xsi:type="dcterms:W3CDTF">2017-09-21T20:55:56Z</dcterms:modified>
  <cp:revision>10</cp:revision>
  <dc:subject/>
  <dc:title>Презентация PowerPoint</dc:title>
</cp:coreProperties>
</file>