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42E-E2C9-42DF-A1B8-DA964B1D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311-9D17-4886-9315-2E27473F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E64-BD97-42CF-8BD8-3AE94221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E63-BD13-4684-9CCC-C114926E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735-95CC-4D74-B448-CAEEE0C6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096-A267-4D98-AD22-BAFFEFE8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0AF-C93F-4B90-961F-22F17E25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6B7-61C6-4381-B14D-153FA6B7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C02-1DF0-4C23-85DE-B4D1BEF1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BC5-6853-423B-A2BD-F1275648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649-E428-46EA-BABC-E259E47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B99-B9D8-41EE-B9FE-ACA6A996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211C-5B3E-4361-9992-450AC69576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884160"/>
            <a:ext cx="7772400" cy="290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058920" y="4076280"/>
            <a:ext cx="56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дготовила: воспит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категории Филиных Т.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solidFill>
            <a:srgbClr val="ffcccc">
              <a:alpha val="3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чу вам представить  нашу  клумбу Компас. Это очень интересная,   многофункциональная и полезная клумба. Мы создавали её с родителями в несколько этапов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Вначале мы из деревянных досок сделали 4 трёх угольника, получилось 4 стороны света, но как показать их детям ведь они не могут читать. Тогда мы решили обозначить стороны света  цветами. Выбрали петуниями разных цветов и обозначили: север- белыми, юг- жёлтыми, запад –синими, восток – красными цветами.  А каркасы покрасили в соответствующие цвета.     По компасу  выставили  все стороны. Наш компас готов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3" descr="F:\день нептуна 2017\DSC_5397.jpg"/>
          <p:cNvPicPr/>
          <p:nvPr/>
        </p:nvPicPr>
        <p:blipFill>
          <a:blip r:embed="rId1"/>
          <a:srcRect l="10583" t="12181" r="0" b="0"/>
          <a:stretch/>
        </p:blipFill>
        <p:spPr>
          <a:xfrm>
            <a:off x="1332000" y="2349360"/>
            <a:ext cx="61434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solidFill>
            <a:srgbClr val="ffcccc">
              <a:alpha val="3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о подумав, я решила, что по нашему компасу можно определять направление ветра и в середину приделала палочку с султанчикам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перь получилась полностью функциональная  и красивая клумба - флюгер, которая помогает решать познавательные и трудовые  цели и задачи:  прививать любовь к природе,  желание познать процессы, происходящие в природе,  расширять представления о неживой природе, воспитывать любознательность, развивать трудовые навы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C:\Users\user2\Desktop\группа\20170904_103527.jpg"/>
          <p:cNvPicPr/>
          <p:nvPr/>
        </p:nvPicPr>
        <p:blipFill>
          <a:blip r:embed="rId1"/>
          <a:srcRect l="9615" t="14815" r="18751" b="0"/>
          <a:stretch/>
        </p:blipFill>
        <p:spPr>
          <a:xfrm>
            <a:off x="1692360" y="1989000"/>
            <a:ext cx="691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>
              <a:alpha val="3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C:\Users\user2\Desktop\группа\20170831_111026.jpg"/>
          <p:cNvPicPr/>
          <p:nvPr/>
        </p:nvPicPr>
        <p:blipFill>
          <a:blip r:embed="rId1"/>
          <a:srcRect l="9295" t="0" r="24521" b="0"/>
          <a:stretch/>
        </p:blipFill>
        <p:spPr>
          <a:xfrm>
            <a:off x="1476360" y="1700280"/>
            <a:ext cx="612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13:58:19Z</dcterms:created>
  <dc:creator>User</dc:creator>
  <dc:description/>
  <dc:language>en-US</dc:language>
  <cp:lastModifiedBy>HP</cp:lastModifiedBy>
  <dcterms:modified xsi:type="dcterms:W3CDTF">2017-09-22T12:38:44Z</dcterms:modified>
  <cp:revision>4</cp:revision>
  <dc:subject/>
  <dc:title>Презентация PowerPoint</dc:title>
</cp:coreProperties>
</file>