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D8DA-1FD6-48D7-A8CE-D3A2DEA6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187C-6FF8-4FF6-AC00-65B21012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FEBF-2F99-4DAF-B684-5B221B02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1BF2-0875-4B30-9D27-EB10E0B9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E7F8-3E28-4BC8-A269-F3737E0B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A26B-BE90-4165-B1B2-280E6DFC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E11E-5C73-4A62-B788-422939E4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21A4-DB29-4F9E-96F4-94FD9BEC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0069-6B50-4FB3-906A-E789F84D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6BC4-6141-4E24-AD18-AF12011C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EEDB-DBC7-45E5-BD41-B63FDC37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85D5-E2D0-4FF7-9643-D66C0B32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4359-2155-49D3-9D34-290F7A1133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828720" y="884160"/>
            <a:ext cx="7772400" cy="290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058920" y="4076280"/>
            <a:ext cx="5616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одготовила: воспита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1 категории Филиных Т.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solidFill>
            <a:srgbClr val="ffcccc">
              <a:alpha val="3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Хочу вам представить  нашу  клумбу Компас. Это очень интересная,   многофункциональная и полезная клумба. Мы создавали её с родителями в несколько этапов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Вначале мы из деревянных досок сделали 4 трёх угольника, получилось 4 стороны света, но как показать их детям ведь они не могут читать. Тогда мы решили обозначить стороны света  цветами. Выбрали петуниями разных цветов и обозначили: север- белыми, юг- жёлтыми, запад –синими, восток – красными цветами.  А каркасы покрасили в соответствующие цвета.     По компасу  выставили  все стороны. Наш компас готов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Объект 3" descr="F:\день нептуна 2017\DSC_5397.jpg"/>
          <p:cNvPicPr/>
          <p:nvPr/>
        </p:nvPicPr>
        <p:blipFill>
          <a:blip r:embed="rId1"/>
          <a:srcRect l="10583" t="12181" r="0" b="0"/>
          <a:stretch/>
        </p:blipFill>
        <p:spPr>
          <a:xfrm>
            <a:off x="1332000" y="2349360"/>
            <a:ext cx="61434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solidFill>
            <a:srgbClr val="ffcccc">
              <a:alpha val="3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о подумав, я решила, что по нашему компасу можно определять направление ветра и в середину приделала палочку с султанчиками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еперь получилась полностью функциональная  и красивая клумба - флюгер, которая помогает решать познавательные и трудовые  цели и задачи:  прививать любовь к природе,  желание познать процессы, происходящие в природе,  расширять представления о неживой природе, воспитывать любознательность, развивать трудовые навы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Объект 3" descr="C:\Users\user2\Desktop\группа\20170904_103527.jpg"/>
          <p:cNvPicPr/>
          <p:nvPr/>
        </p:nvPicPr>
        <p:blipFill>
          <a:blip r:embed="rId1"/>
          <a:srcRect l="9615" t="14815" r="18751" b="0"/>
          <a:stretch/>
        </p:blipFill>
        <p:spPr>
          <a:xfrm>
            <a:off x="1692360" y="1989000"/>
            <a:ext cx="6912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cc">
              <a:alpha val="3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Объект 3" descr="C:\Users\user2\Desktop\группа\20170831_111026.jpg"/>
          <p:cNvPicPr/>
          <p:nvPr/>
        </p:nvPicPr>
        <p:blipFill>
          <a:blip r:embed="rId1"/>
          <a:srcRect l="9295" t="0" r="24521" b="0"/>
          <a:stretch/>
        </p:blipFill>
        <p:spPr>
          <a:xfrm>
            <a:off x="1476360" y="1700280"/>
            <a:ext cx="6120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2T13:58:19Z</dcterms:created>
  <dc:creator>User</dc:creator>
  <dc:description/>
  <dc:language>en-US</dc:language>
  <cp:lastModifiedBy>HP</cp:lastModifiedBy>
  <dcterms:modified xsi:type="dcterms:W3CDTF">2017-09-22T12:38:44Z</dcterms:modified>
  <cp:revision>4</cp:revision>
  <dc:subject/>
  <dc:title>Презентация PowerPoint</dc:title>
</cp:coreProperties>
</file>