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3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23.jpeg" ContentType="image/jpeg"/>
  <Override PartName="/ppt/media/image38.jpeg" ContentType="image/jpeg"/>
  <Override PartName="/ppt/media/image1.wmf" ContentType="image/x-wmf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769-B2AA-4B28-98C9-29382713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1A8-6856-4BA8-BD44-2FFA734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386-1299-49C1-9221-F2CA0B6A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0AD-A843-483F-B29B-6A0AA012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E79-4BCC-4D9C-A859-B5B2A6E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3A0-15F9-4288-ADDA-E328486E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EC3-A789-4D67-B6AC-D82A9D2B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C7D-0F69-45C6-AD7C-F087168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D34-45E6-427F-BE09-FC20FC45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967-BBE5-496F-906D-AE5CD40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72F-5BDD-46C2-BDFF-9296B05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50F-AA44-4588-AD84-FAE1BDC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E69-593A-4BE1-A41F-C83D9FD06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17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6600cc"/>
                </a:solidFill>
                <a:latin typeface="Arial"/>
              </a:rPr>
              <a:t>Багутова Нәзирә Миннәхмәтовна </a:t>
            </a:r>
            <a:br>
              <a:rPr sz="2800"/>
            </a:br>
            <a:r>
              <a:rPr b="1" lang="tt-RU" sz="2400" spc="-1" strike="noStrike">
                <a:solidFill>
                  <a:srgbClr val="6600cc"/>
                </a:solidFill>
                <a:latin typeface="Arial"/>
              </a:rPr>
              <a:t>Саба районы, Явлаштау балалар бакч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476280"/>
            <a:ext cx="734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Юлның хәвефле  урынна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476280"/>
            <a:ext cx="5832720" cy="554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55640" y="1773360"/>
            <a:ext cx="39956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Мин  сары  тө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Игътибарлы  бу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Урамда  ә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Ачык  түгел  ю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4797360"/>
            <a:ext cx="2043000" cy="181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42920" y="5445000"/>
            <a:ext cx="360360" cy="289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084640"/>
            <a:ext cx="360360" cy="2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805360"/>
            <a:ext cx="360360" cy="2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476280"/>
            <a:ext cx="5832720" cy="5545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700000" y="1989000"/>
            <a:ext cx="3995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Мин  яшел  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Сиңа  юл  ач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Ашыкмый  г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Урам  аша  ч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4797360"/>
            <a:ext cx="2043000" cy="181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42920" y="5084640"/>
            <a:ext cx="360360" cy="2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5445000"/>
            <a:ext cx="360360" cy="2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5805360"/>
            <a:ext cx="360360" cy="2890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0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0720" cy="543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6000" y="2997360"/>
            <a:ext cx="792000" cy="6476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1197000"/>
            <a:ext cx="936360" cy="7920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060640"/>
            <a:ext cx="936720" cy="7920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76840" cy="381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838440" cy="103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5113440" cy="34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24000" y="4148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6551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52347" t="76943" r="8367" b="2949"/>
          <a:stretch/>
        </p:blipFill>
        <p:spPr>
          <a:xfrm>
            <a:off x="6372360" y="260280"/>
            <a:ext cx="2212920" cy="223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2735280" cy="1755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843280" y="2637000"/>
            <a:ext cx="3166920" cy="1631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3213000"/>
            <a:ext cx="2771640" cy="170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012000" y="3213000"/>
            <a:ext cx="2879640" cy="1735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596360" y="5589720"/>
            <a:ext cx="744480" cy="74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847800" cy="73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1979640" y="5661000"/>
            <a:ext cx="7920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395280" y="5661000"/>
            <a:ext cx="847800" cy="73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348000" y="5734080"/>
            <a:ext cx="79236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6300720" y="5661000"/>
            <a:ext cx="79236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3213000"/>
            <a:ext cx="900000" cy="649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0"/>
            <a:ext cx="900000" cy="649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56720" y="3213000"/>
            <a:ext cx="900000" cy="649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7080" y="45360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lang="tt-RU" sz="2400" spc="-1" strike="noStrike">
                <a:solidFill>
                  <a:srgbClr val="6600cc"/>
                </a:solidFill>
                <a:latin typeface="Arial"/>
              </a:rPr>
              <a:t>Үз парын тап”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-0.47639 -0.76389 E">
                                      <p:cBhvr>
                                        <p:cTn id="20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-0.18229 -0.80024 E">
                                      <p:cBhvr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0.16945 -0.50162 E">
                                      <p:cBhvr>
                                        <p:cTn id="2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50008" t="0" r="0" b="50417"/>
          <a:stretch/>
        </p:blipFill>
        <p:spPr>
          <a:xfrm>
            <a:off x="250920" y="3357720"/>
            <a:ext cx="4248000" cy="2420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50008" t="51653" r="0" b="0"/>
          <a:stretch/>
        </p:blipFill>
        <p:spPr>
          <a:xfrm>
            <a:off x="4716360" y="3429000"/>
            <a:ext cx="4248360" cy="2360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0" r="50008" b="49825"/>
          <a:stretch/>
        </p:blipFill>
        <p:spPr>
          <a:xfrm>
            <a:off x="250920" y="404640"/>
            <a:ext cx="4248000" cy="2449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rcRect l="0" t="50188" r="49143" b="0"/>
          <a:stretch/>
        </p:blipFill>
        <p:spPr>
          <a:xfrm>
            <a:off x="4822920" y="549360"/>
            <a:ext cx="4321080" cy="2431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2997360"/>
            <a:ext cx="503280" cy="50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8360" y="2997360"/>
            <a:ext cx="503280" cy="50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5805360"/>
            <a:ext cx="503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4000" y="5805360"/>
            <a:ext cx="503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41018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H="1">
            <a:off x="755640" y="4076640"/>
            <a:ext cx="7920000" cy="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765000"/>
            <a:ext cx="8281800" cy="324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1484280"/>
            <a:ext cx="129708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341360"/>
            <a:ext cx="1368720" cy="23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3357720"/>
            <a:ext cx="1873080" cy="165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287280" cy="214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357720"/>
            <a:ext cx="1873080" cy="165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3933720"/>
            <a:ext cx="287280" cy="214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620640"/>
            <a:ext cx="287280" cy="214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933720"/>
            <a:ext cx="287280" cy="214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765000"/>
            <a:ext cx="0" cy="33116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3080" y="692280"/>
            <a:ext cx="0" cy="331128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26920" y="692280"/>
            <a:ext cx="7848720" cy="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9800" y="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5760" y="414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1413000"/>
            <a:ext cx="129708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1413000"/>
            <a:ext cx="129708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0920" y="5661000"/>
            <a:ext cx="568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бу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1268280"/>
            <a:ext cx="1368360" cy="23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956720" y="3357720"/>
            <a:ext cx="287280" cy="1800000"/>
          </a:xfrm>
          <a:prstGeom prst="line">
            <a:avLst/>
          </a:prstGeom>
          <a:ln w="111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31899" t="0" r="20223" b="50279"/>
          <a:stretch/>
        </p:blipFill>
        <p:spPr>
          <a:xfrm>
            <a:off x="5796000" y="1771560"/>
            <a:ext cx="122544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39589" t="28580" r="0" b="34773"/>
          <a:stretch/>
        </p:blipFill>
        <p:spPr>
          <a:xfrm>
            <a:off x="4284720" y="1844640"/>
            <a:ext cx="129528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16000" y="1484280"/>
            <a:ext cx="1165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4241880" cy="566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227640" y="476280"/>
            <a:ext cx="1729080" cy="149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732720" y="4941720"/>
            <a:ext cx="1390680" cy="139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68000" y="2205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уркыныч  борыл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372360" y="2781360"/>
            <a:ext cx="1584360" cy="1373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65280" y="43848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искен борыл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7280" y="287280"/>
            <a:ext cx="4132440" cy="558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404640"/>
            <a:ext cx="1933560" cy="1676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15240" y="2492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инәт төш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5240" y="56610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инәт мен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527640" cy="460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303960" cy="54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04640"/>
            <a:ext cx="1514520" cy="1514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236000" y="2708280"/>
            <a:ext cx="1214280" cy="1052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308720" y="4624560"/>
            <a:ext cx="1359000" cy="11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5236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Төп 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3080" y="3860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Юл б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5600" y="6093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Юллар  кисешкән ч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211640" y="1989000"/>
            <a:ext cx="566640" cy="49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708360" y="5229360"/>
            <a:ext cx="576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3280" t="51505" r="58187" b="28556"/>
          <a:stretch/>
        </p:blipFill>
        <p:spPr>
          <a:xfrm>
            <a:off x="611280" y="1197000"/>
            <a:ext cx="4308480" cy="439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23032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184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757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476280"/>
            <a:ext cx="5832720" cy="554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626920" y="1699920"/>
            <a:ext cx="4249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Мин  кызыл  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Тукта шунда  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Алга  бары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Димәк  һич юл ю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4797360"/>
            <a:ext cx="2043000" cy="181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5445000"/>
            <a:ext cx="360360" cy="2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805360"/>
            <a:ext cx="360360" cy="2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0:14:05Z</dcterms:created>
  <dc:creator>student</dc:creator>
  <dc:description/>
  <dc:language>en-US</dc:language>
  <cp:lastModifiedBy>Илгиз</cp:lastModifiedBy>
  <dcterms:modified xsi:type="dcterms:W3CDTF">2017-09-22T20:25:35Z</dcterms:modified>
  <cp:revision>15</cp:revision>
  <dc:subject/>
  <dc:title>Слайд 1</dc:title>
</cp:coreProperties>
</file>