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503-389A-431A-B66E-30D80017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74A-6509-4452-BA88-87F02A76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C04-9B24-46AB-95C5-B1B8A4B7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AF3-C314-4936-97C3-963D0BAD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0E7A-0674-47FB-9279-AC83096A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45CC-E027-4561-829C-3C118E52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AD3B-D1B8-42C9-824A-D02C7EAF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7DE1-B1E2-4F56-8D7A-5433C0DA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6DDC-66BF-403D-8960-3F0DCE6E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4E0D-C2CD-4223-A6F0-82DEB17D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F6D7-B77C-41E1-9816-92707DB1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281-B9A0-4404-A402-CB5890D4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6347-7A66-46A5-A7B1-95244E8D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8551-ED9A-4F72-97DF-5FFCE07C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EE25-31A0-4B03-AA66-D68D56F6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F31D-1D5C-466A-955C-65CB3B3B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F30B-A839-45AF-B405-2FE15A8D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605C-4D12-46C4-89D8-67BAA024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680B9-7CBF-44F9-9A6A-0110725D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5B2D-FB7E-49FA-96F3-401E3EDB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8BF3-CFC9-403B-8E5C-694D81F5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35635-2DFA-4638-B9EE-53082246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AE1-5699-4881-BFD3-6798CF19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8437B-07CC-4DB8-A7D4-E28F5E88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FF23A-8485-497B-8CAC-A74D497C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CB612-49B0-474A-85CA-6D8E3201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1772-4A6D-4BE8-8345-0BCBF3CF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75EA-F622-49CA-A9C4-AE00FA6A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C4C1-170D-4690-9FB3-0A85E03F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C607F-206D-4AC3-B337-C823396E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65E46-9BEE-4A86-B19B-1F82E8DD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45761-0CCB-4F6D-A598-21DD98A3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B98F2-ADC5-4C2F-A671-D37D44F6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AB8-D2B7-4F8A-AC46-B074F285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FFD14-B45C-4C5C-A197-1A70C399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3296D-81EC-4CFC-A5AC-EB0DF988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DCB3E-78E2-4512-AA71-2FAF9836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B2BB-6042-4740-A5A2-11C5F97C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CBA17-F7F1-4A87-92E1-BC91CAF2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CDA6A-3C74-4821-9418-17A03858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471A1-7F1A-4A57-94A4-0FC8EDAD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D4A71-5D01-47A1-A3F8-98A0DDA2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51A15-7EEF-4F21-ACDB-A1727832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E92-A7B9-4D8E-B7D9-D7987C45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7AE-DC32-4C2F-AFDB-0AC501B4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772-4C7D-4F3B-B105-CE79A38B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E39-0277-4CE7-A7CD-A087E841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AC1-EA00-48A2-82E8-ACF682F1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2680" cy="164268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6920" cy="2071440"/>
          </a:xfrm>
          <a:prstGeom prst="rect">
            <a:avLst/>
          </a:prstGeom>
          <a:ln w="0">
            <a:noFill/>
          </a:ln>
        </p:spPr>
      </p:pic>
      <p:pic>
        <p:nvPicPr>
          <p:cNvPr id="2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560" y="-348840"/>
            <a:ext cx="3330360" cy="268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7EDA85-64A0-4B29-934B-9CC28881171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ACF014-56CC-49BA-8835-5607D839F9F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BB8D9A-40BC-4EC2-A1E9-E3C94D94B26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3D9AC6-8FA4-4B87-A14B-93499C5C4E4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71640" y="1484640"/>
            <a:ext cx="5428800" cy="251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«Лэпбук  как современное средство обучения детей дошкольного возраста»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 flipV="1">
            <a:off x="7858080" y="97200"/>
            <a:ext cx="7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12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786720" y="5572080"/>
            <a:ext cx="739440" cy="1649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algn="ctr"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8b8b8b"/>
                </a:solidFill>
                <a:latin typeface="Calibri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 flipV="1">
            <a:off x="3429000" y="5433480"/>
            <a:ext cx="400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3000240" y="4929120"/>
            <a:ext cx="4500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7"/>
          <p:cNvSpPr/>
          <p:nvPr/>
        </p:nvSpPr>
        <p:spPr>
          <a:xfrm flipV="1" rot="10800000">
            <a:off x="4286520" y="4903560"/>
            <a:ext cx="3285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ставила: Парфенова И. К. воспитатель 1 квалификационной катег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8"/>
          <p:cNvSpPr/>
          <p:nvPr/>
        </p:nvSpPr>
        <p:spPr>
          <a:xfrm>
            <a:off x="2286000" y="2967480"/>
            <a:ext cx="45716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d0d0d"/>
              </a:solidFill>
              <a:latin typeface="Times New Roman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3204000" y="269280"/>
            <a:ext cx="4104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ниципальное дошкольное образовательное учреждение детский сад № 13 г. Рыб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2364840" y="6196680"/>
            <a:ext cx="4248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прель 20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1115640" y="548640"/>
            <a:ext cx="669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рытый временной конец деятельности (каждый работает в своем темп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12680" y="1645200"/>
            <a:ext cx="3456000" cy="460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4932000" y="1634040"/>
            <a:ext cx="34729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022400" y="3092400"/>
            <a:ext cx="2520000" cy="3359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Documents and Settings\Администратор\Рабочий стол\фото для лэпбукаНовая папка\IMG_20161109_161159_HDR.jpg"/>
          <p:cNvPicPr/>
          <p:nvPr/>
        </p:nvPicPr>
        <p:blipFill>
          <a:blip r:embed="rId2"/>
          <a:stretch/>
        </p:blipFill>
        <p:spPr>
          <a:xfrm>
            <a:off x="1355040" y="461520"/>
            <a:ext cx="1854720" cy="2472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Администратор\Рабочий стол\фото для лэпбукаНовая папка\IMG_20161109_155531_HDR.jpg"/>
          <p:cNvPicPr/>
          <p:nvPr/>
        </p:nvPicPr>
        <p:blipFill>
          <a:blip r:embed="rId3"/>
          <a:stretch/>
        </p:blipFill>
        <p:spPr>
          <a:xfrm>
            <a:off x="4140000" y="3584880"/>
            <a:ext cx="2160000" cy="2880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C:\Documents and Settings\Администратор\Рабочий стол\фото для лэпбукаНовая папка\IMG_20161109_155539_HDR.jpg"/>
          <p:cNvPicPr/>
          <p:nvPr/>
        </p:nvPicPr>
        <p:blipFill>
          <a:blip r:embed="rId4"/>
          <a:stretch/>
        </p:blipFill>
        <p:spPr>
          <a:xfrm>
            <a:off x="6495840" y="3573000"/>
            <a:ext cx="2165040" cy="2886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5"/>
          <a:stretch/>
        </p:blipFill>
        <p:spPr>
          <a:xfrm>
            <a:off x="4428000" y="443880"/>
            <a:ext cx="3920760" cy="29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C:\Documents and Settings\Администратор\Рабочий стол\фото для лэпбукаНовая папка\IMG_20161107_111145_HDR.jpg"/>
          <p:cNvPicPr/>
          <p:nvPr/>
        </p:nvPicPr>
        <p:blipFill>
          <a:blip r:embed="rId1"/>
          <a:stretch/>
        </p:blipFill>
        <p:spPr>
          <a:xfrm>
            <a:off x="899640" y="1018080"/>
            <a:ext cx="3384000" cy="4512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Documents and Settings\Администратор\Рабочий стол\фото для лэпбукаНовая папка\IMG_20161109_155625_HDR.jpg"/>
          <p:cNvPicPr/>
          <p:nvPr/>
        </p:nvPicPr>
        <p:blipFill>
          <a:blip r:embed="rId2"/>
          <a:stretch/>
        </p:blipFill>
        <p:spPr>
          <a:xfrm>
            <a:off x="4500000" y="3598200"/>
            <a:ext cx="2052000" cy="2736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Documents and Settings\Администратор\Рабочий стол\фото для лэпбукаНовая папка\IMG_20161109_155635_HDR.jpg"/>
          <p:cNvPicPr/>
          <p:nvPr/>
        </p:nvPicPr>
        <p:blipFill>
          <a:blip r:embed="rId3"/>
          <a:stretch/>
        </p:blipFill>
        <p:spPr>
          <a:xfrm>
            <a:off x="6712200" y="3645000"/>
            <a:ext cx="1981440" cy="264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C:\Documents and Settings\Администратор\Рабочий стол\фото для лэпбукаНовая папка\IMG_20161109_155650_HDR.jpg"/>
          <p:cNvPicPr/>
          <p:nvPr/>
        </p:nvPicPr>
        <p:blipFill>
          <a:blip r:embed="rId4"/>
          <a:stretch/>
        </p:blipFill>
        <p:spPr>
          <a:xfrm>
            <a:off x="4788000" y="524880"/>
            <a:ext cx="383112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714320"/>
            <a:ext cx="7772040" cy="4053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1. Лэпбук – </a:t>
            </a:r>
            <a:r>
              <a:rPr b="1" lang="ru-RU" sz="2400" spc="-1" strike="noStrike" u="sng" cap="all">
                <a:solidFill>
                  <a:srgbClr val="000000"/>
                </a:solidFill>
                <a:uFillTx/>
                <a:latin typeface="Calibri"/>
              </a:rPr>
              <a:t>активизирует</a:t>
            </a: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 у детей </a:t>
            </a:r>
            <a:r>
              <a:rPr b="1" lang="ru-RU" sz="2400" spc="-1" strike="noStrike" u="sng" cap="all">
                <a:solidFill>
                  <a:srgbClr val="000000"/>
                </a:solidFill>
                <a:uFillTx/>
                <a:latin typeface="Calibri"/>
              </a:rPr>
              <a:t>интерес</a:t>
            </a: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 к познавательной деятельности;</a:t>
            </a:r>
            <a:br>
              <a:rPr sz="2400"/>
            </a:b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2.Появляется возможность </a:t>
            </a:r>
            <a:r>
              <a:rPr b="1" lang="ru-RU" sz="2400" spc="-1" strike="noStrike" u="sng" cap="all">
                <a:solidFill>
                  <a:srgbClr val="000000"/>
                </a:solidFill>
                <a:uFillTx/>
                <a:latin typeface="Calibri"/>
              </a:rPr>
              <a:t>проявить</a:t>
            </a: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 себя </a:t>
            </a:r>
            <a:r>
              <a:rPr b="1" lang="ru-RU" sz="2400" spc="-1" strike="noStrike" u="sng" cap="all">
                <a:solidFill>
                  <a:srgbClr val="000000"/>
                </a:solidFill>
                <a:uFillTx/>
                <a:latin typeface="Calibri"/>
              </a:rPr>
              <a:t>каждому ребёнку!</a:t>
            </a:r>
            <a:br>
              <a:rPr sz="2400"/>
            </a:b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3.  Помогает детям </a:t>
            </a:r>
            <a:r>
              <a:rPr b="1" lang="ru-RU" sz="2400" spc="-1" strike="noStrike" u="sng" cap="all">
                <a:solidFill>
                  <a:srgbClr val="000000"/>
                </a:solidFill>
                <a:uFillTx/>
                <a:latin typeface="Calibri"/>
              </a:rPr>
              <a:t>лучше понять и запомнить информацию </a:t>
            </a: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(особенно, если ребёнок визуал)</a:t>
            </a:r>
            <a:br>
              <a:rPr sz="2400"/>
            </a:b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4.  Лэпбук – позволяет </a:t>
            </a:r>
            <a:r>
              <a:rPr b="1" lang="ru-RU" sz="2400" spc="-1" strike="noStrike" u="sng" cap="all">
                <a:solidFill>
                  <a:srgbClr val="000000"/>
                </a:solidFill>
                <a:uFillTx/>
                <a:latin typeface="Calibri"/>
              </a:rPr>
              <a:t>сохранить </a:t>
            </a: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собранный </a:t>
            </a:r>
            <a:r>
              <a:rPr b="1" lang="ru-RU" sz="2400" spc="-1" strike="noStrike" u="sng" cap="all">
                <a:solidFill>
                  <a:srgbClr val="000000"/>
                </a:solidFill>
                <a:uFillTx/>
                <a:latin typeface="Calibri"/>
              </a:rPr>
              <a:t>материал;</a:t>
            </a:r>
            <a:br>
              <a:rPr sz="2400"/>
            </a:b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5. Это просто </a:t>
            </a:r>
            <a:r>
              <a:rPr b="1" lang="ru-RU" sz="2400" spc="-1" strike="noStrike" u="sng" cap="all">
                <a:solidFill>
                  <a:srgbClr val="000000"/>
                </a:solidFill>
                <a:uFillTx/>
                <a:latin typeface="Calibri"/>
              </a:rPr>
              <a:t>интересное и творческое занятие</a:t>
            </a: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!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2858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ff9855"/>
                </a:solidFill>
                <a:latin typeface="Calibri"/>
              </a:rPr>
              <a:t>Зачем нужен лэпбук?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-1500120" y="78588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2160" y="1357200"/>
            <a:ext cx="7772040" cy="441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-   ребёнок  самостоятельно собирает  нужную информацию</a:t>
            </a:r>
            <a:br>
              <a:rPr sz="2400"/>
            </a:b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   -  Побуждает интерес у детей к познавательному развитию</a:t>
            </a:r>
            <a:br>
              <a:rPr sz="2400"/>
            </a:b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  -  Может разнообразить занятие или совместную деятельность со взрослым</a:t>
            </a:r>
            <a:br>
              <a:rPr sz="2400"/>
            </a:b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-  Развивает креативность и творческое мышление, речь</a:t>
            </a:r>
            <a:br>
              <a:rPr sz="2400"/>
            </a:b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-  Объединяет людей для увлекательного и полезного занятия</a:t>
            </a:r>
            <a:br>
              <a:rPr sz="2400"/>
            </a:br>
            <a:r>
              <a:rPr b="1" lang="ru-RU" sz="2400" spc="-1" strike="noStrike" cap="all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31640" y="332640"/>
            <a:ext cx="6843240" cy="928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9855"/>
                </a:solidFill>
                <a:latin typeface="Calibri"/>
              </a:rPr>
              <a:t>ПРЕИМУЩЕСТВА    ЛЭПБУ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Администратор\Рабочий стол\временная\IMG_20170613_153941.jpg"/>
          <p:cNvPicPr/>
          <p:nvPr/>
        </p:nvPicPr>
        <p:blipFill>
          <a:blip r:embed="rId1"/>
          <a:stretch/>
        </p:blipFill>
        <p:spPr>
          <a:xfrm>
            <a:off x="827640" y="433008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Documents and Settings\Администратор\Рабочий стол\временная\IMG_20170614_121745.jpg"/>
          <p:cNvPicPr/>
          <p:nvPr/>
        </p:nvPicPr>
        <p:blipFill>
          <a:blip r:embed="rId2"/>
          <a:stretch/>
        </p:blipFill>
        <p:spPr>
          <a:xfrm>
            <a:off x="1187640" y="1689120"/>
            <a:ext cx="1728000" cy="2304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Documents and Settings\Администратор\Рабочий стол\фото для тани (2)\IMG_20170403_161846.jpg"/>
          <p:cNvPicPr/>
          <p:nvPr/>
        </p:nvPicPr>
        <p:blipFill>
          <a:blip r:embed="rId3"/>
          <a:stretch/>
        </p:blipFill>
        <p:spPr>
          <a:xfrm>
            <a:off x="3924000" y="4180320"/>
            <a:ext cx="1656000" cy="2207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Documents and Settings\Администратор\Рабочий стол\фото для лэпбукаНовая папка\IMG_20161109_155401_HDR.jpg"/>
          <p:cNvPicPr/>
          <p:nvPr/>
        </p:nvPicPr>
        <p:blipFill>
          <a:blip r:embed="rId4"/>
          <a:stretch/>
        </p:blipFill>
        <p:spPr>
          <a:xfrm>
            <a:off x="6588360" y="1806480"/>
            <a:ext cx="1551600" cy="206856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2331000" y="404640"/>
            <a:ext cx="4841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9855"/>
                </a:solidFill>
                <a:latin typeface="Calibri"/>
              </a:rPr>
              <a:t>Наши  лэпбук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C:\Documents and Settings\Администратор\Рабочий стол\временная\IMG_20170628_122312.jpg"/>
          <p:cNvPicPr/>
          <p:nvPr/>
        </p:nvPicPr>
        <p:blipFill>
          <a:blip r:embed="rId5"/>
          <a:stretch/>
        </p:blipFill>
        <p:spPr>
          <a:xfrm>
            <a:off x="3132000" y="1842120"/>
            <a:ext cx="2664000" cy="199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Администратор\Рабочий стол\временная\IMG_20170627_090933.jpg"/>
          <p:cNvPicPr/>
          <p:nvPr/>
        </p:nvPicPr>
        <p:blipFill>
          <a:blip r:embed="rId6"/>
          <a:stretch/>
        </p:blipFill>
        <p:spPr>
          <a:xfrm>
            <a:off x="5995800" y="4330080"/>
            <a:ext cx="25714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4"/>
          <p:cNvSpPr/>
          <p:nvPr/>
        </p:nvSpPr>
        <p:spPr>
          <a:xfrm>
            <a:off x="1199160" y="764640"/>
            <a:ext cx="684036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годня государством поставлена задача – подготовить совершенно новое поколение: активное, любознательное. В связи с этим перед нами педагогами встала задача поиска новых нестандартных форм взаимодействия с воспитанниками. На смену  традиционному образованию приходит продуктивное обучение, которое направлено на формирование познавательной активности;  развитие продуктивного мышления, творческих способ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им из перспективных методов, способствующих решению данной проблемы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эпб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6012000" y="3639600"/>
            <a:ext cx="2707200" cy="27072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899640" y="3570840"/>
            <a:ext cx="2016000" cy="28447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755640" y="563760"/>
            <a:ext cx="3130920" cy="2348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3132000" y="4142520"/>
            <a:ext cx="2667600" cy="2244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81" name="TextBox 1"/>
          <p:cNvSpPr/>
          <p:nvPr/>
        </p:nvSpPr>
        <p:spPr>
          <a:xfrm>
            <a:off x="4039200" y="893160"/>
            <a:ext cx="46800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эпбу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сравнительно новое средство обучения. В дословном переводе с английского значит «наколенная книга»  (lap – колени, book – книга), или, как ее еще называют, тематическая или интерактивная пап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023840" y="3836520"/>
            <a:ext cx="3187800" cy="239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5195160" y="3861000"/>
            <a:ext cx="3274920" cy="245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1023840" y="483120"/>
            <a:ext cx="2376000" cy="316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Documents and Settings\Администратор\Рабочий стол\фото для лэпбукаНовая папка\IMG_20161109_155401_HDR.jpg"/>
          <p:cNvPicPr/>
          <p:nvPr/>
        </p:nvPicPr>
        <p:blipFill>
          <a:blip r:embed="rId4"/>
          <a:stretch/>
        </p:blipFill>
        <p:spPr>
          <a:xfrm>
            <a:off x="6084000" y="476640"/>
            <a:ext cx="2376000" cy="316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"/>
          <p:cNvSpPr/>
          <p:nvPr/>
        </p:nvSpPr>
        <p:spPr>
          <a:xfrm>
            <a:off x="3420000" y="497520"/>
            <a:ext cx="2664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самодельная бумажная папка с кармашками, дверками, окошками, подвижными деталями, которые ребенок может достать, перекладывать, складывать по своему усмот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1691640" y="2277000"/>
            <a:ext cx="5616360" cy="4212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"/>
          <p:cNvSpPr/>
          <p:nvPr/>
        </p:nvSpPr>
        <p:spPr>
          <a:xfrm>
            <a:off x="1403640" y="548640"/>
            <a:ext cx="6696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игра, творчество, познание и исследование нового, повторение и закрепление изученного, систематизация знаний и просто интересный вид совместной деятельности. Но, несмотря на кажущую простоту, в ней содержатся все необходимые материалы по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nts and Settings\Администратор\Рабочий стол\временная\IMG_20170622_163203.jpg"/>
          <p:cNvPicPr/>
          <p:nvPr/>
        </p:nvPicPr>
        <p:blipFill>
          <a:blip r:embed="rId1"/>
          <a:stretch/>
        </p:blipFill>
        <p:spPr>
          <a:xfrm>
            <a:off x="827640" y="332640"/>
            <a:ext cx="3672000" cy="2754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C:\Documents and Settings\Администратор\Рабочий стол\временная\IMG_20170622_162951.jpg"/>
          <p:cNvPicPr/>
          <p:nvPr/>
        </p:nvPicPr>
        <p:blipFill>
          <a:blip r:embed="rId2"/>
          <a:stretch/>
        </p:blipFill>
        <p:spPr>
          <a:xfrm>
            <a:off x="6219360" y="3153240"/>
            <a:ext cx="2448000" cy="3264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C:\Documents and Settings\Администратор\Рабочий стол\временная\IMG_20170622_162819.jpg"/>
          <p:cNvPicPr/>
          <p:nvPr/>
        </p:nvPicPr>
        <p:blipFill>
          <a:blip r:embed="rId3"/>
          <a:stretch/>
        </p:blipFill>
        <p:spPr>
          <a:xfrm>
            <a:off x="899640" y="3153240"/>
            <a:ext cx="2448000" cy="3264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C:\Documents and Settings\Администратор\Рабочий стол\фото для юли 2\IMG_20170403_161608.jpg"/>
          <p:cNvPicPr/>
          <p:nvPr/>
        </p:nvPicPr>
        <p:blipFill>
          <a:blip r:embed="rId4"/>
          <a:stretch/>
        </p:blipFill>
        <p:spPr>
          <a:xfrm>
            <a:off x="3492000" y="3153240"/>
            <a:ext cx="2448000" cy="3264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:\Documents and Settings\Администратор\Рабочий стол\временная\IMG_20170613_153917.jpg"/>
          <p:cNvPicPr/>
          <p:nvPr/>
        </p:nvPicPr>
        <p:blipFill>
          <a:blip r:embed="rId5"/>
          <a:stretch/>
        </p:blipFill>
        <p:spPr>
          <a:xfrm>
            <a:off x="4788000" y="370440"/>
            <a:ext cx="36216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3"/>
          <p:cNvSpPr/>
          <p:nvPr/>
        </p:nvSpPr>
        <p:spPr>
          <a:xfrm>
            <a:off x="899640" y="326880"/>
            <a:ext cx="7776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эпбук отвечает основным тезисам партнерской деятельности взрослого с детьми, на которые указывает Н.А.Коротк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ность воспитателя в деятельность наравне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878840" y="2265840"/>
            <a:ext cx="5443200" cy="40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1187640" y="332640"/>
            <a:ext cx="7272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ровольное присоединение дошкольников к деятельности (без психического и дисциплинарного принужд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:\Documents and Settings\Администратор\Рабочий стол\фото для лэпбукаНовая папка\IMG_20161109_161422_HDR.jpg"/>
          <p:cNvPicPr/>
          <p:nvPr/>
        </p:nvPicPr>
        <p:blipFill>
          <a:blip r:embed="rId1"/>
          <a:stretch/>
        </p:blipFill>
        <p:spPr>
          <a:xfrm>
            <a:off x="1331640" y="1510200"/>
            <a:ext cx="6596280" cy="494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1439640" y="332640"/>
            <a:ext cx="71838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ободное общение и перемещение детей во время деятельности (при соответствии и организации рабочего простран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406880" y="1484640"/>
            <a:ext cx="6819480" cy="48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  <Words>297</Words>
  <Paragraphs>2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Парфенова И.К</cp:lastModifiedBy>
  <dcterms:modified xsi:type="dcterms:W3CDTF">2017-09-22T16:12:47Z</dcterms:modified>
  <cp:revision>17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