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FDBB-4AA4-4FA9-AFBC-AA1D899455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780B-6CA8-4815-AA4D-CAF65E6A8A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BF2A-1E50-4680-B9E9-2DEDC83B62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капит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DA7E-CF56-46FA-8677-C9267918D2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859A-A519-4C9F-8723-3B95959BFE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E705-293E-48AD-B4F8-1F91F2B589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23A6-C5A7-42F6-AAE9-D4A82D65B7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C07F-6E4A-40BC-9B12-4ADFCC5CC0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7F1-A83F-4B5F-9408-FDBB17DA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CAE-8274-402A-B957-027B10ED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5AF-04A6-4C98-B590-70C08722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3D8-0949-4FDC-B189-147DADBE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30C6-13ED-4BF5-935D-39B7D134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B89F-0051-4681-B09B-3EB0C01F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1EF7-8AC5-449F-B5BF-59D98FDF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7C72-1BF5-4579-878B-1727082B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7E79-7F13-4031-BEE7-E5951CAB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0624-11FC-4DF1-8297-077C5744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9F73-AFAC-4DAC-9F45-58E7DA66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DB7-3299-4AA1-875C-42701F6A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5090-2BDF-4302-95BD-DCBB0E39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3629-6A5C-4D32-9AF6-92094980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1266-D2C2-4F8E-9C7C-ADF81336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0F5B-72BE-4F05-B155-B922AACF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5376-CFBA-4C2C-9D7E-C6E4A755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90F18-CAEB-4BC6-9CCC-AF45A077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1B74-7BF0-4460-A3AB-6CE056F6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797B-336C-4373-AF41-44D59C75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C44F-16AC-4B51-A254-B6D3FFDF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594EB-6A88-47F4-935F-7521CD4F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01C-4BA3-4C9E-BC2E-705A258C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974F8-D6A5-412F-B72D-C540951D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F3CA3-9C09-4903-8C89-79EC1437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6404C-AED7-42CB-9DD6-74167BFA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E289-D907-45EA-89C6-E6C76337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4798-192A-4D9E-BBF6-4F40F490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5535B-634F-4A31-B995-01D9ACD6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3A833-0E10-4F8A-8318-4D344CA5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FA5C2-3C42-4DD9-A63D-873A4257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D7F16-BBCF-4AE9-8D7A-B28EFB3B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48E56-BC4A-4FF1-A23A-55DAEC39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6AE-8909-477C-8734-452510AE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C65AC-BD2D-4FD2-B576-3F640101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4D1D-DE50-4236-AEBF-F44D8BA7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C3007-D0CA-46C0-A234-E63F16F1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88D86-7B0F-4E5B-B100-E878E0EE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DBE04-5070-404A-A334-8677B1A9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C6D1-BEA2-4C72-94B1-9B97F207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E9B96-B126-4024-81D0-693802BE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A17C0-4E91-4E5F-8653-AE896ED9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C7A6-D851-4D32-BE6D-CB58FEC5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702-592F-47A1-8024-3F9FCF63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7C2-C64F-407D-A29C-215707FB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1EF-D261-4AA7-90CE-F9EEECF6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CA8-B095-4AFD-A19D-716FEEE9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09A-611A-44A1-A9E0-91A403D0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B2F3-8659-4C12-9648-FB57A5DDF10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E72B-36AA-45F8-A73F-7230DF7E85E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8AFD-8C2C-458B-8137-783AD5E6074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5A17-42A0-46C1-9F9F-25011097765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542880" y="115920"/>
            <a:ext cx="6510240" cy="4218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0" y="2995560"/>
            <a:ext cx="49323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907920" y="66672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1489f"/>
                </a:solidFill>
                <a:latin typeface="Trebuchet MS"/>
              </a:rPr>
              <a:t>Приветствие команд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468440" y="1916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2421000" y="549360"/>
            <a:ext cx="430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568d11"/>
                </a:solidFill>
                <a:latin typeface="Trebuchet MS"/>
              </a:rPr>
              <a:t>Разминка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395280" y="1844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306a"/>
                </a:solidFill>
                <a:latin typeface="Trebuchet MS"/>
              </a:rPr>
              <a:t>Покажите  фразеологизмы так, чтобы соперники могли их угадать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5508720" y="2322360"/>
            <a:ext cx="3635280" cy="451332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3"/>
          <p:cNvSpPr/>
          <p:nvPr/>
        </p:nvSpPr>
        <p:spPr>
          <a:xfrm>
            <a:off x="600120" y="275256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Водить за но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607320" y="31496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Кататься ,как сыр в мас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600120" y="34862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Вешать лапшу на уш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65280" y="3882960"/>
            <a:ext cx="37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Обвести вокруг пальц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Прямоугольник 8"/>
          <p:cNvSpPr/>
          <p:nvPr/>
        </p:nvSpPr>
        <p:spPr>
          <a:xfrm>
            <a:off x="665280" y="4183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Опускать ру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Прямоугольник 9"/>
          <p:cNvSpPr/>
          <p:nvPr/>
        </p:nvSpPr>
        <p:spPr>
          <a:xfrm>
            <a:off x="592560" y="4560840"/>
            <a:ext cx="22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Умывать ру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рямоугольник 10"/>
          <p:cNvSpPr/>
          <p:nvPr/>
        </p:nvSpPr>
        <p:spPr>
          <a:xfrm>
            <a:off x="598680" y="494820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Вбить в голов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Прямоугольник 11"/>
          <p:cNvSpPr/>
          <p:nvPr/>
        </p:nvSpPr>
        <p:spPr>
          <a:xfrm>
            <a:off x="514800" y="52578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Больной вопро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Прямоугольник 12"/>
          <p:cNvSpPr/>
          <p:nvPr/>
        </p:nvSpPr>
        <p:spPr>
          <a:xfrm>
            <a:off x="556560" y="559764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Trebuchet MS"/>
              </a:rPr>
              <a:t>Намотать на у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1182240" y="333360"/>
            <a:ext cx="740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21a08"/>
                </a:solidFill>
                <a:latin typeface="Trebuchet MS"/>
              </a:rPr>
              <a:t>Конкурс капитанов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3526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1122120" y="12366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воя нош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Прямоугольник 2"/>
          <p:cNvSpPr/>
          <p:nvPr/>
        </p:nvSpPr>
        <p:spPr>
          <a:xfrm>
            <a:off x="1188000" y="692280"/>
            <a:ext cx="20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е в службу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2971080" y="6922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 в дружб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Прямоугольник 4"/>
          <p:cNvSpPr/>
          <p:nvPr/>
        </p:nvSpPr>
        <p:spPr>
          <a:xfrm>
            <a:off x="1254240" y="1698480"/>
            <a:ext cx="18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ек долог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угольник 5"/>
          <p:cNvSpPr/>
          <p:nvPr/>
        </p:nvSpPr>
        <p:spPr>
          <a:xfrm>
            <a:off x="1189080" y="227664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лаза глядят (страшат)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1281960" y="2909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орька работ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1254240" y="4105440"/>
            <a:ext cx="26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то рано встает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Прямоугольник 8"/>
          <p:cNvSpPr/>
          <p:nvPr/>
        </p:nvSpPr>
        <p:spPr>
          <a:xfrm>
            <a:off x="1180080" y="3548160"/>
            <a:ext cx="31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сле дела и гуля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Прямоугольник 11"/>
          <p:cNvSpPr/>
          <p:nvPr/>
        </p:nvSpPr>
        <p:spPr>
          <a:xfrm>
            <a:off x="1181520" y="4662360"/>
            <a:ext cx="29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е печь кормит, 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Прямоугольник 12"/>
          <p:cNvSpPr/>
          <p:nvPr/>
        </p:nvSpPr>
        <p:spPr>
          <a:xfrm>
            <a:off x="1179360" y="522936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то много лежит, у того и бок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оугольник 13"/>
          <p:cNvSpPr/>
          <p:nvPr/>
        </p:nvSpPr>
        <p:spPr>
          <a:xfrm>
            <a:off x="3091320" y="12747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е тян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14"/>
          <p:cNvSpPr/>
          <p:nvPr/>
        </p:nvSpPr>
        <p:spPr>
          <a:xfrm>
            <a:off x="3016800" y="1676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а час доро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Прямоугольник 15"/>
          <p:cNvSpPr/>
          <p:nvPr/>
        </p:nvSpPr>
        <p:spPr>
          <a:xfrm>
            <a:off x="4670280" y="229536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 руки делаю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Прямоугольник 16"/>
          <p:cNvSpPr/>
          <p:nvPr/>
        </p:nvSpPr>
        <p:spPr>
          <a:xfrm>
            <a:off x="3799440" y="294948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а хлеб сладок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Прямоугольник 17"/>
          <p:cNvSpPr/>
          <p:nvPr/>
        </p:nvSpPr>
        <p:spPr>
          <a:xfrm>
            <a:off x="4494240" y="3557520"/>
            <a:ext cx="28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хорош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Прямоугольник 18"/>
          <p:cNvSpPr/>
          <p:nvPr/>
        </p:nvSpPr>
        <p:spPr>
          <a:xfrm>
            <a:off x="3704040" y="410544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ому бог пода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Прямоугольник 19"/>
          <p:cNvSpPr/>
          <p:nvPr/>
        </p:nvSpPr>
        <p:spPr>
          <a:xfrm>
            <a:off x="4179600" y="466092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у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5983560" y="521640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оли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1042920" y="1170000"/>
            <a:ext cx="60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85c00"/>
                </a:solidFill>
                <a:latin typeface="Trebuchet MS"/>
              </a:rPr>
              <a:t>Перепись переписала трижды переписанные результаты перепис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042920" y="2492280"/>
          <a:ext cx="6400800" cy="1555920"/>
        </p:xfrm>
        <a:graphic>
          <a:graphicData uri="http://schemas.openxmlformats.org/drawingml/2006/table">
            <a:tbl>
              <a:tblPr/>
              <a:tblGrid>
                <a:gridCol w="6400800"/>
              </a:tblGrid>
              <a:tr h="1555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e67c8"/>
                          </a:solidFill>
                          <a:latin typeface="Trebuchet MS"/>
                        </a:rPr>
                        <a:t>Пригрезилось Ивану Грозному, что грозны Иваны грязные.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4e67c8"/>
                          </a:solidFill>
                          <a:latin typeface="Trebuchet MS"/>
                        </a:rPr>
                        <a:t>А Иваны не грязные и не грозные даже для Грозного</a:t>
                      </a:r>
                      <a:r>
                        <a:rPr b="0" lang="ru-RU" sz="1800" spc="-1" strike="noStrike">
                          <a:solidFill>
                            <a:srgbClr val="4e67c8"/>
                          </a:solidFill>
                          <a:latin typeface="Trebuchet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Rectangle 1"/>
          <p:cNvSpPr/>
          <p:nvPr/>
        </p:nvSpPr>
        <p:spPr>
          <a:xfrm>
            <a:off x="5560560" y="1827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Прямоугольник 4"/>
          <p:cNvSpPr/>
          <p:nvPr/>
        </p:nvSpPr>
        <p:spPr>
          <a:xfrm>
            <a:off x="1042920" y="4581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 старика и старух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ыл котёнок черноухи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ерноухий и белощёки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елобрюхий и чернобок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Прямоугольник 5"/>
          <p:cNvSpPr/>
          <p:nvPr/>
        </p:nvSpPr>
        <p:spPr>
          <a:xfrm>
            <a:off x="1143000" y="549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306a"/>
                </a:solidFill>
                <a:latin typeface="Trebuchet MS"/>
              </a:rPr>
              <a:t>Скороговорки 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468360" y="981000"/>
            <a:ext cx="84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rebuchet MS"/>
              </a:rPr>
              <a:t>Домашнее задание : «День ученика»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627280" y="3105000"/>
            <a:ext cx="29527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611280" y="463680"/>
            <a:ext cx="79423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c779d"/>
                </a:solidFill>
                <a:latin typeface="Trebuchet MS"/>
              </a:rPr>
              <a:t>Экспромт : «Придумай стихотворение</a:t>
            </a:r>
            <a:r>
              <a:rPr b="0" lang="ru-RU" sz="5400" spc="-1" strike="noStrike">
                <a:solidFill>
                  <a:srgbClr val="0c779d"/>
                </a:solidFill>
                <a:latin typeface="Trebuchet MS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648400" y="3111480"/>
            <a:ext cx="3495600" cy="36957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2"/>
          <p:cNvSpPr/>
          <p:nvPr/>
        </p:nvSpPr>
        <p:spPr>
          <a:xfrm>
            <a:off x="684360" y="206388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Ёлки – игол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Ёж – не похож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684360" y="321300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Зелень-темен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570960" y="367524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Кошка-окошк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Прямоугольник 5"/>
          <p:cNvSpPr/>
          <p:nvPr/>
        </p:nvSpPr>
        <p:spPr>
          <a:xfrm>
            <a:off x="755640" y="4923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гра-пора    вопрос-подро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2238480" y="189000"/>
            <a:ext cx="466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Спасибо!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619280" y="1511280"/>
            <a:ext cx="61405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0:15:04Z</dcterms:created>
  <dc:creator>UserXP</dc:creator>
  <dc:description/>
  <dc:language>en-US</dc:language>
  <cp:lastModifiedBy>user</cp:lastModifiedBy>
  <dcterms:modified xsi:type="dcterms:W3CDTF">2017-09-22T17:25:21Z</dcterms:modified>
  <cp:revision>15</cp:revision>
  <dc:subject/>
  <dc:title>Мы начинаем КВН</dc:title>
</cp:coreProperties>
</file>