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7916-9693-4D6F-B657-ABAEA35A0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744C-1F10-4AF5-A891-D8F3846A6F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8D61-D55D-4892-8655-8F19813CD3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капит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CAE-2751-4578-93AB-2E85320B88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3B5-86BC-4E10-A3C8-C33964D0C3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706-15A0-451D-BB27-D0C8B12104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256-BFCE-49F9-8C6B-F846599D7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291B-3931-4B2D-BBF4-0B947857B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18-510B-4533-A976-D9DADD83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516-2EF6-49BF-A1D0-C54AF77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CE5-E731-4F73-91C7-9041CB3B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560-D723-4762-87C4-753E1D97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BE63-1E24-4F0D-AC9B-034CC62C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DDE-6144-42BF-94A2-B6E2BDB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D55A-1EF8-4B79-944E-A20AAD1D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7E83-4BB9-4097-9146-A7A3E9E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58D-8DE0-46F5-AE92-FBD0B381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9087-59F8-4EDD-BF43-BE381810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A8AF-4EA8-4C35-AB90-1734169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BAA-437A-4C5F-B0B4-C6E11A3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EED-3FC2-4FAC-BCA0-6A976C6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7230-C76A-4618-A496-57B5216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834-8D00-4127-9030-76FE190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F2FB-0541-4292-9B31-D650D220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32C-1B26-48A6-9D01-600CA197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DB14-B905-440B-A891-BFD13DC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E245-C10D-430A-9963-6F82EFC1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DD4C-E361-4CC6-99EF-88DF010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02F0-64D6-40FE-A520-26BCC8A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2F21-B6D7-48AA-B37F-660C581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F7F-F5DD-43E9-ADB4-928BC80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50B5-56AD-4ACF-8E0D-798BE5B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DAB7-5E7A-4A1A-80CE-CEA75F7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3BBB-6669-4005-B657-3E82516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0C74-849B-4919-9C2A-EA47360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44AB-8441-469C-83A8-9C15C3C1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B554-088A-47A9-AD29-CA83A0C7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3D79-ADE5-4E67-82FD-D1A1C6C2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90C3-8A02-4D0C-AE49-420C7A18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D032-92C2-4A25-B8CF-AC9015F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5839-5A98-4E95-87A8-D7C028B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01E-7544-4090-B8F3-BC20E87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86B4-EFBC-4BD7-809D-3D95344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FBE1-136A-4DD6-BEA1-5DA4F07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83B4-93F0-4A99-B610-F8FD9E24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4794-6FA4-4E0C-AF63-5F104BE8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B337-617D-4C0F-9475-40E71D4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7818-3CB2-480A-A10C-81C8648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D418-DF41-4DDE-885C-B0FBF45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6037-D31C-4948-85EA-C1FE5E30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E516-EB5A-49CF-8B1B-49F2D9C4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F35-0B9D-452A-BDAA-6A546D43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8BE-8F61-488C-AD9E-E53E371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06-1AF7-4168-90DD-24E14695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B6B-61BF-4958-94AF-3E622C5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5C3-10F7-4FE6-97EF-D09ECE8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21E-E27B-4562-92F3-CBB110E5980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F57-8ABA-4143-9E8B-C2FF4CC2649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B59-9967-4B48-AD3D-6018D5DF5E6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2822-3C32-4790-9AD1-ADD49925AC3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542880" y="115920"/>
            <a:ext cx="6510240" cy="4218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0" y="2995560"/>
            <a:ext cx="4932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907920" y="66672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Приветствие команд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46844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421000" y="54936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68d11"/>
                </a:solidFill>
                <a:latin typeface="Trebuchet MS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95280" y="184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rebuchet MS"/>
              </a:rPr>
              <a:t>Покажите  фразеологизмы так, чтобы соперники могли их угада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5508720" y="2322360"/>
            <a:ext cx="3635280" cy="45133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600120" y="27525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одить за н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607320" y="3149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Кататься ,как сыр в мас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600120" y="34862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ешать лапшу на уш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65280" y="3882960"/>
            <a:ext cx="37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Обвести вокруг паль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8"/>
          <p:cNvSpPr/>
          <p:nvPr/>
        </p:nvSpPr>
        <p:spPr>
          <a:xfrm>
            <a:off x="665280" y="418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Опускать 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9"/>
          <p:cNvSpPr/>
          <p:nvPr/>
        </p:nvSpPr>
        <p:spPr>
          <a:xfrm>
            <a:off x="592560" y="456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Умывать 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598680" y="49482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бить в голов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ямоугольник 11"/>
          <p:cNvSpPr/>
          <p:nvPr/>
        </p:nvSpPr>
        <p:spPr>
          <a:xfrm>
            <a:off x="51480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Больной воп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12"/>
          <p:cNvSpPr/>
          <p:nvPr/>
        </p:nvSpPr>
        <p:spPr>
          <a:xfrm>
            <a:off x="556560" y="55976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Намотать на у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82240" y="333360"/>
            <a:ext cx="74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21a08"/>
                </a:solidFill>
                <a:latin typeface="Trebuchet MS"/>
              </a:rPr>
              <a:t>Конкурс капитанов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352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122120" y="12366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оя нош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88000" y="6922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в служб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2971080" y="692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в дружб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1254240" y="169848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к долог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1189080" y="227664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лаза глядят (страшат)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1281960" y="2909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орька работ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254240" y="4105440"/>
            <a:ext cx="26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то рано встает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180080" y="354816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ле дела и гуля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1181520" y="466236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печь кормит, 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1179360" y="5229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то много лежит, у того и б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3091320" y="12747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тя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4"/>
          <p:cNvSpPr/>
          <p:nvPr/>
        </p:nvSpPr>
        <p:spPr>
          <a:xfrm>
            <a:off x="3016800" y="1676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час дор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15"/>
          <p:cNvSpPr/>
          <p:nvPr/>
        </p:nvSpPr>
        <p:spPr>
          <a:xfrm>
            <a:off x="4670280" y="229536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руки делаю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3799440" y="2949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хлеб слад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4494240" y="355752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рош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3704040" y="410544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му бог под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179600" y="4660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5983560" y="5216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и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1042920" y="117000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5c00"/>
                </a:solidFill>
                <a:latin typeface="Trebuchet MS"/>
              </a:rPr>
              <a:t>Перепись переписала трижды переписанные результаты перепис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42920" y="2492280"/>
          <a:ext cx="6400800" cy="155592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555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Пригрезилось Ивану Грозному, что грозны Иваны грязные.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А Иваны не грязные и не грозные даже для Грозного</a:t>
                      </a:r>
                      <a:r>
                        <a:rPr b="0" lang="ru-RU" sz="18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Rectangle 1"/>
          <p:cNvSpPr/>
          <p:nvPr/>
        </p:nvSpPr>
        <p:spPr>
          <a:xfrm>
            <a:off x="5560560" y="182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1042920" y="4581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 старика и старух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ыл котёнок черноух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рноухий и белощёк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обрюхий и чернобо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1143000" y="549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306a"/>
                </a:solidFill>
                <a:latin typeface="Trebuchet MS"/>
              </a:rPr>
              <a:t>Скороговорки 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68360" y="98100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Домашнее задание : «День ученика»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27280" y="3105000"/>
            <a:ext cx="2952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611280" y="463680"/>
            <a:ext cx="7942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c779d"/>
                </a:solidFill>
                <a:latin typeface="Trebuchet MS"/>
              </a:rPr>
              <a:t>Экспромт : «Придумай стихотворение</a:t>
            </a:r>
            <a:r>
              <a:rPr b="0" lang="ru-RU" sz="5400" spc="-1" strike="noStrike">
                <a:solidFill>
                  <a:srgbClr val="0c779d"/>
                </a:solidFill>
                <a:latin typeface="Trebuchet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648400" y="3111480"/>
            <a:ext cx="3495600" cy="36957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684360" y="20638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Ёлки – игол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Ёж – не похож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684360" y="3213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елень-теме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570960" y="367524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шка-окош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755640" y="4923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гра-пора    вопрос-под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2238480" y="189000"/>
            <a:ext cx="46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Спасибо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619280" y="1511280"/>
            <a:ext cx="6140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0:15:04Z</dcterms:created>
  <dc:creator>UserXP</dc:creator>
  <dc:description/>
  <dc:language>en-US</dc:language>
  <cp:lastModifiedBy>user</cp:lastModifiedBy>
  <dcterms:modified xsi:type="dcterms:W3CDTF">2017-09-22T17:25:21Z</dcterms:modified>
  <cp:revision>15</cp:revision>
  <dc:subject/>
  <dc:title>Мы начинаем КВН</dc:title>
</cp:coreProperties>
</file>