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1.gif" ContentType="image/gi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117A-95AC-477B-9404-84F3BE03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9E1A-E2A0-4895-AEBC-97E7E7BB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AA51-8A46-448A-BDF6-B98640D9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7DA-3114-40D4-9308-EB325CC0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E5D6-2ED7-4553-A4F0-16760378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6117-0A21-4FB3-9420-CB8D52CB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49D3-8890-43A2-ABD5-05F9E27F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6E2F-D63E-42DE-9009-F5943BE7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2807-05BD-4010-8BC5-AEC9C94F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0F01-0E38-44D5-A1BA-18826022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1DE3-10DB-4E3E-82BF-2035DB17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423D-054E-4716-9B32-8124429E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24B4-3A35-4E51-8E91-FE1654A8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545C-8EF2-4FB6-A9ED-49490E61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F7C8-F3BB-45F8-9AFB-678C93D2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760C-BDB9-4742-8F45-AEF125E2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601B-83A3-4B44-BCFA-D5BC43C8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3BE7F-4954-4545-A37A-369B0A63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D0733-3004-4FE5-B189-5E6314D9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90C04-0F39-4BA6-B5F1-E6A57F2B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F7E21-FB2D-4BDE-8F0E-EE61803C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E7D8C-1AE6-4858-8AE6-0E1F0076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85E-845A-4A4B-83C4-E9612407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E82CA-FB7D-411F-84F5-5C1102AC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D6E78-02C1-42CE-91CC-BDC6FF67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0B157-AA8E-412C-9644-858ED84D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211BD-4BDD-4B9D-954F-543DFF96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47F4F-C1ED-4176-82F0-58799C03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BE347-2FFF-4FD5-8E69-2D7D2915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35DC7-96B3-4AC9-AF4C-8072FECA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E76D2-AA01-431B-B2AB-8C36205C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0C7B4-524C-4F74-A865-656742E4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6D010-615E-4C17-BAA8-5F3BFA7A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B609-2918-4F7E-8AC1-859031BD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E981B-B87F-4F61-B30A-70ACB5A9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6A42B-E737-4429-9B41-EE32E486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6AB13-5B9F-4EA1-A94B-5D40677B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39441-DCE6-46AC-BBB4-93B3D22E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0A203-61F8-4F4B-ABB5-F1696482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7BA97-8F18-41A3-980F-4E9AADD8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ED924-026D-4990-AFCB-3319101E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04C0F-9BC9-4551-90EB-3C66451D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7962E-80A3-4EA6-B26A-885DAE4A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893-820D-4522-A0A1-CEBE5592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BB7-E65A-4050-A650-0D07297E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933-0AAD-4E95-9965-731FC179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9AB-6CD0-486D-AEF9-9C32E99F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AD8-90BD-4420-8BE7-970AFBC3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86FC-6ACC-4CD8-8E9F-A1B799FDA5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87A2-DFCF-478E-9191-2D0A646FCC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7E11-9B08-4F93-A7A1-665B303661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DC1D-E5EC-4CF3-8DE2-E328D44EAC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block" TargetMode="External"/><Relationship Id="rId2" Type="http://schemas.openxmlformats.org/officeDocument/2006/relationships/hyperlink" Target="file:///block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24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СТРОЕНИЕ КЛЕТКИ - ОСНОВНЫЕ </a:t>
            </a:r>
            <a:br>
              <a:rPr sz="4000"/>
            </a:b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0" y="3789360"/>
            <a:ext cx="4114800" cy="23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нусова Альбина Ривал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СТРОЕНИЕ МЕМБРАН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5" descr="09010201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Энд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0" y="0"/>
          <a:ext cx="208080" cy="495601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4956012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"/>
                        </a:rPr>
                        <a:t>  </a:t>
                      </a:r>
                      <a:r>
                        <a:rPr b="0" lang="ru-RU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0" y="0"/>
          <a:ext cx="208080" cy="495601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495601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"/>
                        </a:rPr>
                        <a:t>  </a:t>
                      </a:r>
                      <a:r>
                        <a:rPr b="0" lang="ru-RU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2" name="Picture 22" descr="09010202"/>
          <p:cNvPicPr/>
          <p:nvPr/>
        </p:nvPicPr>
        <p:blipFill>
          <a:blip r:embed="rId3"/>
          <a:stretch/>
        </p:blipFill>
        <p:spPr>
          <a:xfrm>
            <a:off x="0" y="1025640"/>
            <a:ext cx="9144000" cy="6003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Экз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5" descr="09010203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26d18"/>
                </a:solidFill>
                <a:latin typeface="Times New Roman"/>
              </a:rPr>
              <a:t>Цитоплазма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Представляет собой водянистое вещество –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гиалоплазма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(90 % воды), в котором располагаются различные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органоиды</a:t>
            </a:r>
            <a:r>
              <a:rPr b="0" i="1" lang="ru-RU" sz="2000" spc="-1" strike="noStrike">
                <a:solidFill>
                  <a:srgbClr val="a26d18"/>
                </a:solidFill>
                <a:latin typeface="Times New Roman"/>
              </a:rPr>
              <a:t>,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а также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ключения</a:t>
            </a: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 (глыбки гликогена, капли жира, кристаллы крахмала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В гиалоплазме протекает гликолиз, синтез жирных кислот, нуклеотидов и других вещест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Является динамической структурой. Органеллы движутся, а иногда заметен и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циклоз</a:t>
            </a: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 – активное движение, в которое вовлекается вся протопла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РАСТИПЕЛЬНАЯ КЛЕТКА ВИДЕО.avi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5148360" cy="4792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ЦИТОПЛАЗМ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нутренняя сре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еспечива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ятельнос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летки как един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7" descr="09010301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мкнутый резервуар, окруженный двумя слоями мембран, пронизанных ядерными порами. Внутри находится ядерный сок, хромосомы (состоят из ДНК и белка) и ядрышки ( состоят из РНК и бел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ранение генетичес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и и синт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7" descr="09010301"/>
          <p:cNvPicPr/>
          <p:nvPr/>
        </p:nvPicPr>
        <p:blipFill>
          <a:blip r:embed="rId1"/>
          <a:stretch/>
        </p:blipFill>
        <p:spPr>
          <a:xfrm>
            <a:off x="4643280" y="3716280"/>
            <a:ext cx="403236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6084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По размерам (10–20 мкм)  являясь самой крупной из органел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ажнейшей функцией</a:t>
            </a: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ядра является сохранение генетической информаци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Покрыто 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ядерной оболочкой</a:t>
            </a: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, которая состоит из двух мембран: наружной и внутренней, имеющих такое же строение, как и плазматическая мембрана. Между ними находится узкое пространство, заполненное полужидким веществом.    Через множество пор в ядерной оболочке осуществляется обмен веществ между ядром и цитоплазмой </a:t>
            </a:r>
            <a:r>
              <a:rPr b="0" lang="ru-RU" sz="1600" spc="-1" strike="noStrike">
                <a:solidFill>
                  <a:srgbClr val="a26d18"/>
                </a:solidFill>
                <a:latin typeface="Times New Roman"/>
              </a:rPr>
              <a:t>(в частности, выхо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26d18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a26d18"/>
                </a:solidFill>
                <a:latin typeface="Times New Roman"/>
              </a:rPr>
              <a:t>и-РНК в цитоплазму).</a:t>
            </a: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Внешняя мембрана часто бывает усеяна рибосом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26d18"/>
                </a:solidFill>
                <a:latin typeface="Times New Roman"/>
              </a:rPr>
              <a:t>В</a:t>
            </a:r>
            <a:r>
              <a:rPr b="1" i="1" lang="ru-RU" sz="18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кариоплазму</a:t>
            </a: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(ядерный сок) поступают вещества из цитоплазмы. Содержит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хроматин</a:t>
            </a: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– вещество, несущее ДНК, 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ядрышки</a:t>
            </a:r>
            <a:r>
              <a:rPr b="1" i="1" lang="ru-RU" sz="1800" spc="-1" strike="noStrike">
                <a:solidFill>
                  <a:srgbClr val="a26d18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округлые структуры внутри ядра, в которой происходит формирование рибос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Совокупность хромосом, содержащихся в хроматине, называют </a:t>
            </a:r>
            <a:r>
              <a:rPr b="1" i="1" lang="ru-RU" sz="1800" spc="-1" strike="noStrike">
                <a:solidFill>
                  <a:srgbClr val="a26d18"/>
                </a:solidFill>
                <a:latin typeface="Times New Roman"/>
              </a:rPr>
              <a:t>хромосомным набором</a:t>
            </a: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09010301"/>
          <p:cNvPicPr/>
          <p:nvPr/>
        </p:nvPicPr>
        <p:blipFill>
          <a:blip r:embed="rId1"/>
          <a:stretch/>
        </p:blipFill>
        <p:spPr>
          <a:xfrm>
            <a:off x="6084720" y="476280"/>
            <a:ext cx="3059280" cy="2610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ядро"/>
          <p:cNvPicPr/>
          <p:nvPr/>
        </p:nvPicPr>
        <p:blipFill>
          <a:blip r:embed="rId2"/>
          <a:stretch/>
        </p:blipFill>
        <p:spPr>
          <a:xfrm>
            <a:off x="6084720" y="3141720"/>
            <a:ext cx="3059280" cy="2784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5" descr="09010401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альные тельц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щие из двух сло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мбраны: внешне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ладкого) и внутренн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разует складки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ст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59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тез АТФ п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ыхании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7" descr="09010401"/>
          <p:cNvPicPr/>
          <p:nvPr/>
        </p:nvPicPr>
        <p:blipFill>
          <a:blip r:embed="rId1"/>
          <a:srcRect l="0" t="0" r="0" b="27986"/>
          <a:stretch/>
        </p:blipFill>
        <p:spPr>
          <a:xfrm>
            <a:off x="4248000" y="4616280"/>
            <a:ext cx="4356360" cy="1994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388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5" descr="09010403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лекс замкнут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мбран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ервуар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оложенный вблиз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д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тез жиров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исахарид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порт веществ и 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креция, образ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зос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7" descr="09010403"/>
          <p:cNvPicPr/>
          <p:nvPr/>
        </p:nvPicPr>
        <p:blipFill>
          <a:blip r:embed="rId1"/>
          <a:stretch/>
        </p:blipFill>
        <p:spPr>
          <a:xfrm>
            <a:off x="4427640" y="4724280"/>
            <a:ext cx="4176720" cy="1729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26d18"/>
                </a:solidFill>
                <a:latin typeface="Times New Roman"/>
              </a:rPr>
              <a:t>Эндоплазматическая сеть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308" name="Picture 5" descr="09010402"/>
          <p:cNvPicPr/>
          <p:nvPr/>
        </p:nvPicPr>
        <p:blipFill>
          <a:blip r:embed="rId1"/>
          <a:srcRect l="0" t="0" r="0" b="12149"/>
          <a:stretch/>
        </p:blipFill>
        <p:spPr>
          <a:xfrm>
            <a:off x="395280" y="2625840"/>
            <a:ext cx="8209080" cy="4205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323640" y="691920"/>
            <a:ext cx="828036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сеть мембран, пронизывающих цитоплазм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связывает органоиды между собой, по ней происходит транспорт питательных вещест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Гладкая ЭПС</a:t>
            </a: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имеет вид трубочек, стенки которых из  мембраны. В ней осуществляется синтез липидов и углевод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На мембранах каналов и полостей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гранулярной ЭПС</a:t>
            </a: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расположено множество рибосом; данный тип сети участвует в синтезе бел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5" descr="09010404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мкнутые мембран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льца, содержа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рмен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цепляю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личные вещ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0072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вари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упающих в к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тательных веществ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разруш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мирающих кле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7" descr="09010404"/>
          <p:cNvPicPr/>
          <p:nvPr/>
        </p:nvPicPr>
        <p:blipFill>
          <a:blip r:embed="rId1"/>
          <a:stretch/>
        </p:blipFill>
        <p:spPr>
          <a:xfrm>
            <a:off x="428760" y="4411800"/>
            <a:ext cx="3744720" cy="2446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лизосомы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714920" y="4037040"/>
            <a:ext cx="3090960" cy="2820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26d18"/>
                </a:solidFill>
                <a:latin typeface="Times New Roman"/>
              </a:rPr>
              <a:t>Рибосомы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a26d18"/>
                </a:solidFill>
                <a:latin typeface="Times New Roman"/>
              </a:rPr>
              <a:t>мелкие (15–20 нм в диаметре) органоиды, состоящие из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р-РНК</a:t>
            </a:r>
            <a:r>
              <a:rPr b="0" lang="ru-RU" sz="2100" spc="-1" strike="noStrike">
                <a:solidFill>
                  <a:srgbClr val="a26d18"/>
                </a:solidFill>
                <a:latin typeface="Times New Roman"/>
              </a:rPr>
              <a:t> и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полипептидов</a:t>
            </a:r>
            <a:r>
              <a:rPr b="0" lang="ru-RU" sz="2100" spc="-1" strike="noStrike">
                <a:solidFill>
                  <a:srgbClr val="a26d18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Важнейшая функция</a:t>
            </a:r>
            <a:r>
              <a:rPr b="0" lang="ru-RU" sz="2100" spc="-1" strike="noStrike">
                <a:solidFill>
                  <a:srgbClr val="a26d18"/>
                </a:solidFill>
                <a:latin typeface="Times New Roman"/>
              </a:rPr>
              <a:t> – синтез белка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a26d18"/>
                </a:solidFill>
                <a:latin typeface="Times New Roman"/>
              </a:rPr>
              <a:t>Их количество в клетке весьма велико: тысячи и десятки тысяч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a26d18"/>
                </a:solidFill>
                <a:latin typeface="Times New Roman"/>
              </a:rPr>
              <a:t>Рибосомы могут быть связаны с эндоплазматической сетью или находиться в свободном состоянии. В процессе синтеза обычно одновременно участвуют множество рибосом, объединённых в цепи, называемые </a:t>
            </a:r>
            <a:r>
              <a:rPr b="1" i="1" lang="ru-RU" sz="2100" spc="-1" strike="noStrike">
                <a:solidFill>
                  <a:srgbClr val="ff0000"/>
                </a:solidFill>
                <a:latin typeface="Times New Roman"/>
              </a:rPr>
              <a:t>полирибосомами (полисомами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4" descr="эпс"/>
          <p:cNvPicPr/>
          <p:nvPr/>
        </p:nvPicPr>
        <p:blipFill>
          <a:blip r:embed="rId1"/>
          <a:stretch/>
        </p:blipFill>
        <p:spPr>
          <a:xfrm>
            <a:off x="1000080" y="3137040"/>
            <a:ext cx="6929640" cy="3720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26d18"/>
                </a:solidFill>
                <a:latin typeface="Times New Roman"/>
              </a:rPr>
              <a:t>Микротрубочками</a:t>
            </a:r>
            <a:r>
              <a:rPr b="0" lang="ru-RU" sz="28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</a:rPr>
              <a:t>Полые цилиндрические</a:t>
            </a:r>
            <a:r>
              <a:rPr b="0" lang="ru-RU" sz="1900" spc="-1" strike="noStrike">
                <a:solidFill>
                  <a:srgbClr val="a26d18"/>
                </a:solidFill>
                <a:latin typeface="Times New Roman"/>
              </a:rPr>
              <a:t> диаметром около 25 нм, длина может достигать нескольких микрометров. Стенки микротрубочек сложены из белка тубулина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26d18"/>
                </a:solidFill>
                <a:latin typeface="Times New Roman"/>
              </a:rPr>
              <a:t>Центриоли </a:t>
            </a:r>
            <a:r>
              <a:rPr b="0" lang="ru-RU" sz="1900" spc="-1" strike="noStrike">
                <a:solidFill>
                  <a:srgbClr val="a26d18"/>
                </a:solidFill>
                <a:latin typeface="Times New Roman"/>
              </a:rPr>
              <a:t>Встречаются в клетках животных и низших растений – </a:t>
            </a:r>
            <a:r>
              <a:rPr b="0" lang="ru-RU" sz="1900" spc="-1" strike="noStrike">
                <a:solidFill>
                  <a:srgbClr val="006600"/>
                </a:solidFill>
                <a:latin typeface="Times New Roman"/>
              </a:rPr>
              <a:t>мелкие 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</a:rPr>
              <a:t>полые цилиндры</a:t>
            </a:r>
            <a:r>
              <a:rPr b="0" lang="ru-RU" sz="1900" spc="-1" strike="noStrike">
                <a:solidFill>
                  <a:srgbClr val="a26d18"/>
                </a:solidFill>
                <a:latin typeface="Times New Roman"/>
              </a:rPr>
              <a:t> длиной в десятые доли микрометра, построенные из 27 микротрубочек. Во время деления клетки они образуют веретено деления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26d18"/>
                </a:solidFill>
                <a:latin typeface="Times New Roman"/>
              </a:rPr>
              <a:t>Базальные тельца</a:t>
            </a:r>
            <a:r>
              <a:rPr b="0" lang="ru-RU" sz="1900" spc="-1" strike="noStrike">
                <a:solidFill>
                  <a:srgbClr val="a26d18"/>
                </a:solidFill>
                <a:latin typeface="Times New Roman"/>
              </a:rPr>
              <a:t> по структурам 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</a:rPr>
              <a:t>идентичны центриолям</a:t>
            </a:r>
            <a:r>
              <a:rPr b="0" lang="ru-RU" sz="1900" spc="-1" strike="noStrike">
                <a:solidFill>
                  <a:srgbClr val="a26d18"/>
                </a:solidFill>
                <a:latin typeface="Times New Roman"/>
              </a:rPr>
              <a:t>, содержащиеся в жгутиках и ресничках. Эти органеллы вызывают биение жгутиков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Times New Roman"/>
              </a:rPr>
              <a:t>Другая функция микротрубочек</a:t>
            </a:r>
            <a:r>
              <a:rPr b="0" lang="ru-RU" sz="1900" spc="-1" strike="noStrike">
                <a:solidFill>
                  <a:srgbClr val="a26d18"/>
                </a:solidFill>
                <a:latin typeface="Times New Roman"/>
              </a:rPr>
              <a:t> – транспорт питательных веществ. Микротрубочки представляют собой достаточно жёсткие структуры и поддерживают форму клетки, образуя своеобразный </a:t>
            </a:r>
            <a:r>
              <a:rPr b="1" i="1" lang="ru-RU" sz="1900" spc="-1" strike="noStrike">
                <a:solidFill>
                  <a:srgbClr val="a26d18"/>
                </a:solidFill>
                <a:latin typeface="Times New Roman"/>
              </a:rPr>
              <a:t>цитоскелет</a:t>
            </a:r>
            <a:r>
              <a:rPr b="0" lang="ru-RU" sz="1900" spc="-1" strike="noStrike">
                <a:solidFill>
                  <a:srgbClr val="a26d18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a26d18"/>
                </a:solidFill>
                <a:latin typeface="Times New Roman"/>
              </a:rPr>
              <a:t>С опорой и движением связана и ещё одна форма органелл – </a:t>
            </a:r>
            <a:r>
              <a:rPr b="1" i="1" lang="ru-RU" sz="2800" spc="-1" strike="noStrike">
                <a:solidFill>
                  <a:srgbClr val="a26d18"/>
                </a:solidFill>
                <a:latin typeface="Times New Roman"/>
              </a:rPr>
              <a:t>микрофиламенты</a:t>
            </a:r>
            <a:r>
              <a:rPr b="0" lang="ru-RU" sz="28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a26d18"/>
                </a:solidFill>
                <a:latin typeface="Times New Roman"/>
              </a:rPr>
              <a:t>– тонкие белковые нити диаметром 5–7 нм.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5" descr="09010406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571760" y="3929040"/>
            <a:ext cx="5796000" cy="2631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324" name="Picture 5" descr="09010102"/>
          <p:cNvPicPr/>
          <p:nvPr/>
        </p:nvPicPr>
        <p:blipFill>
          <a:blip r:embed="rId1"/>
          <a:stretch/>
        </p:blipFill>
        <p:spPr>
          <a:xfrm>
            <a:off x="250920" y="0"/>
            <a:ext cx="8675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В растительных клетках присутствуют все органеллы, обнаруженные в животных клетках (за исключением центриолей)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Клеточные стенки</a:t>
            </a: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растений состоят из целлюлозы</a:t>
            </a: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, образующей микрофибриллы. В клетках древовидных растений слои целлюлозы пропитываются лигнином, придающим им дополнительную жёсткость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Служат растениям опорой, предохраняют клетки от разрыва, определяют форму клетки, играют важную роль в транспорте воды и питательных веществ от клетки к клетке. Соседние клетки связаны друг с другом </a:t>
            </a:r>
            <a:r>
              <a:rPr b="1" i="1" lang="ru-RU" sz="2100" spc="-1" strike="noStrike">
                <a:solidFill>
                  <a:srgbClr val="006600"/>
                </a:solidFill>
                <a:latin typeface="Times New Roman"/>
              </a:rPr>
              <a:t>плазмодесмами</a:t>
            </a: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, проходящими через мелкие поры клеточных стенок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Вакуоль</a:t>
            </a: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 –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наполненный жидкостью мембранный мешочек</a:t>
            </a: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В животных клетках могут наблюдаться небольшие вакуоли, выполняющие фагоцитарную, пищеварительную, сократительную и другие функци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Растительные клетки имеют одну большую центральную вакуоль с </a:t>
            </a:r>
            <a:r>
              <a:rPr b="1" i="1" lang="ru-RU" sz="2100" spc="-1" strike="noStrike">
                <a:solidFill>
                  <a:srgbClr val="006600"/>
                </a:solidFill>
                <a:latin typeface="Times New Roman"/>
              </a:rPr>
              <a:t>клеточным соком</a:t>
            </a: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. Это концентрированный раствор сахаров, минеральных солей, органических кислот, пигментов и других вещест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00"/>
                </a:solidFill>
                <a:latin typeface="Times New Roman"/>
              </a:rPr>
              <a:t>Накапливают воду, могут содержать красящие пигменты, защитные вещества (например, таннины), гидролитические ферменты, вызывающие автолиз клетки, отходы жизнедеятельности, запасные питательные вещества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09010502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4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ак, с чего же мы начнем, мистер Сайрес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спросил Пенкроф на следующее утр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 самого начала, - ответил Сайрес См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юль Вер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Пластиды: хлоропласты, хромопласты, лейк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мбранные органе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личной окрас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еле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с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тосинтет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ас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гут переходить др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друга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5" descr="09010502"/>
          <p:cNvPicPr/>
          <p:nvPr/>
        </p:nvPicPr>
        <p:blipFill>
          <a:blip r:embed="rId1"/>
          <a:stretch/>
        </p:blipFill>
        <p:spPr>
          <a:xfrm>
            <a:off x="1042920" y="4653000"/>
            <a:ext cx="3313080" cy="1874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ХЛОР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09010501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26d18"/>
                </a:solidFill>
                <a:latin typeface="Times New Roman"/>
              </a:rPr>
              <a:t>ЖИВОТНАЯ И РАСТИТЕЛЬНАЯ  КЛЕТК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8" descr="09010101"/>
          <p:cNvPicPr/>
          <p:nvPr/>
        </p:nvPicPr>
        <p:blipFill>
          <a:blip r:embed="rId1"/>
          <a:stretch/>
        </p:blipFill>
        <p:spPr>
          <a:xfrm>
            <a:off x="250920" y="1268280"/>
            <a:ext cx="4140000" cy="5589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09010102"/>
          <p:cNvPicPr/>
          <p:nvPr/>
        </p:nvPicPr>
        <p:blipFill>
          <a:blip r:embed="rId2"/>
          <a:stretch/>
        </p:blipFill>
        <p:spPr>
          <a:xfrm>
            <a:off x="4451400" y="1268280"/>
            <a:ext cx="444168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50920" y="260280"/>
          <a:ext cx="8640720" cy="648036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59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e2e00"/>
                          </a:solidFill>
                          <a:latin typeface="Times New Roman"/>
                        </a:rPr>
                        <a:t>Растительная кле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d05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e2e00"/>
                          </a:solidFill>
                          <a:latin typeface="Times New Roman"/>
                        </a:rPr>
                        <a:t>Животная кле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d05b"/>
                    </a:solidFill>
                  </a:tcPr>
                </a:tc>
              </a:tr>
              <a:tr h="59184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ход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e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4960">
                <a:tc gridSpan="2"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2e2e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2e2e00"/>
                          </a:solidFill>
                          <a:latin typeface="Times New Roman"/>
                        </a:rPr>
                        <a:t>Наличие плазматической мембраны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2e2e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2e2e00"/>
                          </a:solidFill>
                          <a:latin typeface="Times New Roman"/>
                        </a:rPr>
                        <a:t>Цитоплаз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2e2e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2e2e00"/>
                          </a:solidFill>
                          <a:latin typeface="Times New Roman"/>
                        </a:rPr>
                        <a:t>Ядра с ядрышк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2e2e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2e2e00"/>
                          </a:solidFill>
                          <a:latin typeface="Times New Roman"/>
                        </a:rPr>
                        <a:t>Хромос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2e2e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2e2e00"/>
                          </a:solidFill>
                          <a:latin typeface="Times New Roman"/>
                        </a:rPr>
                        <a:t>Эндоплазматической се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2e2e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2e2e00"/>
                          </a:solidFill>
                          <a:latin typeface="Times New Roman"/>
                        </a:rPr>
                        <a:t>Митохондр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2e2e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2e2e00"/>
                          </a:solidFill>
                          <a:latin typeface="Times New Roman"/>
                        </a:rPr>
                        <a:t>Рибос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2e2e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2e2e00"/>
                          </a:solidFill>
                          <a:latin typeface="Times New Roman"/>
                        </a:rPr>
                        <a:t>Комплекса Гольдж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7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лич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e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ь центральная вакуол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ь пласти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 лизос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етка снаружи покрыта целлюлозной клеточной стенко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 центральной вакуол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 пласти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ь лизосо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еточная стенка отсутствует, снаружи покрыта гликокалекс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7ea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ВЫВОД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Функции органоидо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сложны и многообразны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ни играют для клетки ту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же роль, что и органы дл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целого организм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Контрольное обобщение материал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речислите мембранные органоиды клетк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2340000" y="2852640"/>
            <a:ext cx="4824360" cy="370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Цитоплазматическая мембрана, эндоплазматическая сеть, комплекс Гольджи, митохондрии, лизосомы, пластид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Какие химические вещества образуют ЦМ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елки и липи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5" descr="09010201"/>
          <p:cNvPicPr/>
          <p:nvPr/>
        </p:nvPicPr>
        <p:blipFill>
          <a:blip r:embed="rId1"/>
          <a:stretch/>
        </p:blipFill>
        <p:spPr>
          <a:xfrm>
            <a:off x="1547640" y="2870280"/>
            <a:ext cx="5524560" cy="3522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Какой органоид является энергетической станцией клетки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3"/>
          <p:cNvSpPr/>
          <p:nvPr/>
        </p:nvSpPr>
        <p:spPr>
          <a:xfrm>
            <a:off x="53964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то открыл клетк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Роберт Гук 1663 го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 называется наука о клетк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Цитолог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5" descr="1-177"/>
          <p:cNvPicPr/>
          <p:nvPr/>
        </p:nvPicPr>
        <p:blipFill>
          <a:blip r:embed="rId1"/>
          <a:stretch/>
        </p:blipFill>
        <p:spPr>
          <a:xfrm>
            <a:off x="5292720" y="981000"/>
            <a:ext cx="1081080" cy="919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1-177"/>
          <p:cNvPicPr/>
          <p:nvPr/>
        </p:nvPicPr>
        <p:blipFill>
          <a:blip r:embed="rId2"/>
          <a:stretch/>
        </p:blipFill>
        <p:spPr>
          <a:xfrm>
            <a:off x="7812000" y="2421000"/>
            <a:ext cx="1081080" cy="919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итохондр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5" descr="09010401"/>
          <p:cNvPicPr/>
          <p:nvPr/>
        </p:nvPicPr>
        <p:blipFill>
          <a:blip r:embed="rId1"/>
          <a:stretch/>
        </p:blipFill>
        <p:spPr>
          <a:xfrm>
            <a:off x="1547640" y="2133720"/>
            <a:ext cx="6696360" cy="425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Какую функцию выполняют лизосомы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5" descr="09010404"/>
          <p:cNvPicPr/>
          <p:nvPr/>
        </p:nvPicPr>
        <p:blipFill>
          <a:blip r:embed="rId1"/>
          <a:stretch/>
        </p:blipFill>
        <p:spPr>
          <a:xfrm>
            <a:off x="1476360" y="2951280"/>
            <a:ext cx="55958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Внутриклеточное пищеварение и расщепление вещест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ова функция комплекса Гольдж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5" descr="09010403"/>
          <p:cNvPicPr/>
          <p:nvPr/>
        </p:nvPicPr>
        <p:blipFill>
          <a:blip r:embed="rId1"/>
          <a:stretch/>
        </p:blipFill>
        <p:spPr>
          <a:xfrm>
            <a:off x="1187280" y="2254320"/>
            <a:ext cx="7156800" cy="4545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интез липидов и углеводов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екреция белков,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углеводов и липид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начение рибосом для клет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4" descr="эпс"/>
          <p:cNvPicPr/>
          <p:nvPr/>
        </p:nvPicPr>
        <p:blipFill>
          <a:blip r:embed="rId1"/>
          <a:stretch/>
        </p:blipFill>
        <p:spPr>
          <a:xfrm>
            <a:off x="1643040" y="2714760"/>
            <a:ext cx="6072120" cy="326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Синтез белк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акие органоиды создают цитоскелет клет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Микротрубоч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5" descr="09010406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643040" y="3238560"/>
            <a:ext cx="5429160" cy="2465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такое включени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4" descr="09010502"/>
          <p:cNvPicPr/>
          <p:nvPr/>
        </p:nvPicPr>
        <p:blipFill>
          <a:blip r:embed="rId1"/>
          <a:stretch/>
        </p:blipFill>
        <p:spPr>
          <a:xfrm>
            <a:off x="1692360" y="2886120"/>
            <a:ext cx="495144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457200" y="-5399280"/>
            <a:ext cx="457200" cy="1045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рганоидами называю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остоянно присутствующие 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летке структуры, которы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ыполняют строго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пределенные функци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епостоянные структуры, где находится запас питательных веществ: жир, крахмал, бел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начение ЭПС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5" descr="09010402"/>
          <p:cNvPicPr/>
          <p:nvPr/>
        </p:nvPicPr>
        <p:blipFill>
          <a:blip r:embed="rId1"/>
          <a:srcRect l="0" t="0" r="0" b="12149"/>
          <a:stretch/>
        </p:blipFill>
        <p:spPr>
          <a:xfrm>
            <a:off x="428760" y="2540160"/>
            <a:ext cx="7572240" cy="3879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ероховатое ЭПС – синтез и транспорт бел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ладкое ЭПС – синтез и транспорт липид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ем отделено ядро от цитоплазмы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4" descr="09010301"/>
          <p:cNvPicPr/>
          <p:nvPr/>
        </p:nvPicPr>
        <p:blipFill>
          <a:blip r:embed="rId1"/>
          <a:stretch/>
        </p:blipFill>
        <p:spPr>
          <a:xfrm>
            <a:off x="3071880" y="2928960"/>
            <a:ext cx="351612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вуслойной ядерной мембраной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Назови немембранные органоид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босомы, клеточный центр, микротрубоч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Picture 5" descr="09010406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571760" y="3309840"/>
            <a:ext cx="5429160" cy="2465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Домашнее задание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нать строение органоидов и их функ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оставить кроссворд по теме «Строение клет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исьменно ответить на вопросы параграф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Список используемых источников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биология 2.6. ООО «Физикон» 2000-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09010101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ембранны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П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мплекс Гольдж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из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итохонд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мембран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иб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цитоске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леточный цент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7"/>
          <p:cNvSpPr/>
          <p:nvPr/>
        </p:nvSpPr>
        <p:spPr>
          <a:xfrm flipH="1">
            <a:off x="1547280" y="907920"/>
            <a:ext cx="15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1547640" y="907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6084720" y="907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22"/>
          <p:cNvSpPr/>
          <p:nvPr/>
        </p:nvSpPr>
        <p:spPr>
          <a:xfrm>
            <a:off x="694836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ПЛАЗМАТИЧЕСКАЯ МЕМБРАН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043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слой липидов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дящимися в н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ка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аничивающий клет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арьер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тгараживает внутреннюю среду клетки от внеш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итатель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поглащает питательные вещества в виде капель(пиноцитоз), частиц(фагоцитоз) или путем диффуз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26d18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a26d18"/>
                </a:solidFill>
                <a:latin typeface="Times New Roman"/>
              </a:rPr>
              <a:t>Клеточная мембрана</a:t>
            </a: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              функции:</a:t>
            </a:r>
            <a:br>
              <a:rPr sz="1800"/>
            </a:b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             разделение содержимого клетки и внешней среды; </a:t>
            </a:r>
            <a:br>
              <a:rPr sz="1800"/>
            </a:b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             регуляция обмена веществ между клеткой и средой; </a:t>
            </a:r>
            <a:br>
              <a:rPr sz="1800"/>
            </a:b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             место протекания некоторых биохимических реакций </a:t>
            </a:r>
            <a:r>
              <a:rPr b="0" lang="ru-RU" sz="1600" spc="-1" strike="noStrike">
                <a:solidFill>
                  <a:srgbClr val="a26d18"/>
                </a:solidFill>
                <a:latin typeface="Times New Roman"/>
              </a:rPr>
              <a:t>(в том числе фотосинтеза);</a:t>
            </a: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              объединение клеток в ткани. </a:t>
            </a:r>
            <a:br>
              <a:rPr sz="1800"/>
            </a:b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Важнейшее свойство плазматической мембраны – полупроницаемость. Через неё медленно диффундируют глюкоза, аминокислоты, жирные кислоты и ионы.</a:t>
            </a:r>
            <a:endParaRPr b="1" lang="en-US" sz="18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62" name="Picture 6" descr="мембрана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971640" y="2349360"/>
            <a:ext cx="6575400" cy="4092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мембрана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928800" y="2357280"/>
            <a:ext cx="6575400" cy="4092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мембрана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1081080" y="2509920"/>
            <a:ext cx="6575400" cy="4092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17:46Z</dcterms:created>
  <dc:creator>Гуляев Сергей Павлович</dc:creator>
  <dc:description/>
  <dc:language>en-US</dc:language>
  <cp:lastModifiedBy>User</cp:lastModifiedBy>
  <dcterms:modified xsi:type="dcterms:W3CDTF">2017-09-22T09:14:43Z</dcterms:modified>
  <cp:revision>36</cp:revision>
  <dc:subject/>
  <dc:title>СТРОЕНИЕ КЛЕТКИ:  ОСНОВНЫЕ   ОРГАНОИДЫ</dc:title>
</cp:coreProperties>
</file>