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996-015F-40E0-920E-AE521554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16C-DDFC-463F-8783-EF71C81C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2C6-D849-4588-8E9E-DC7357D7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FDE-C06B-49CB-9450-796CD0CB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FE98-DD3A-4191-BA1C-978122D7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A701-9DEF-4FD4-8089-61AA908F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0315-BBAB-49B8-B68E-AAE7D7E4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22C4-CCCF-4B57-A532-256AFBA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8B8D-B827-41BC-908A-B61ABFE4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9C92-0EB9-4887-876E-51BCFFE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CE2F-AFCF-4968-8F1D-0611C9B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F2F-9AED-485D-8A1B-26AC47D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1D0F-F13A-4EC3-9207-D4CD5F16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C3E-8835-4135-A939-1DEFAD0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0C78-20FC-4938-95C0-2FB7BE7D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3BF2-CD11-41C9-86B7-4BE9D3F7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BA96-FE15-4854-B04A-36222B0F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A6E2-C9B0-4AA8-99A7-6007D34A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7E06-4ACB-41B9-8DE6-397ED974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E6347-A410-4BC4-AA3D-37F6D87B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7541-BDC2-4927-9FC0-DDF172BC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C16A-3B5C-4716-A67F-6F13C5CC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3FD-B0A2-4B24-BBAA-AE34B90A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6E6F-CF0E-44B0-95B2-F0464107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8854-9E92-4567-91FC-84CB1AC9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E138-1FAD-4A55-B2AB-97C6AD8C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7ABA-BE74-4940-9720-1A3B4B5F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2FEB-8A30-4083-A2CC-0556ED9D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5926-558D-4CB5-9403-B25B7628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DE45-B0E8-46C7-801F-D8464258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2C712-589D-47B5-9065-81F25357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575F4-BB04-41EB-9E84-04F9556E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6092-6484-44B8-8397-807AF293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44C-3F5D-4918-89D9-9E5A0E03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156D-7B4E-4E2B-9036-BE4561FB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8681-BBBE-47C1-A532-F92B9E53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FD33-5447-4919-8962-DCE98120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8237-E1B7-472F-B5F0-C1D3E91B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B625B-7A5C-4E14-9CAC-0F7F7FD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68EE-C7FA-490A-914E-79037FA3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861C-D892-408D-AA1B-14A1C394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E390-C05C-470B-AA21-BBC82533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19FB-39C4-4F7E-9FEA-18E92973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25F-B914-4A04-8369-D798386B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1AD-CEFB-48BD-8396-0E3263DF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EE5-F68D-4938-B96D-AB7491D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979-AFC1-4F26-A072-63EC378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373-475A-4C8C-A349-8CDBF19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963D-45AA-44A4-90F2-C0B555589A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4F43-FA70-4382-8C67-464BC9851B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8F1E-787D-4455-9CAD-3BFBD7C286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9066-0C19-439F-A098-4AC26806BF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нусова Альбина Ривал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09010201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0"/>
          <a:ext cx="208080" cy="495601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956012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ru-RU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0" y="0"/>
          <a:ext cx="208080" cy="495601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956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ru-RU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Picture 22" descr="09010202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5" descr="0901020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Представляет собой водянистое вещество –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гиалоплазм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(90 % воды), в котором располагаются различные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органоиды</a:t>
            </a:r>
            <a:r>
              <a:rPr b="0" i="1" lang="ru-RU" sz="2000" spc="-1" strike="noStrike">
                <a:solidFill>
                  <a:srgbClr val="a26d18"/>
                </a:solidFill>
                <a:latin typeface="Times New Roman"/>
              </a:rPr>
              <a:t>,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а также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ключения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(глыбки гликогена, капли жира, кристаллы крахмала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В гиалоплазме протекает гликолиз, синтез жирных кислот, нуклеотидов и других веще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Является динамической структурой. Органеллы движутся, а иногда заметен и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циклоз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– активное движение, в которое вовлекается вся протопла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РАСТИПЕЛЬНАЯ КЛЕТКА ВИДЕО.avi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5148360" cy="4792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0901030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7" descr="09010301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6084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По размерам (10–20 мкм)  являясь самой крупной из органел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ажнейшей функцией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ядра является сохранение генетической информац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Покрыто 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ядерной оболочкой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, которая состоит из двух мембран: наружной и внутренней, имеющих такое же строение, как и плазматическая мембрана. Между ними находится узкое пространство, заполненное полужидким веществом.    Через множество пор в ядерной оболочке осуществляется обмен веществ между ядром и цитоплазмой </a:t>
            </a: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(в частности, вы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и-РНК в цитоплазму).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Внешняя мембрана часто бывает усеяна рибосом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26d18"/>
                </a:solidFill>
                <a:latin typeface="Times New Roman"/>
              </a:rPr>
              <a:t>В</a:t>
            </a:r>
            <a:r>
              <a:rPr b="1" i="1" lang="ru-RU" sz="1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ариоплазму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(ядерный сок) поступают вещества из цитоплазмы. Содержи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хроматин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– вещество, несущее ДНК, 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ядрышки</a:t>
            </a:r>
            <a:r>
              <a:rPr b="1" i="1" lang="ru-RU" sz="1800" spc="-1" strike="noStrike">
                <a:solidFill>
                  <a:srgbClr val="a26d18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округлые структуры внутри ядра, в которой происходит формирование рибос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Совокупность хромосом, содержащихся в хроматине, называют </a:t>
            </a:r>
            <a:r>
              <a:rPr b="1" i="1" lang="ru-RU" sz="1800" spc="-1" strike="noStrike">
                <a:solidFill>
                  <a:srgbClr val="a26d18"/>
                </a:solidFill>
                <a:latin typeface="Times New Roman"/>
              </a:rPr>
              <a:t>хромосомным набором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09010301"/>
          <p:cNvPicPr/>
          <p:nvPr/>
        </p:nvPicPr>
        <p:blipFill>
          <a:blip r:embed="rId1"/>
          <a:stretch/>
        </p:blipFill>
        <p:spPr>
          <a:xfrm>
            <a:off x="6084720" y="476280"/>
            <a:ext cx="3059280" cy="2610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ядро"/>
          <p:cNvPicPr/>
          <p:nvPr/>
        </p:nvPicPr>
        <p:blipFill>
          <a:blip r:embed="rId2"/>
          <a:stretch/>
        </p:blipFill>
        <p:spPr>
          <a:xfrm>
            <a:off x="6084720" y="3141720"/>
            <a:ext cx="3059280" cy="2784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5" descr="09010401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7" descr="09010401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5" descr="0901040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7" descr="09010403"/>
          <p:cNvPicPr/>
          <p:nvPr/>
        </p:nvPicPr>
        <p:blipFill>
          <a:blip r:embed="rId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Эндоплазматическая сеть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308" name="Picture 5" descr="09010402"/>
          <p:cNvPicPr/>
          <p:nvPr/>
        </p:nvPicPr>
        <p:blipFill>
          <a:blip r:embed="rId1"/>
          <a:srcRect l="0" t="0" r="0" b="12149"/>
          <a:stretch/>
        </p:blipFill>
        <p:spPr>
          <a:xfrm>
            <a:off x="395280" y="2625840"/>
            <a:ext cx="8209080" cy="4205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23640" y="691920"/>
            <a:ext cx="82803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сеть мембран, пронизывающих цитоплаз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связывает органоиды между собой, по ней происходит транспорт питательных вещест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Гладкая ЭПС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имеет вид трубочек, стенки которых из  мембраны. В ней осуществляется синтез липидов и углевод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На мембранах каналов и полостей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гранулярной ЭПС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расположено множество рибосом; данный тип сети участвует в синтезе бел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5" descr="09010404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7" descr="09010404"/>
          <p:cNvPicPr/>
          <p:nvPr/>
        </p:nvPicPr>
        <p:blipFill>
          <a:blip r:embed="rId1"/>
          <a:stretch/>
        </p:blipFill>
        <p:spPr>
          <a:xfrm>
            <a:off x="428760" y="4411800"/>
            <a:ext cx="3744720" cy="2446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лизосомы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14920" y="4037040"/>
            <a:ext cx="309096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Рибосомы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мелкие (15–20 нм в диаметре) органоиды, состоящие из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р-РНК</a:t>
            </a: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 и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полипептидов</a:t>
            </a: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Важнейшая функция</a:t>
            </a: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 – синтез белка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Их количество в клетке весьма велико: тысячи и десятки тысяч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Рибосомы могут быть связаны с эндоплазматической сетью или находиться в свободном состоянии. В процессе синтеза обычно одновременно участвуют множество рибосом, объединённых в цепи, называемые </a:t>
            </a:r>
            <a:r>
              <a:rPr b="1" i="1" lang="ru-RU" sz="2100" spc="-1" strike="noStrike">
                <a:solidFill>
                  <a:srgbClr val="ff0000"/>
                </a:solidFill>
                <a:latin typeface="Times New Roman"/>
              </a:rPr>
              <a:t>полирибосомами (полисомами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4" descr="эпс"/>
          <p:cNvPicPr/>
          <p:nvPr/>
        </p:nvPicPr>
        <p:blipFill>
          <a:blip r:embed="rId1"/>
          <a:stretch/>
        </p:blipFill>
        <p:spPr>
          <a:xfrm>
            <a:off x="1000080" y="3137040"/>
            <a:ext cx="6929640" cy="3720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Микротрубочками</a:t>
            </a:r>
            <a:r>
              <a:rPr b="0" lang="ru-RU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</a:rPr>
              <a:t>Полые цилиндрические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диаметром около 25 нм, длина может достигать нескольких микрометров. Стенки микротрубочек сложены из белка тубулин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Центриоли 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Встречаются в клетках животных и низших растений – </a:t>
            </a:r>
            <a:r>
              <a:rPr b="0" lang="ru-RU" sz="1900" spc="-1" strike="noStrike">
                <a:solidFill>
                  <a:srgbClr val="006600"/>
                </a:solidFill>
                <a:latin typeface="Times New Roman"/>
              </a:rPr>
              <a:t>мелкие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</a:rPr>
              <a:t>полые цилиндры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длиной в десятые доли микрометра, построенные из 27 микротрубочек. Во время деления клетки они образуют веретено деления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Базальные тельца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по структурам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</a:rPr>
              <a:t>идентичны центриолям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, содержащиеся в жгутиках и ресничках. Эти органеллы вызывают биение жгутиков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</a:rPr>
              <a:t>Другая функция микротрубочек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– транспорт питательных веществ. Микротрубочки представляют собой достаточно жёсткие структуры и поддерживают форму клетки, образуя своеобразный </a:t>
            </a:r>
            <a:r>
              <a:rPr b="1" i="1" lang="ru-RU" sz="1900" spc="-1" strike="noStrike">
                <a:solidFill>
                  <a:srgbClr val="a26d18"/>
                </a:solidFill>
                <a:latin typeface="Times New Roman"/>
              </a:rPr>
              <a:t>цитоскелет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С опорой и движением связана и ещё одна форма органелл – </a:t>
            </a: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микрофиламенты</a:t>
            </a:r>
            <a:r>
              <a:rPr b="0" lang="ru-RU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– тонкие белковые нити диаметром 5–7 нм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5" descr="090104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71760" y="3929040"/>
            <a:ext cx="5796000" cy="2631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324" name="Picture 5" descr="09010102"/>
          <p:cNvPicPr/>
          <p:nvPr/>
        </p:nvPicPr>
        <p:blipFill>
          <a:blip r:embed="rId1"/>
          <a:stretch/>
        </p:blipFill>
        <p:spPr>
          <a:xfrm>
            <a:off x="25092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В растительных клетках присутствуют все органеллы, обнаруженные в животных клетках (за исключением центриолей)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Клеточные стенки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растений состоят из целлюлозы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, образующей микрофибриллы. В клетках древовидных растений слои целлюлозы пропитываются лигнином, придающим им дополнительную жёсткость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Служат растениям опорой, предохраняют клетки от разрыва, определяют форму клетки, играют важную роль в транспорте воды и питательных веществ от клетки к клетке. Соседние клетки связаны друг с другом </a:t>
            </a:r>
            <a:r>
              <a:rPr b="1" i="1" lang="ru-RU" sz="2100" spc="-1" strike="noStrike">
                <a:solidFill>
                  <a:srgbClr val="006600"/>
                </a:solidFill>
                <a:latin typeface="Times New Roman"/>
              </a:rPr>
              <a:t>плазмодесмами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, проходящими через мелкие поры клеточных стенок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акуоль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 –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наполненный жидкостью мембранный мешочек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В животных клетках могут наблюдаться небольшие вакуоли, выполняющие фагоцитарную, пищеварительную, сократительную и другие функ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Растительные клетки имеют одну большую центральную вакуоль с </a:t>
            </a:r>
            <a:r>
              <a:rPr b="1" i="1" lang="ru-RU" sz="2100" spc="-1" strike="noStrike">
                <a:solidFill>
                  <a:srgbClr val="006600"/>
                </a:solidFill>
                <a:latin typeface="Times New Roman"/>
              </a:rPr>
              <a:t>клеточным соком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. Это концентрированный раствор сахаров, минеральных солей, органических кислот, пигментов и других вещест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Накапливают воду, могут содержать красящие пигменты, защитные вещества (например, таннины), гидролитические ферменты, вызывающие автолиз клетки, отходы жизнедеятельности, запасные питательные веществ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0901050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5" descr="09010502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0901050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09010101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09010102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50920" y="260280"/>
          <a:ext cx="8640720" cy="64803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59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Растительная кле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d05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Животная кле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d05b"/>
                    </a:solidFill>
                  </a:tcPr>
                </a:tc>
              </a:tr>
              <a:tr h="5918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e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4960">
                <a:tc gridSpan="2"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Наличие плазматической мембран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Цитоплаз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Ядра с ядрышк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Хромо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Эндоплазматической се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Митохондр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Рибо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Комплекса Гольдж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лич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e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 центральная вакуол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 пласти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лизо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ка снаружи покрыта целлюлозной клеточной стенко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центральной вакуо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пласти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 лизосо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очная стенка отсутствует, снаружи покрыта гликокалек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7ea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онтрольное обобщение материа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числите мембранные органоиды клет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824360" cy="370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Цитоплазматическая мембрана, эндоплазматическая сеть, комплекс Гольджи, митохондрии, лизосомы, пластид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Какие химические вещества образуют ЦМ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елки и лип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5" descr="09010201"/>
          <p:cNvPicPr/>
          <p:nvPr/>
        </p:nvPicPr>
        <p:blipFill>
          <a:blip r:embed="rId1"/>
          <a:stretch/>
        </p:blipFill>
        <p:spPr>
          <a:xfrm>
            <a:off x="1547640" y="2870280"/>
            <a:ext cx="5524560" cy="352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акой органоид является энергетической станцией клетки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3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5" descr="1-177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1-177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тохонд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5" descr="09010401"/>
          <p:cNvPicPr/>
          <p:nvPr/>
        </p:nvPicPr>
        <p:blipFill>
          <a:blip r:embed="rId1"/>
          <a:stretch/>
        </p:blipFill>
        <p:spPr>
          <a:xfrm>
            <a:off x="1547640" y="2133720"/>
            <a:ext cx="6696360" cy="425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Какую функцию выполняют лизосомы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09010404"/>
          <p:cNvPicPr/>
          <p:nvPr/>
        </p:nvPicPr>
        <p:blipFill>
          <a:blip r:embed="rId1"/>
          <a:stretch/>
        </p:blipFill>
        <p:spPr>
          <a:xfrm>
            <a:off x="1476360" y="2951280"/>
            <a:ext cx="55958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Внутриклеточное пищеварение и расщепление вещест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ова функция комплекса Гольдж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5" descr="09010403"/>
          <p:cNvPicPr/>
          <p:nvPr/>
        </p:nvPicPr>
        <p:blipFill>
          <a:blip r:embed="rId1"/>
          <a:stretch/>
        </p:blipFill>
        <p:spPr>
          <a:xfrm>
            <a:off x="1187280" y="2254320"/>
            <a:ext cx="7156800" cy="454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интез липидов и углеводов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екреция белков,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глеводов и липид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начение рибосом для клет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4" descr="эпс"/>
          <p:cNvPicPr/>
          <p:nvPr/>
        </p:nvPicPr>
        <p:blipFill>
          <a:blip r:embed="rId1"/>
          <a:stretch/>
        </p:blipFill>
        <p:spPr>
          <a:xfrm>
            <a:off x="1643040" y="2714760"/>
            <a:ext cx="6072120" cy="326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Синтез белк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акие органоиды создают цитоскелет клет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икротрубоч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090104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43040" y="3238560"/>
            <a:ext cx="5429160" cy="246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включе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09010502"/>
          <p:cNvPicPr/>
          <p:nvPr/>
        </p:nvPicPr>
        <p:blipFill>
          <a:blip r:embed="rId1"/>
          <a:stretch/>
        </p:blipFill>
        <p:spPr>
          <a:xfrm>
            <a:off x="1692360" y="2886120"/>
            <a:ext cx="495144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постоянные структуры, где находится запас питательных веществ: жир, крахмал, бел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начение ЭПС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5" descr="09010402"/>
          <p:cNvPicPr/>
          <p:nvPr/>
        </p:nvPicPr>
        <p:blipFill>
          <a:blip r:embed="rId1"/>
          <a:srcRect l="0" t="0" r="0" b="12149"/>
          <a:stretch/>
        </p:blipFill>
        <p:spPr>
          <a:xfrm>
            <a:off x="428760" y="2540160"/>
            <a:ext cx="757224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ероховатое ЭПС – синтез и транспорт бел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адкое ЭПС – синтез и транспорт липи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м отделено ядро от цитоплазм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4" descr="09010301"/>
          <p:cNvPicPr/>
          <p:nvPr/>
        </p:nvPicPr>
        <p:blipFill>
          <a:blip r:embed="rId1"/>
          <a:stretch/>
        </p:blipFill>
        <p:spPr>
          <a:xfrm>
            <a:off x="3071880" y="2928960"/>
            <a:ext cx="35161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вуслойной ядерной мембраной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Назови немембранные органоид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босомы, клеточный центр, микротрубоч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5" descr="090104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71760" y="3309840"/>
            <a:ext cx="5429160" cy="246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остави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вопросы параграф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0901010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a26d18"/>
                </a:solidFill>
                <a:latin typeface="Times New Roman"/>
              </a:rPr>
              <a:t>Клеточная мембрана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 функции: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разделение содержимого клетки и внешней среды; 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регуляция обмена веществ между клеткой и средой; 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место протекания некоторых биохимических реакций </a:t>
            </a: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(в том числе фотосинтеза);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объединение клеток в ткани. 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Важнейшее свойство плазматической мембраны – полупроницаемость. Через неё медленно диффундируют глюкоза, аминокислоты, жирные кислоты и ионы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62" name="Picture 6" descr="мембрана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971640" y="2349360"/>
            <a:ext cx="6575400" cy="4092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мембрана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928800" y="2357280"/>
            <a:ext cx="6575400" cy="4092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мембрана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081080" y="2509920"/>
            <a:ext cx="6575400" cy="4092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User</cp:lastModifiedBy>
  <dcterms:modified xsi:type="dcterms:W3CDTF">2017-09-22T09:14:43Z</dcterms:modified>
  <cp:revision>36</cp:revision>
  <dc:subject/>
  <dc:title>СТРОЕНИЕ КЛЕТКИ:  ОСНОВНЫЕ   ОРГАНОИДЫ</dc:title>
</cp:coreProperties>
</file>