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D40-9BEE-4512-AD94-48ED4925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642-3C2F-45C6-826A-AFA79FBB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CC3-3E7F-41F7-A2BC-3FA568F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61E-ED0A-4CD3-BC00-383EC339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E743-E4B4-4C3A-903E-513FCC0D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4BA2-91FB-4A37-AE92-D5B119F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AD6-9242-41EE-B34F-660E2E1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A899-AF53-4242-BC3B-02F0004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83A-7C36-4769-8A3D-74884C0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E5C3-C6C7-4D3E-8B05-1E38BD0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B56-EFF4-4AC6-B519-B06F0AB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5C6-CBAB-4771-A653-9CB8B35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8E63-73DE-4CA1-A56C-9951A72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776-D398-4BE7-99EB-61297B1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7E21-76EF-4F2D-B00A-D5A82920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2F9E-B4CB-4543-AA5F-3B21E0C5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03C-0BE4-484F-A5B3-7BE3DE6A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49A-9AD7-4514-8989-AFE3D2F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863-9E83-4B6A-8DC7-973A4C1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B88-E092-40CF-98A8-9E06314A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DB8-1FB2-47EE-B900-889E6FBA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CAE-1593-4840-8D1B-2BEAAF6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D5A-7EDA-4A7B-B761-3B022CE9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F89-4090-4530-B4BB-69B445A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6323-816F-44C9-97B5-D1C21BD4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BB7-CCCD-48E8-BAB5-9A676735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Нахождение  нескольких процентов  от 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 мате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: Стрельникова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Размышля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выборах  старосты 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% учеников проголосовали  за  кандидатуру  Феди  Иванова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 50% -против  этой  кандидатуры.  Можно ли  при  таком  голосовании  принять  решение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68360" y="836640"/>
          <a:ext cx="8058240" cy="5116320"/>
        </p:xfrm>
        <a:graphic>
          <a:graphicData uri="http://schemas.openxmlformats.org/drawingml/2006/table">
            <a:tbl>
              <a:tblPr/>
              <a:tblGrid>
                <a:gridCol w="1643040"/>
                <a:gridCol w="1639800"/>
                <a:gridCol w="1468440"/>
                <a:gridCol w="1528920"/>
                <a:gridCol w="177804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традь 9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не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жн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ши 1к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нас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ф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чень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ша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хматы 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ьки 8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стрю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нокль 15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гр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ви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осипед 30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б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и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66535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гическая задача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У  стены  стоит  кадушка,  а  в кадушке той – лягушка. Если б был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7 кадушек, сколько было бы лягуше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1511280"/>
            <a:ext cx="7016760" cy="30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Задача  №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доходный  налог  составляет  13%  от  зарплаты.  Сколько рублей будет  удержано для  уплаты подоходного  налога  с  4700р.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7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9973ff"/>
                </a:solidFill>
                <a:latin typeface="Times New Roman"/>
              </a:rPr>
              <a:t>См. с. 2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Задача  №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4545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 нашей  школе  обучаются  152  учеников.   25%  из  них  имеют закрепившуюся  привычку  курить. Сколько  учеников  в нашей  школ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уря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003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016760" cy="489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613920" y="577836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73ff"/>
                </a:solidFill>
                <a:latin typeface="Arial"/>
              </a:rPr>
              <a:t>см.с.253  №89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Предпраздничные  ски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32000" y="1916280"/>
          <a:ext cx="5989680" cy="3808080"/>
        </p:xfrm>
        <a:graphic>
          <a:graphicData uri="http://schemas.openxmlformats.org/drawingml/2006/table">
            <a:tbl>
              <a:tblPr/>
              <a:tblGrid>
                <a:gridCol w="2160720"/>
                <a:gridCol w="1833480"/>
                <a:gridCol w="19954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Холоди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ылес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5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Блуз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76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016760" cy="489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пасиб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28026" r="0" b="80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0" y="476280"/>
            <a:ext cx="4572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Марийский край- край лесн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7 % его территории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занимают ле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Лес красив во все времена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8" descr="35"/>
          <p:cNvPicPr/>
          <p:nvPr/>
        </p:nvPicPr>
        <p:blipFill>
          <a:blip r:embed="rId1"/>
          <a:stretch/>
        </p:blipFill>
        <p:spPr>
          <a:xfrm>
            <a:off x="0" y="189000"/>
            <a:ext cx="4859280" cy="309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42"/>
          <p:cNvPicPr/>
          <p:nvPr/>
        </p:nvPicPr>
        <p:blipFill>
          <a:blip r:embed="rId2"/>
          <a:stretch/>
        </p:blipFill>
        <p:spPr>
          <a:xfrm>
            <a:off x="0" y="335772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44"/>
          <p:cNvPicPr/>
          <p:nvPr/>
        </p:nvPicPr>
        <p:blipFill>
          <a:blip r:embed="rId3"/>
          <a:stretch/>
        </p:blipFill>
        <p:spPr>
          <a:xfrm>
            <a:off x="4859280" y="3357720"/>
            <a:ext cx="410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7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1510920"/>
            <a:ext cx="7016760" cy="335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Проверка  домашнего  задания -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№872(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84224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% от 354                              53,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  от  3400                           17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% от 180                              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5% от 140                              1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%  от 593097                 59309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Проверка домашнего  зад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3% от 478р                          109,94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% от 50р                              3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5% от 200р                          150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0% от 86р94к                     86р94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% от 42р                            10,5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 Новым  годом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844640"/>
          <a:ext cx="7632720" cy="3808440"/>
        </p:xfrm>
        <a:graphic>
          <a:graphicData uri="http://schemas.openxmlformats.org/drawingml/2006/table">
            <a:tbl>
              <a:tblPr/>
              <a:tblGrid>
                <a:gridCol w="2160720"/>
                <a:gridCol w="1833480"/>
                <a:gridCol w="1995480"/>
                <a:gridCol w="1643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 в  рубл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Холоди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ылес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5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Блуз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76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16:40Z</dcterms:created>
  <dc:creator>Admin</dc:creator>
  <dc:description/>
  <dc:language>en-US</dc:language>
  <cp:lastModifiedBy>Admin</cp:lastModifiedBy>
  <dcterms:modified xsi:type="dcterms:W3CDTF">2002-01-01T01:09:10Z</dcterms:modified>
  <cp:revision>7</cp:revision>
  <dc:subject/>
  <dc:title>Тема: Решение задач на  нахождение  нескольких процентов  от  чис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