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88A-8677-4369-94D9-CF7B443C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D7F-C3F2-46D4-900A-8B3C9642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5FD-D779-4311-9CC1-6F3DB1D7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4F4-EAE8-4E86-95DB-02DB47B8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99E4-B1F2-4AE2-8D75-78EFA047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53F8-ECE2-433B-9DDD-42BF142D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5F63-E8E0-44E5-974C-7E1F091B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7E91-C058-4AC2-9DAC-05AF2789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205D-168E-41AB-AC29-15DE4EA8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74B1-0D48-470E-AEC0-BAEE1E45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D75D-F04E-4170-994B-82804EA8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AD9-55B5-4D6A-8F36-A937F5A0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EE6C-0D5C-40CC-852B-B3772E7A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55A7-717F-4437-B3DC-7B7E4E62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D438-9131-4DAE-8371-A757BCDB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BCB5-7053-4C01-925E-80A80514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59FB-6890-480C-B84B-AD30E123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7A0-666C-41FF-87CC-E840AD8D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212-AEA7-4CE1-A8C5-6F9B3DF6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BB8-E78B-4257-BDB2-88D09484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BEB-816A-4025-B4BF-5B8118A1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896-E4EF-449D-8BDF-FEC9DC82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73E-4616-493C-A055-DDDCF9D5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9F2-A322-4888-AF9E-816E68A7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0D23-6C9F-4A91-97AB-CEBA1737B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3CE7-C649-431F-862A-B2DE9AE46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ма: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   Нахождение  нескольких процентов  от 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рок  математ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9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ель: Стрельникова Г.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Размышля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выборах  старосты  класс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% учеников проголосовали  за  кандидатуру  Феди  Иванова,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 50% -против  этой  кандидатуры.  Можно ли  при  таком  голосовании  принять  решение? Поч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468360" y="836640"/>
          <a:ext cx="8058240" cy="5116320"/>
        </p:xfrm>
        <a:graphic>
          <a:graphicData uri="http://schemas.openxmlformats.org/drawingml/2006/table">
            <a:tbl>
              <a:tblPr/>
              <a:tblGrid>
                <a:gridCol w="1643040"/>
                <a:gridCol w="1639800"/>
                <a:gridCol w="1468440"/>
                <a:gridCol w="1528920"/>
                <a:gridCol w="177804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я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чк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традь 9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ней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жниц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блоки1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уши 1к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анас1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ф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чень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шад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гр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ахматы 2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ьки 85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стрю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инокль 15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то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гр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Мяг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гр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ов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гр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ви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осипед 30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к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б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иг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47640" y="1196640"/>
            <a:ext cx="66535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огическая задача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У  стены  стоит  кадушка,  а  в кадушке той – лягушка. Если б было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7 кадушек, сколько было бы лягушек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280" y="1511280"/>
            <a:ext cx="7016760" cy="30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ма  урока: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Нахождение  нескольких процентов  от  чис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Задача  №1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доходный  налог  составляет  13%  от  зарплаты.  Сколько рублей будет  удержано для  уплаты подоходного  налога  с  4700р.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7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73ff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9973ff"/>
                </a:solidFill>
                <a:latin typeface="Times New Roman"/>
              </a:rPr>
              <a:t>См. с. 2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Задача  №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32360" y="1268280"/>
            <a:ext cx="34545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 нашей  школе  обучаются  152  учеников.   25%  из  них  имеют закрепившуюся  привычку  курить. Сколько  учеников  в нашей  школ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н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куря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50036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016760" cy="489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ема  урока: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Нахождение  нескольких процентов  от  числа</a:t>
            </a:r>
            <a:br>
              <a:rPr sz="16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6613920" y="577836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73ff"/>
                </a:solidFill>
                <a:latin typeface="Arial"/>
              </a:rPr>
              <a:t>см.с.253  №89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Предпраздничные  скид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32000" y="1916280"/>
          <a:ext cx="5989680" cy="3808080"/>
        </p:xfrm>
        <a:graphic>
          <a:graphicData uri="http://schemas.openxmlformats.org/drawingml/2006/table">
            <a:tbl>
              <a:tblPr/>
              <a:tblGrid>
                <a:gridCol w="2160720"/>
                <a:gridCol w="1833480"/>
                <a:gridCol w="19954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дка 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Холодиль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120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Пылес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35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тю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Блуз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76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016760" cy="489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Спасибо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28026" r="0" b="80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0" y="476280"/>
            <a:ext cx="4572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Марийский край- край лесно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57 % его территории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занимают лес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Лес красив во все времена год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8" descr="35"/>
          <p:cNvPicPr/>
          <p:nvPr/>
        </p:nvPicPr>
        <p:blipFill>
          <a:blip r:embed="rId1"/>
          <a:stretch/>
        </p:blipFill>
        <p:spPr>
          <a:xfrm>
            <a:off x="0" y="189000"/>
            <a:ext cx="4859280" cy="3095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42"/>
          <p:cNvPicPr/>
          <p:nvPr/>
        </p:nvPicPr>
        <p:blipFill>
          <a:blip r:embed="rId2"/>
          <a:stretch/>
        </p:blipFill>
        <p:spPr>
          <a:xfrm>
            <a:off x="0" y="3357720"/>
            <a:ext cx="4859280" cy="3500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44"/>
          <p:cNvPicPr/>
          <p:nvPr/>
        </p:nvPicPr>
        <p:blipFill>
          <a:blip r:embed="rId3"/>
          <a:stretch/>
        </p:blipFill>
        <p:spPr>
          <a:xfrm>
            <a:off x="4859280" y="3357720"/>
            <a:ext cx="4105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7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1510920"/>
            <a:ext cx="7016760" cy="335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ма  урока: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Нахождение  нескольких процентов  от  чис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Проверка  домашнего  задания -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№872(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784224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% от 354                              53,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  от  3400                           17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5% от 180                              4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5% от 140                              10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%  от 593097                 59309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Проверка домашнего  зада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3% от 478р                          109,94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% от 50р                              3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5% от 200р                          150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00% от 86р94к                     86р94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5% от 42р                            10,5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С Новым  годом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55640" y="1844640"/>
          <a:ext cx="7632720" cy="3808440"/>
        </p:xfrm>
        <a:graphic>
          <a:graphicData uri="http://schemas.openxmlformats.org/drawingml/2006/table">
            <a:tbl>
              <a:tblPr/>
              <a:tblGrid>
                <a:gridCol w="2160720"/>
                <a:gridCol w="1833480"/>
                <a:gridCol w="1995480"/>
                <a:gridCol w="16430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дка 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дка  в  рубл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Холодиль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120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Пылес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35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тю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Блуз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760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16:40Z</dcterms:created>
  <dc:creator>Admin</dc:creator>
  <dc:description/>
  <dc:language>en-US</dc:language>
  <cp:lastModifiedBy>Admin</cp:lastModifiedBy>
  <dcterms:modified xsi:type="dcterms:W3CDTF">2002-01-01T01:09:10Z</dcterms:modified>
  <cp:revision>7</cp:revision>
  <dc:subject/>
  <dc:title>Тема: Решение задач на  нахождение  нескольких процентов  от  числ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