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258-B638-48DD-B5FD-5B5FD1A4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0E9-9744-4942-9C27-813637C1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BCF-7162-48D1-9B86-46C78815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3F2-BF2D-43A2-B7FA-881F5EBD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73DC-D913-4C06-988F-1BA44AEF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AE56-B1C3-4328-93D1-D1781A9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05E-2321-4B11-AE51-FB4A895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D3D-AB4E-4975-9B9F-D7188B1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D7C7-99D6-4DF0-8410-0CE29912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FCA-1CA4-4146-95B7-73AEECA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6893-88BF-4FE4-AB18-C3E65BE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27E-0849-4A65-A006-4CA3FEF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F59C-A40D-4FA6-942E-12AAC16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880-B0D8-4502-9816-FFACE4B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96C8-2EE5-4B8D-862E-4DAE75F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E9BA-3F36-42CF-9935-DAA05EB1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133-7F61-4669-8B24-F5BE4FA7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3A5-CA85-41B3-B0A3-5F9F0C1C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114-867B-47F7-B6CA-DFB29585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5B5-D44D-41CD-A63D-1663C5FB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B07-CC95-4032-86E8-B1A3CFD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79F-6292-4596-9C2C-3782719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02A-8A02-4821-9899-D19E05B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A3A-A63C-4420-9354-C8E2DD9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4EA-5517-4816-820D-AC8F988DC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D3C3-EA52-470D-BBE4-5B40AA0A79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699_&#1075;&#1086;&#1076;" TargetMode="External"/><Relationship Id="rId2" Type="http://schemas.openxmlformats.org/officeDocument/2006/relationships/hyperlink" Target="https://ru.wikipedia.org/wiki/&#1052;&#1086;&#1089;&#1082;&#1074;&#1072;" TargetMode="External"/><Relationship Id="rId3" Type="http://schemas.openxmlformats.org/officeDocument/2006/relationships/hyperlink" Target="https://ru.wikipedia.org/wiki/1761_&#1075;&#1086;&#1076;" TargetMode="External"/><Relationship Id="rId4" Type="http://schemas.openxmlformats.org/officeDocument/2006/relationships/hyperlink" Target="https://ru.wikipedia.org/wiki/&#1057;&#1072;&#1085;&#1082;&#1090;-&#1055;&#1077;&#1090;&#1077;&#1088;&#1073;&#1091;&#1088;&#1075;" TargetMode="External"/><Relationship Id="rId5" Type="http://schemas.openxmlformats.org/officeDocument/2006/relationships/hyperlink" Target="https://ru.wikipedia.org/wiki/&#1056;&#1086;&#1089;&#1089;&#1080;&#1103;" TargetMode="External"/><Relationship Id="rId6" Type="http://schemas.openxmlformats.org/officeDocument/2006/relationships/hyperlink" Target="https://ru.wikipedia.org/wiki/&#1050;&#1072;&#1088;&#1072;&#1074;&#1072;&#1082;,_&#1051;&#1091;&#1080;" TargetMode="External"/><Relationship Id="rId7" Type="http://schemas.openxmlformats.org/officeDocument/2006/relationships/hyperlink" Target="https://ru.wikipedia.org/wiki/&#1050;&#1072;&#1088;&#1072;&#1074;&#1072;&#1082;,_&#1051;&#1091;&#1080;" TargetMode="External"/><Relationship Id="rId8" Type="http://schemas.openxmlformats.org/officeDocument/2006/relationships/hyperlink" Target="https://ru.wikipedia.org/wiki/&#1050;&#1072;&#1088;&#1072;&#1074;&#1072;&#1082;,_&#1051;&#1091;&#1080;" TargetMode="External"/><Relationship Id="rId9" Type="http://schemas.openxmlformats.org/officeDocument/2006/relationships/hyperlink" Target="https://ru.wikipedia.org/wiki/&#1052;&#1072;&#1090;&#1074;&#1077;&#1077;&#1074;,_&#1040;&#1085;&#1076;&#1088;&#1077;&#1081;_&#1052;&#1072;&#1090;&#1074;&#1077;&#1077;&#1074;&#1080;&#1095;" TargetMode="External"/><Relationship Id="rId10" Type="http://schemas.openxmlformats.org/officeDocument/2006/relationships/hyperlink" Target="https://ru.wikipedia.org/wiki/&#1056;&#1086;&#1082;&#1086;&#1082;&#1086;" TargetMode="External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aryou.ru/vishnyakov/0vishn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aryou.ru/vishnyakov/0vish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aryou.ru/vishnyakov/0vishn.html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aryou.ru/vishnyakov/0vishn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aryou.ru/vishnyakov/0vishn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aryou.ru/antropov/0antropov.html" TargetMode="External"/><Relationship Id="rId2" Type="http://schemas.openxmlformats.org/officeDocument/2006/relationships/hyperlink" Target="http://www.nearyou.ru/vishnyakov/0vishn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aryou.ru/vishnyakov/0vishn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028840" y="45720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ван Яковлевич Вишня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менитый русский художник-портретист, монументалист, декоратор, иконописец, один из представителей светского портрета в стиле роко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и: Ковтун Елена,Ковтун А.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та рождения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9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есто рождения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Моск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та смерти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6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есто смерти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рана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Росс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Жанр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чёба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Л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. 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Карава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А. М. Матве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иль:</a:t>
            </a:r>
            <a:r>
              <a:rPr b="1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рокок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Фотография"/>
          <p:cNvPicPr/>
          <p:nvPr/>
        </p:nvPicPr>
        <p:blipFill>
          <a:blip r:embed="rId11"/>
          <a:stretch/>
        </p:blipFill>
        <p:spPr>
          <a:xfrm>
            <a:off x="152280" y="15228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747720" y="648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ван Вишняков, автопортр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88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его портретах, особенно детских, отразился дух русского рокайльного искус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 стиле рококо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в них нет бездушности, фривольности, наружной слащавости и галантности, присущих западному рококо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0" y="5409720"/>
            <a:ext cx="419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.Я.Вишняк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евочка с птич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холст, масло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183200" y="152280"/>
            <a:ext cx="4960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29200" y="228600"/>
            <a:ext cx="381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шняков не прошел «академической выучки», но знает об анатомии, однако, спокойно идет на нарушение ее правил. В знаменитом «Портрете Сарры-Элеоноры Фермор» ради изысканной красоты текучих линий и цельности силуэта фигуры наделяет юную дочь начальника Канцелярии от строений В.Фермора чрезмерно длинными руками. Словно дивный цветок неземной красоты, расцветает над великолепным муаровым платьем нежное девичье личик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52520" y="5178240"/>
            <a:ext cx="396252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И.Я.Вишня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ртрет Сарры-Элеоноры Ферм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750г, холст, масло, 138 Х 114,5 см. 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сударственный Русский музей, Санкт-Петербур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11040" y="533520"/>
            <a:ext cx="46483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419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цо его на первый взгляд кажется схожим по живописи с лицом сестры; незаметные в своей легкости мазки белой, порой чуть подцвеченной краски, в нужных местах оставляющие открытым желтый грунт с проступающей текстурой холста, создают впечатление бесплотности, воздушного сияния. Родственно раннему портрету и ощущение безмятежной тишины, высокого целомудрия обр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нако имеются и значительные различия. Лицо мальчика бедней красочными оттенками и тончайшими нюансами света. Вместо этого появились тяжелые и широкие темные тени. Резче прочерчены брови и не столь мягки переходы в рельефе лица. В целом живопись стала плотней и суше, отчего пострадали живость и свежесть образа. Возможно, глаза стареющего мастера уже не были, как прежде, чуткими к неуловимым нюансам света и тени; но возможно также и то, что живопись лица была повреждена другим художником, переписавшим портрет еще при жизни Вишнякова в связи с произведением Вильгельма в сержантский чин и необходимостью нарядить его в соответствующий мунди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й переделке, очевидно, возникли грубые ошибки в рисунке фигуры, которых не мог допустить сам Вишняков, например в неестественном повороте представлена стопа левой ноги, руки не ощутимы под рукавами кружевной сорочки. Чуждыми образному строю Вишнякова выглядят плотные, как бы овеществленные цвета одежд и темные, невыразительные краски фона, где изначально, как на портрете Сарры Элеоноры, архитектурные детали сочетались с пейзаж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28240" y="5867280"/>
            <a:ext cx="41180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.Я.Вишняков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ортрет Вильгельма Георга Фермор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брата Сарры-Элеоноры Фермор</a:t>
            </a: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750г, холст, масло, 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Государственный Русский музей, Санкт-Петербург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495680" y="361800"/>
            <a:ext cx="4545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6095520"/>
            <a:ext cx="419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Портрет Елизаветы Петровны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1743г, холст, масло, 255 х 180 cм 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66720" y="152280"/>
            <a:ext cx="4575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езупречный «глаз» художника и безукоризненный вкус вывели Вишнякова в ряд лучших портретистов того времени. Недаром, он был допущен, не только копировать, но и писать портреты царствующих особ, а затем «тиражировать» их для многочисленных дворцов, государственных учреждений и частных высокопоставленных лиц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Художнику нравилась декоративная роскошь парадных нарядов его эпохи, их театральность и празднич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 восхищением он передает вещность и предметность мира, тщательно, с любовью выписывает изумительные костюмы XVIII столетия, с их тканями со сложными узорами, различных расцветок и фактур, с тончайшими вышивками и кружевами и украшения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к мастер-декоратор Вишняков создает исключительную цветовую гамму. И хотя узор словно наложен поверх негнущихся складок одежды, он осязаем, и напоминает, по словам искусствоведа Т.В.Ильиной, «поле роскошной древнерусской миниатюры XVII в. или растительный орнамент фрески того времени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 над всем этим богатством вещного мира смотрят и дышат лица людей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. 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195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304560"/>
            <a:ext cx="419400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шнякова отличало  стремление изображать ни чем не знаменитых людей, раскрывать перед зрителем особое, личное пристрастие к обычному человеку стало несомненным новаторством художника в русском искус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8320" y="5562360"/>
            <a:ext cx="4194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И.Я.Вишня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ртрет К.И.Тишин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755г, холст, масло, 100.2 x 82 cм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ыбинский историко-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360680" cy="5153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0" y="3784320"/>
            <a:ext cx="3886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ишняков знает о прямой перспективе и использует ее, когда это совершенно необходимо, но скрупулезное соблюдение ее законов для него не более чем докучливая условность ( «Портрет Вильгельма Георга Фермора»). Он знает, что узоры на одежде должны следовать за ее складками, но тяга к декоративности чувств побеждает, и растительный узор и цветы на костюмах его персонажей распускаются зачастую как бы поверх складок, не желают полностью подчиняться их изгибам.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19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енный камзол — отнюдь не дань карнавальной моде. Детей из знатных дворянских семей еще при рождении записывали в армию, так что к совершеннолетию они получали офицерский чин.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едыдущие столетия pебенок считался маленькой копией, уменьшенным вариантом взрослого человека — отсюда и обращение на «вы» к сиятельным детям и наряды, как у взрослых. Федя Голицын нарисован в такой позе, в какой обычно изображали умудренных жизнью и опытом полководцев: подбоченясь, по-хозяйски засунув руку за борт камзола, перетянутый поясом, он крепко стоит на широко расставленных ногах. Прислоненное к стулу ружье намекает, что Федя в свои юные годы -- отличный охотник; взгляд же его проницателен и мудр, как у ловкого придворного.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ежда, в данном случае мундир конногвардейца, трактуется подчеркнуто декоративно. Цветовые пятна темно-синего, почти черного кафтана и красного камзола, золотого шитья подчеркивают светлоый тон, которым написаны лицо и волосы ребенк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ортрете мальчика Голицына прослеживается русская традиция портретной живописи, которая вела свое начало от парсунной живописи Древней Руси. В основе выразительности парсуны лежал контраст подкупающей правды изображения лица и условной, как бы распластанной на плоскости фигу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удожник еще не свободен от прежних иконописных принципов письма: нейтральный глухой фон высветлен вокруг фигуры мальчика подобно нимбу над головой святого. Передача объемов также не входила в творческую задачу: изображение нарочито плоскостно, никаких градаций цвета, наоборот — как в живописи русских авангардистов, каждому цвету на этом старинном полотне отведен свой сегмент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23920" y="6095880"/>
            <a:ext cx="41943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Tahoma"/>
              </a:rPr>
              <a:t>И.Я.Вишняков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ортрет Ф.Н.Голицына в детств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760г, холст, масло,119.3 x 68.2 cм. 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8600" y="57240"/>
            <a:ext cx="42069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240" y="5635440"/>
            <a:ext cx="79246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Портрет Василия Дараган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1745г, холст, масло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Музей искусства и истории, Чернигов, Украин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Репрезентативный портрет Василия Дарагана написан по случаю возведения его в кавалер-пажи. Здесь все как у взрослых: позы, жест, парадный костюм с дорогим серебряным шитьем, черная треуголка и даже шпага. Видно, как трудно выстоять ребенку сеанс позирования, и он с трудом сдерживает улыбку и желание убежать. Шести-восьмилетний мальчик с живым, веселым взглядом широко открытых глаз простодушен и непринужден.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8320" y="4572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годами Иван Яковлевич все больше тяготел к религиозной живописи и даже отстаивал свое право не только контролировать, но и писать иконостас для Андреевского собора в Киеве (икона Богоматери с младенцем, образ Св.Апостола Андрея Первозванного, 1750-1753 гг.). До самой смерти работал он над иконами большой церкви Зимнего дворца (1761г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портрет, который в русском искусстве был проверкой на высшую ступень живописного мастерства, остался ведущим жанром в творчестве Вишнякова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711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413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ru.wikipedia.org/wiki/Вишняков,_Иван_Яковле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nearyou.ru/vishnyakov/0vishn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7086240" y="1599840"/>
            <a:ext cx="1755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304560"/>
            <a:ext cx="76993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ятнадцатилетнем возрасте Иван Вишняков отправляется в Петербур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038480" y="1599840"/>
            <a:ext cx="4803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27-1731 год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 Я. Вишняков работал под руководством потомственного французского портретиста, приглашенного для творчества и обучения учеников в Россию, Луи Карава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и Карава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л портреты Петр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Елизавет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а Вишнякова Луи Каравак  аттестовал  как «искусного в писании фигур» худож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740040" cy="5019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621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уи Карав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638320" y="-108000"/>
            <a:ext cx="320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5960" y="-360"/>
            <a:ext cx="46479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 учебы, в 1727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ван Вишняков  был направлен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нцелярию от строе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звании «живописного подмастерь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есь, под началом руководителя Живописной команды Андрея Матвеева, Иван формировался как художник-монументалист, тесно сотрудничая с архитекторами, резчиками и скульпторами — всеми теми мастерами, которые создали декоративный стиль того периода, основанный на синтезе русского барокко и рокок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8320" y="5562720"/>
            <a:ext cx="41940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Матвеев, автопортрет с же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5720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19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тя Иван великолепно справлялся с работами самостоятельно, делал ли он копии или сам «писал персоны Его Императорского Величества Петра I» и другие портреты, выполнял массу декоративных и реставрационных работ, до 1739 г. он числился в подмастерь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09120" y="190476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662720" cy="57340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04920" y="586728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И.Я.Вишня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ртрет молодого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~1750г, холст, масло, Львовская картинная галерея, Украи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1920"/>
            <a:ext cx="41940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 смерти А.Матвее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шняков стал мастером и принял руководство над Живописной коман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льнейшее его продвижение было довольно значительным. Он получил одно за другим звания прапорщика (1741г.) и капитана (1742г.), был возведен в ранг коллежского асессора, став таким образом дворянином (1745г.), а в 1752г. пожалован чином надворного советника и приведен к прися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491000" cy="5162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343400" y="5562720"/>
            <a:ext cx="48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.Я.Вишняков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ртрет М. С. Бегич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757г, холст, масло, 92x78.5 cм 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узей В.А.Тропинина, Москва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атвей Семенович Бегичев - штаб-офицер артилл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59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.Я.Вишняков</a:t>
            </a:r>
            <a:br>
              <a:rPr sz="1600"/>
            </a:b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Вознесение</a:t>
            </a:r>
            <a:br>
              <a:rPr sz="1600"/>
            </a:b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1755-1756г, холст, масло, </a:t>
            </a:r>
            <a:br>
              <a:rPr sz="1600"/>
            </a:b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Государственный Русский музей, Санкт-Петербург 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0" y="4876920"/>
            <a:ext cx="876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удожник работал в тесном контакте с зодчими В.В.Растрелли, М.Г.Земцовым и декоратором Дж. Валериани, участвовал в бесконечных перестройках, в реставрациях и новом строительстве Зимнего, Летнего и Аничкового дворцов, Триумфальных ворот в Москве, Петропавловского собора, оперных домов, Петергофского и Царскосельского дворц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сожалению, почти все его работы были переделаны в век классицизма. До нас дошел  длинный список его трудов и всего лишь несколько сохраненных карти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58676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4876920"/>
            <a:ext cx="8690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ысокое профессиональное мастерство обеспечивало Ивану Вишнякову большую нагрузку, и живописная «служба» больше походила на военную: приказали, значит, надо срочно сделать самому или обеспечить исполнителя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ется, можно было утонуть в ворохе высочайших указов, счетов и отчетов. А ведь Вишняков не только руководил всеми живописными работами в Петербурге, Москве и в загородных резиденциях двора, он и непосредственно в них участвова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324480" y="1599840"/>
            <a:ext cx="251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.Я.Вишня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ждество Богоматер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745г, холст, масло, 56.5 х 77.5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сударственный Русский музей, Санкт-Петербург 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из Троицко-Петровского собора)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19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152640" y="151920"/>
            <a:ext cx="4343400" cy="59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четверть века, проведенного во главе Живописной команды Канцелярии от строений, художником была создана целая школа, которая может быть по праву названа «школой И.Я.Вишнякова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 обучения, разработанная А.Матвеевым и совершенствованная Иваном Яковлевичем, легла в основу принципов преподавания в Академии художест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вописцы Г.Молчанов, И.Бельский,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А.Антроп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иконописец М. Колокольников и десятки менее знаменитых художников были учениками этого замечательного педагога и заботливого наставни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92800" y="5334120"/>
            <a:ext cx="465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И.Я.Вишня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ртрет И.Н.Коцаре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759г, холст, масло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И.Н.Коцарев — представитель Комнатной контор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830840" y="0"/>
            <a:ext cx="4313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6019560"/>
            <a:ext cx="419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.Я.Вишняков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ортрет С.С.Яковлево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56г, холст, масло,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Государственный Русский музей, Санкт-Петербург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19360" y="533520"/>
            <a:ext cx="442260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шняков никогда не выезжал из России, не погружался в иную художественную среду.Поэтому традиции русского искусства допетровского времени своеобразно сосуществуют в его живописи с новыми для России западноевропейскими принци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4233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19:50:33Z</dcterms:created>
  <dc:creator>User</dc:creator>
  <dc:description/>
  <dc:language>en-US</dc:language>
  <cp:lastModifiedBy>User</cp:lastModifiedBy>
  <dcterms:modified xsi:type="dcterms:W3CDTF">2017-09-22T19:41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