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086-FFAA-40DB-8CE2-7954DBA1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39F-C16D-4E81-9590-F1CDEACD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90A-E1A4-4582-9356-1CCBFAC1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0F62-AFBE-44BE-94A4-B2F30383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3A3E-CEC0-4ABB-A8C9-2C5E83B3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648A-6394-4AA1-A595-2C5A83E3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D448-A400-4549-846A-0755460C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A186-3046-481B-A1EB-8544318F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B7FD-2DAA-4895-9B1C-EE1CD1CC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EE01-2E63-4EDA-82DB-2710321B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C25C-488A-4D69-90B1-A445AA94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7708-F193-488C-B8BE-44DFB932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03EC-6771-43C4-A500-CEA6AF7D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51C0-1D7C-4275-BA53-4FB458B4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8CDC-7A4F-45E6-983E-9818BA66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D48A-8358-460D-9A2E-59FAA8AF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B9A4-D279-4F06-8329-5CEA03C1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DFA-17DB-4B2F-B9D2-6FFA2D14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89C-A814-43CA-9F1B-7F374897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B54-513A-4CF8-9782-54FC2BE5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A44-B4BB-4296-B306-A6DCF005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4E6-9C82-4A54-B261-BD00043F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536-088F-414F-9E09-296CA37D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8C16-AD9B-4D61-9EB0-EE8821AD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7365-F834-4014-9E1C-7A3893C683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8EE2-4CDC-45EB-991C-7F22B8CE7C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6d18"/>
                </a:solidFill>
                <a:latin typeface="Times New Roman"/>
              </a:rPr>
              <a:t>МБДОУ «Детский сад № 137</a:t>
            </a:r>
            <a:br>
              <a:rPr sz="2000"/>
            </a:br>
            <a:r>
              <a:rPr b="1" lang="ru-RU" sz="2000" spc="-1" strike="noStrike">
                <a:solidFill>
                  <a:srgbClr val="a26d18"/>
                </a:solidFill>
                <a:latin typeface="Times New Roman"/>
              </a:rPr>
              <a:t>Дзержинск,  Нижегородская область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Проект по мотивам </a:t>
            </a:r>
            <a:br>
              <a:rPr sz="4000"/>
            </a:b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русской народной сказки </a:t>
            </a:r>
            <a:br>
              <a:rPr sz="4000"/>
            </a:b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«Репка» </a:t>
            </a:r>
            <a:br>
              <a:rPr sz="4000"/>
            </a:b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(средняя группа)</a:t>
            </a:r>
            <a:br>
              <a:rPr sz="5400"/>
            </a:br>
            <a:br>
              <a:rPr sz="5400"/>
            </a:b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Выполнила</a:t>
            </a:r>
            <a:r>
              <a:rPr b="1" i="1" lang="ru-RU" sz="5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воспитатель Пущиенко Н.В.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Актуальность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настоящее время в массовой практике ДОУ театрализованная деятельность остается «Золушкой», и ее судьба, как от злой мачехи зависит от желания и интересов педагога. В первую очередь это связано с общей загруженностью наших воспитателей и недопониманием значения театрализованной деятельности для развития ребенка - дошкольника.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в развитии театрализованной деятельности и  творческих способностей детей использовать интонационную выразительность, то формирование речи и творческих способностей произойдет быстрее и эффективн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95280" y="188640"/>
            <a:ext cx="8353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Times New Roman"/>
              </a:rPr>
              <a:t>Тип проекта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a1c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a1c00"/>
                </a:solidFill>
                <a:latin typeface="Times New Roman"/>
              </a:rPr>
              <a:t>творческий на один год</a:t>
            </a:r>
            <a:br>
              <a:rPr sz="2000"/>
            </a:br>
            <a:r>
              <a:rPr b="1" lang="ru-RU" sz="2400" spc="-1" strike="noStrike" u="sng">
                <a:solidFill>
                  <a:srgbClr val="cc3300"/>
                </a:solidFill>
                <a:uFillTx/>
                <a:latin typeface="Times New Roman"/>
              </a:rPr>
              <a:t>Возраст детей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-5 лет</a:t>
            </a:r>
            <a:br>
              <a:rPr sz="2000"/>
            </a:br>
            <a:r>
              <a:rPr b="1" lang="ru-RU" sz="2400" spc="-1" strike="noStrike" u="sng">
                <a:solidFill>
                  <a:srgbClr val="cc3300"/>
                </a:solidFill>
                <a:uFillTx/>
                <a:latin typeface="Times New Roman"/>
              </a:rPr>
              <a:t>Цель проект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выразительности  речи у детей младшего дошкольного возраста средствами речевой интонационной выразительности при пересказе литературных текстов (выразить сочувствие, уговорить, предложить; сила голоса, интонация, ритм и темп реч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Рисунок 2" descr="IMG_7163.JPG"/>
          <p:cNvPicPr/>
          <p:nvPr/>
        </p:nvPicPr>
        <p:blipFill>
          <a:blip r:embed="rId1"/>
          <a:stretch/>
        </p:blipFill>
        <p:spPr>
          <a:xfrm>
            <a:off x="1619280" y="2671920"/>
            <a:ext cx="59403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Задач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знакомить детей средней группы с одним из видов театра в процессе подготовки к театрализованному представлению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ть представление о жанровых особенностях, структурой, видами, сюжетом сказ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звивающ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должать с помощью воспитателя определять и называть ярко выраженные эмоциональные состояния детей (радуются, смеются, испугались, плачут), учитывать их при общении: пожалеть, развеселить, использовать ласковые сло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вать устойчивый интерес к литературе, театрализованн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вать диалогическую речь средствами интонационной вырази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оспитатель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питание интереса к фольклорным и литературным текстам, желания их слуша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жидаемые результат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жидаемый результат проек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нутренние продукт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возможность каждой желающей семье принять участие в групповой выставке, использование продуктов детской деятельности для выставки, на занятиях (как часть раздаточного материала). Дети  пользуются настольным и пальчиковым театром. Передавать характер персонажа интонационной выразительностью речи, мимикой, жест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нешние продукт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частие со сказкой в конкурсах, выставках (ДОУ, городских), подарок (родителям, сотрудникам ДОУ, малыша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хема 6" descr=""/>
          <p:cNvPicPr/>
          <p:nvPr/>
        </p:nvPicPr>
        <p:blipFill>
          <a:blip r:embed="rId1"/>
          <a:stretch/>
        </p:blipFill>
        <p:spPr>
          <a:xfrm>
            <a:off x="-60480" y="927000"/>
            <a:ext cx="8991720" cy="61437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Изображение 904.jpg"/>
          <p:cNvPicPr/>
          <p:nvPr/>
        </p:nvPicPr>
        <p:blipFill>
          <a:blip r:embed="rId2"/>
          <a:stretch/>
        </p:blipFill>
        <p:spPr>
          <a:xfrm>
            <a:off x="6284880" y="573120"/>
            <a:ext cx="2603520" cy="17431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3" descr="Изображение 041.jpg"/>
          <p:cNvPicPr/>
          <p:nvPr/>
        </p:nvPicPr>
        <p:blipFill>
          <a:blip r:embed="rId3"/>
          <a:stretch/>
        </p:blipFill>
        <p:spPr>
          <a:xfrm>
            <a:off x="341280" y="628560"/>
            <a:ext cx="2414520" cy="18162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" descr="Изображение 512.jpg"/>
          <p:cNvPicPr/>
          <p:nvPr/>
        </p:nvPicPr>
        <p:blipFill>
          <a:blip r:embed="rId4"/>
          <a:stretch/>
        </p:blipFill>
        <p:spPr>
          <a:xfrm>
            <a:off x="3444840" y="628560"/>
            <a:ext cx="1955880" cy="147492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4" descr=""/>
          <p:cNvPicPr/>
          <p:nvPr/>
        </p:nvPicPr>
        <p:blipFill>
          <a:blip r:embed="rId5"/>
          <a:stretch/>
        </p:blipFill>
        <p:spPr>
          <a:xfrm>
            <a:off x="2054160" y="-384120"/>
            <a:ext cx="58406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Подготовительный этап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50920" y="764640"/>
            <a:ext cx="46814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цели и задач проек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ление плана реализации проекта (основного этапа проектировани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бор художественной литератур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учение Интернет-материал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учение методической литерату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ка проекта оформления РПП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ка конспекта Н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овещение и вовлечение родителей в тему проек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Рисунок 3" descr="IMG_7203.JPG"/>
          <p:cNvPicPr/>
          <p:nvPr/>
        </p:nvPicPr>
        <p:blipFill>
          <a:blip r:embed="rId1"/>
          <a:stretch/>
        </p:blipFill>
        <p:spPr>
          <a:xfrm>
            <a:off x="4427640" y="2060640"/>
            <a:ext cx="4356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сновной этап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79280" y="54936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ение с детьми сказки «Реп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еседа по содержанию сказки «Реп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смотр мультфильма «Реп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ведение НОД по теме проекта «Инсценирование русской народной сказки «Реп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дуктивная деятельность совместно с деть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аимодействие с родителями в ходе проекта: изготовление декораций, подборка костюм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епенное наполнение РППС во время развития проекта: изготовление атрибутов : овощи из папье-маше (репка, свёкла, редиска, морковка, капуста);шапки для репки, свёклы, редиски, морковки, кошки, собачки, мышки (принимали участие родители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вместная с детьми деятельность:  распределение ролей воспитателями совместно с детьми: скоморохи ( ведущие),    дед,   бабка,   внучка,   собачка,  кошка,   мыш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ксирование всех этапов и форм проведения проекта (фоторепортаж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-драматизация  - инсценировка сказки детьми с привлечением родителей к творческой деятель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бор музыкального сопровожд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Заключительный этап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836640"/>
            <a:ext cx="4114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формление группы продуктами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ручение дипломов, сертификатов, благодарностей и пр. участникам про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формление «фоторепортаж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дение досуг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стие в конкурсе «Солнышко в ладошках», «Пасхальный колокольчик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стер- класс для педагогов ДО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Рисунок 3" descr="IMG_7169.JPG"/>
          <p:cNvPicPr/>
          <p:nvPr/>
        </p:nvPicPr>
        <p:blipFill>
          <a:blip r:embed="rId1"/>
          <a:stretch/>
        </p:blipFill>
        <p:spPr>
          <a:xfrm>
            <a:off x="4565520" y="3716280"/>
            <a:ext cx="4400640" cy="288144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13" descr="IMG_7158.JPG"/>
          <p:cNvPicPr/>
          <p:nvPr/>
        </p:nvPicPr>
        <p:blipFill>
          <a:blip r:embed="rId2"/>
          <a:stretch/>
        </p:blipFill>
        <p:spPr>
          <a:xfrm>
            <a:off x="4932360" y="981000"/>
            <a:ext cx="34304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3:44:53Z</dcterms:created>
  <dc:creator>Олег</dc:creator>
  <dc:description/>
  <dc:language>en-US</dc:language>
  <cp:lastModifiedBy>Nata</cp:lastModifiedBy>
  <dcterms:modified xsi:type="dcterms:W3CDTF">2017-09-22T18:24:56Z</dcterms:modified>
  <cp:revision>54</cp:revision>
  <dc:subject/>
  <dc:title>Краткосрочный проект  «Закружилась листва  золотая» (подготовительная группа)  воспитатель Деревянко Е.А.</dc:title>
</cp:coreProperties>
</file>