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AE2-F132-4677-8C6C-A3E5C0E0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E9D-CE36-4A2F-9832-0F3CEDBA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FBA0-9FC5-47B7-910A-4F4E8008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E19-8820-4396-8703-94FE45AD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1E88-1CE6-4F26-82B7-A453DB08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9DDE-97D1-4699-A434-8CD77DDE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9967-49B1-4745-B080-4FE741CB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D979-DAA0-48AE-8CC7-F7073B09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E5E9-C234-47BA-A36D-A4E13783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42F1-48B4-4343-B611-9350F186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EEA5-FC2A-480E-91DB-49F0EB80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CA3-F813-4CB9-85DB-F90052A1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7D2D-C8B2-4EAE-AEAE-2D080E9F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9DF0-F3B6-4448-BB7F-7724719D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13E6-FD97-4AAC-9602-094BD040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FC20-4CEA-4F32-9F64-38E4A0F7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8FC7-6E99-4168-8AE1-9B0EDE2A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401F-0282-4306-8A1F-724C29E1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C79-761B-4753-8BE4-C1CA1A7D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103-2854-4DA3-A11B-190AA005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85E-11D0-4AE3-8F03-02E95D77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B676-C848-401A-8C3C-797AF983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C901-B135-4C28-B3E4-A13194DE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94C4-A6FA-40C1-BC66-BEC36ADA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C54F-4488-4634-99E9-51363ED1C9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6AB6-802D-44D2-80A7-A6B15B365F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6d18"/>
                </a:solidFill>
                <a:latin typeface="Times New Roman"/>
              </a:rPr>
              <a:t>МБДОУ «Детский сад № 137</a:t>
            </a:r>
            <a:br>
              <a:rPr sz="2000"/>
            </a:br>
            <a:r>
              <a:rPr b="1" lang="ru-RU" sz="2000" spc="-1" strike="noStrike">
                <a:solidFill>
                  <a:srgbClr val="a26d18"/>
                </a:solidFill>
                <a:latin typeface="Times New Roman"/>
              </a:rPr>
              <a:t>Дзержинск,  Нижегородская область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Проект по мотивам </a:t>
            </a:r>
            <a:br>
              <a:rPr sz="4000"/>
            </a:b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русской народной сказки </a:t>
            </a:r>
            <a:br>
              <a:rPr sz="4000"/>
            </a:b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«Репка» </a:t>
            </a:r>
            <a:br>
              <a:rPr sz="4000"/>
            </a:b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(средняя группа)</a:t>
            </a:r>
            <a:br>
              <a:rPr sz="5400"/>
            </a:br>
            <a:br>
              <a:rPr sz="5400"/>
            </a:b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Выполнила</a:t>
            </a:r>
            <a:r>
              <a:rPr b="1" i="1" lang="ru-RU" sz="5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воспитатель Пущиенко Н.В.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Актуальность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настоящее время в массовой практике ДОУ театрализованная деятельность остается «Золушкой», и ее судьба, как от злой мачехи зависит от желания и интересов педагога. В первую очередь это связано с общей загруженностью наших воспитателей и недопониманием значения театрализованной деятельности для развития ребенка - дошкольника.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в развитии театрализованной деятельности и  творческих способностей детей использовать интонационную выразительность, то формирование речи и творческих способностей произойдет быстрее и эффективн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95280" y="188640"/>
            <a:ext cx="8353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Times New Roman"/>
              </a:rPr>
              <a:t>Тип проекта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a1c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a1c00"/>
                </a:solidFill>
                <a:latin typeface="Times New Roman"/>
              </a:rPr>
              <a:t>творческий на один год</a:t>
            </a:r>
            <a:br>
              <a:rPr sz="2000"/>
            </a:br>
            <a:r>
              <a:rPr b="1" lang="ru-RU" sz="2400" spc="-1" strike="noStrike" u="sng">
                <a:solidFill>
                  <a:srgbClr val="cc3300"/>
                </a:solidFill>
                <a:uFillTx/>
                <a:latin typeface="Times New Roman"/>
              </a:rPr>
              <a:t>Возраст детей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-5 лет</a:t>
            </a:r>
            <a:br>
              <a:rPr sz="2000"/>
            </a:br>
            <a:r>
              <a:rPr b="1" lang="ru-RU" sz="2400" spc="-1" strike="noStrike" u="sng">
                <a:solidFill>
                  <a:srgbClr val="cc3300"/>
                </a:solidFill>
                <a:uFillTx/>
                <a:latin typeface="Times New Roman"/>
              </a:rPr>
              <a:t>Цель проект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выразительности  речи у детей младшего дошкольного возраста средствами речевой интонационной выразительности при пересказе литературных текстов (выразить сочувствие, уговорить, предложить; сила голоса, интонация, ритм и темп реч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Рисунок 2" descr="IMG_7163.JPG"/>
          <p:cNvPicPr/>
          <p:nvPr/>
        </p:nvPicPr>
        <p:blipFill>
          <a:blip r:embed="rId1"/>
          <a:stretch/>
        </p:blipFill>
        <p:spPr>
          <a:xfrm>
            <a:off x="1619280" y="2671920"/>
            <a:ext cx="59403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Задач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знакомить детей средней группы с одним из видов театра в процессе подготовки к театрализованному представлению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ть представление о жанровых особенностях, структурой, видами, сюжетом сказ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звивающ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должать с помощью воспитателя определять и называть ярко выраженные эмоциональные состояния детей (радуются, смеются, испугались, плачут), учитывать их при общении: пожалеть, развеселить, использовать ласковые сло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вать устойчивый интерес к литературе, театрализованн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вать диалогическую речь средствами интонационной вырази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оспитатель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питание интереса к фольклорным и литературным текстам, желания их слуша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жидаемые результат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жидаемый результат проек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нутренние продукт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возможность каждой желающей семье принять участие в групповой выставке, использование продуктов детской деятельности для выставки, на занятиях (как часть раздаточного материала). Дети  пользуются настольным и пальчиковым театром. Передавать характер персонажа интонационной выразительностью речи, мимикой, жест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нешние продукт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частие со сказкой в конкурсах, выставках (ДОУ, городских), подарок (родителям, сотрудникам ДОУ, малыша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хема 6" descr=""/>
          <p:cNvPicPr/>
          <p:nvPr/>
        </p:nvPicPr>
        <p:blipFill>
          <a:blip r:embed="rId1"/>
          <a:stretch/>
        </p:blipFill>
        <p:spPr>
          <a:xfrm>
            <a:off x="-60480" y="927000"/>
            <a:ext cx="8991720" cy="61437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Изображение 904.jpg"/>
          <p:cNvPicPr/>
          <p:nvPr/>
        </p:nvPicPr>
        <p:blipFill>
          <a:blip r:embed="rId2"/>
          <a:stretch/>
        </p:blipFill>
        <p:spPr>
          <a:xfrm>
            <a:off x="6284880" y="573120"/>
            <a:ext cx="2603520" cy="17431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3" descr="Изображение 041.jpg"/>
          <p:cNvPicPr/>
          <p:nvPr/>
        </p:nvPicPr>
        <p:blipFill>
          <a:blip r:embed="rId3"/>
          <a:stretch/>
        </p:blipFill>
        <p:spPr>
          <a:xfrm>
            <a:off x="341280" y="628560"/>
            <a:ext cx="2414520" cy="18162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" descr="Изображение 512.jpg"/>
          <p:cNvPicPr/>
          <p:nvPr/>
        </p:nvPicPr>
        <p:blipFill>
          <a:blip r:embed="rId4"/>
          <a:stretch/>
        </p:blipFill>
        <p:spPr>
          <a:xfrm>
            <a:off x="3444840" y="628560"/>
            <a:ext cx="1955880" cy="147492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4" descr=""/>
          <p:cNvPicPr/>
          <p:nvPr/>
        </p:nvPicPr>
        <p:blipFill>
          <a:blip r:embed="rId5"/>
          <a:stretch/>
        </p:blipFill>
        <p:spPr>
          <a:xfrm>
            <a:off x="2054160" y="-384120"/>
            <a:ext cx="58406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Подготовительный этап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50920" y="764640"/>
            <a:ext cx="46814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цели и задач проек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ление плана реализации проекта (основного этапа проектировани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бор художественной литератур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учение Интернет-материал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учение методической литерату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ка проекта оформления РПП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ка конспекта Н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овещение и вовлечение родителей в тему проек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Рисунок 3" descr="IMG_7203.JPG"/>
          <p:cNvPicPr/>
          <p:nvPr/>
        </p:nvPicPr>
        <p:blipFill>
          <a:blip r:embed="rId1"/>
          <a:stretch/>
        </p:blipFill>
        <p:spPr>
          <a:xfrm>
            <a:off x="4427640" y="2060640"/>
            <a:ext cx="4356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сновной этап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79280" y="54936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ение с детьми сказки «Реп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еседа по содержанию сказки «Реп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смотр мультфильма «Реп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ведение НОД по теме проекта «Инсценирование русской народной сказки «Реп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дуктивная деятельность совместно с деть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аимодействие с родителями в ходе проекта: изготовление декораций, подборка костюм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епенное наполнение РППС во время развития проекта: изготовление атрибутов : овощи из папье-маше (репка, свёкла, редиска, морковка, капуста);шапки для репки, свёклы, редиски, морковки, кошки, собачки, мышки (принимали участие родители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вместная с детьми деятельность:  распределение ролей воспитателями совместно с детьми: скоморохи ( ведущие),    дед,   бабка,   внучка,   собачка,  кошка,   мыш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ксирование всех этапов и форм проведения проекта (фоторепортаж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-драматизация  - инсценировка сказки детьми с привлечением родителей к творческой деятель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бор музыкального сопровожд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Заключительный этап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836640"/>
            <a:ext cx="4114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формление группы продуктами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ручение дипломов, сертификатов, благодарностей и пр. участникам про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формление «фоторепортаж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дение досуг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стие в конкурсе «Солнышко в ладошках», «Пасхальный колокольчик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стер- класс для педагогов ДО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Рисунок 3" descr="IMG_7169.JPG"/>
          <p:cNvPicPr/>
          <p:nvPr/>
        </p:nvPicPr>
        <p:blipFill>
          <a:blip r:embed="rId1"/>
          <a:stretch/>
        </p:blipFill>
        <p:spPr>
          <a:xfrm>
            <a:off x="4565520" y="3716280"/>
            <a:ext cx="4400640" cy="288144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13" descr="IMG_7158.JPG"/>
          <p:cNvPicPr/>
          <p:nvPr/>
        </p:nvPicPr>
        <p:blipFill>
          <a:blip r:embed="rId2"/>
          <a:stretch/>
        </p:blipFill>
        <p:spPr>
          <a:xfrm>
            <a:off x="4932360" y="981000"/>
            <a:ext cx="34304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3:44:53Z</dcterms:created>
  <dc:creator>Олег</dc:creator>
  <dc:description/>
  <dc:language>en-US</dc:language>
  <cp:lastModifiedBy>Nata</cp:lastModifiedBy>
  <dcterms:modified xsi:type="dcterms:W3CDTF">2017-09-22T18:24:56Z</dcterms:modified>
  <cp:revision>54</cp:revision>
  <dc:subject/>
  <dc:title>Краткосрочный проект  «Закружилась листва  золотая» (подготовительная группа)  воспитатель Деревянко Е.А.</dc:title>
</cp:coreProperties>
</file>