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29F-E092-478F-9193-EF41FA36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652-CC52-49CF-B7C3-3D5257D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AD6-A7A3-4FA7-916D-35959862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F41-475D-4817-A2E3-F5990549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464A-0F20-4537-8876-6F048297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F9B8-F38E-464D-B05A-E611713E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06F-DA1E-4C8B-89BB-15B9F8F1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1A95-FF26-44A7-A843-ECA77E9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B912-C723-4914-AC69-3CF7F5AC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076-D5D8-4A13-8C48-41B1743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9FB9-6CC1-4E17-81AF-3ACEAA3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67A-0694-41C2-9C6B-037B3203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42FB-543E-4693-8CA1-B277708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2AA0-6868-436C-9B94-A83A7E9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A20D-DA3D-45A0-8E90-0F7A0F8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E95-64D5-4AF4-BCA4-9CDD1CE7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81A8-CEA7-4D50-84C4-0245C6FC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62C-48D2-42CF-AF58-047F3CAB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F24-2319-4C52-AE16-46CF8494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5AB-FA7E-4B74-9953-E0F0F94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B98-7CA7-4342-A161-DAFC107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72D-2B7F-431C-90B5-33AFCB1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E34-4B70-4D9B-8FB9-9F204B94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73A-8277-4AA0-8E91-7931E38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3052-427E-4B65-A358-CD0E75BB8E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DFFB-FF52-4B6D-A763-89325FF19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МБДОУ «Детский сад № 137</a:t>
            </a:r>
            <a:br>
              <a:rPr sz="2000"/>
            </a:b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Дзержинск,  Нижегородская облас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Развитие речи детей через театрализованную деятельность по сказке « Теремок» с использованием регионального компонента и многонационального фольклора».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(старший возраст)</a:t>
            </a:r>
            <a:br>
              <a:rPr sz="5400"/>
            </a:br>
            <a:br>
              <a:rPr sz="5400"/>
            </a:b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Выполнила:</a:t>
            </a: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воспитатель Пущиенко Н.В.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аключительный эта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836640"/>
            <a:ext cx="4114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группы продуктами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учение дипломов, сертификатов, благодарностей и пр. участникам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«фоторепортаж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осуг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ие в конкурсе «Солнышко в ладошках», «Пасхальный колокольчи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тер- класс для педагогов ДО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4643280" y="1093680"/>
            <a:ext cx="435636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4614840" y="4075200"/>
            <a:ext cx="43560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астоящее время возникает необходимость в том, чтобы ребенок почувствовал уникальность своего народа, знал историю своей семьи, страны, мира, возлюбил свою родину, пришел к пониманию и осознанию собственной неповторимости, и значимости каждого человека, живущего на земле. Как же научить малыша принимать на себя ту или иную роль и проявлять в ней себя? Этому поможет теат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атр - один из самых демократических и доступных видов искусства и для детей в том числе. Он позволяет решить многие актуальные проблемы современной педагогики и психологии, связанные с художественным образованием и воспитанием детей, с формированием эстетического вкуса, с нравственным воспитанием, развитием речи и воспитанием эмоциональный настрой и нередко - выходить через театрализованную игру из конфликтных ситуац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Тип проект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a1c00"/>
                </a:solidFill>
                <a:latin typeface="Times New Roman"/>
              </a:rPr>
              <a:t> творческий на один год</a:t>
            </a:r>
            <a:br>
              <a:rPr sz="24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озраст детей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- 7 лет</a:t>
            </a:r>
            <a:br>
              <a:rPr sz="24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Цель проект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я у детей старшего дошкольного возраста о национальностях      (русские, татары, мордва, чуваши), используя  средства интонацио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5219640" y="2154240"/>
            <a:ext cx="37083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492720" cy="2397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3"/>
          <a:stretch/>
        </p:blipFill>
        <p:spPr>
          <a:xfrm>
            <a:off x="611280" y="4673520"/>
            <a:ext cx="3456000" cy="2184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4"/>
          <a:stretch/>
        </p:blipFill>
        <p:spPr>
          <a:xfrm>
            <a:off x="4859280" y="464976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5"/>
          <a:stretch/>
        </p:blipFill>
        <p:spPr>
          <a:xfrm>
            <a:off x="3014640" y="2852640"/>
            <a:ext cx="2106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ть сказки народов, проживающих на территории нашей области (русские , татарские, мордовские,  чувашск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ать нравственную позицию народов по отношению друг к другу через театрализованн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ть средства интонационной выразительности (самостоятельное изменение темпа, ритма речи, силы и тембра голоса, в зависимости от содерж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 и восприимчивость,  которые дают возможность широко использовать воспитательное воздействие сказ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ть артистические способности детей, умение передавать эмоциональное состояние героев невербальными средствами общения (мимикой, жестами, позо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полнять словарный запас детей, развивать диалогическую и монологическую речь, их вырази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питывать у детей любовь и интерес к сказке; прививать навыки вежливого пове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жидаемые результа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озможность каждой желающей семье принять участие в групповой выставке, использование продуктов детской деятельности для выставки, на занятиях (как часть раздаточного материала). Дети  пользуются настольным и пальчиковым театром. Передавать характер персонажа интонационной выразительностью речи, мимикой, жес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еш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астие со сказкой в конкурсах, выставках (ДОУ, городских), подарок (родителям, сотрудникам ДОУ, малыш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хема 1" descr=""/>
          <p:cNvPicPr/>
          <p:nvPr/>
        </p:nvPicPr>
        <p:blipFill>
          <a:blip r:embed="rId1"/>
          <a:stretch/>
        </p:blipFill>
        <p:spPr>
          <a:xfrm>
            <a:off x="-115920" y="500040"/>
            <a:ext cx="9272520" cy="6156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-311040"/>
            <a:ext cx="7680240" cy="1457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DSCN3787.JPG"/>
          <p:cNvPicPr/>
          <p:nvPr/>
        </p:nvPicPr>
        <p:blipFill>
          <a:blip r:embed="rId3"/>
          <a:stretch/>
        </p:blipFill>
        <p:spPr>
          <a:xfrm>
            <a:off x="428760" y="642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IMG_6877.JPG"/>
          <p:cNvPicPr/>
          <p:nvPr/>
        </p:nvPicPr>
        <p:blipFill>
          <a:blip r:embed="rId4"/>
          <a:stretch/>
        </p:blipFill>
        <p:spPr>
          <a:xfrm>
            <a:off x="3500280" y="714240"/>
            <a:ext cx="264348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IMG_2995.jpg"/>
          <p:cNvPicPr/>
          <p:nvPr/>
        </p:nvPicPr>
        <p:blipFill>
          <a:blip r:embed="rId5"/>
          <a:stretch/>
        </p:blipFill>
        <p:spPr>
          <a:xfrm>
            <a:off x="6572160" y="857160"/>
            <a:ext cx="2571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хема 1" descr=""/>
          <p:cNvPicPr/>
          <p:nvPr/>
        </p:nvPicPr>
        <p:blipFill>
          <a:blip r:embed="rId1"/>
          <a:stretch/>
        </p:blipFill>
        <p:spPr>
          <a:xfrm>
            <a:off x="-115920" y="1560600"/>
            <a:ext cx="9047160" cy="5724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2" descr=""/>
          <p:cNvPicPr/>
          <p:nvPr/>
        </p:nvPicPr>
        <p:blipFill>
          <a:blip r:embed="rId2"/>
          <a:stretch/>
        </p:blipFill>
        <p:spPr>
          <a:xfrm>
            <a:off x="-212760" y="-171360"/>
            <a:ext cx="9551880" cy="1457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IMG_5364.JPG"/>
          <p:cNvPicPr/>
          <p:nvPr/>
        </p:nvPicPr>
        <p:blipFill>
          <a:blip r:embed="rId3"/>
          <a:stretch/>
        </p:blipFill>
        <p:spPr>
          <a:xfrm>
            <a:off x="6516720" y="814320"/>
            <a:ext cx="2627280" cy="19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Изображение 047.jpg"/>
          <p:cNvPicPr/>
          <p:nvPr/>
        </p:nvPicPr>
        <p:blipFill>
          <a:blip r:embed="rId4"/>
          <a:stretch/>
        </p:blipFill>
        <p:spPr>
          <a:xfrm>
            <a:off x="3097080" y="814320"/>
            <a:ext cx="3000600" cy="2005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"/>
          <p:cNvPicPr/>
          <p:nvPr/>
        </p:nvPicPr>
        <p:blipFill>
          <a:blip r:embed="rId5"/>
          <a:stretch/>
        </p:blipFill>
        <p:spPr>
          <a:xfrm>
            <a:off x="384120" y="865080"/>
            <a:ext cx="26859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дготовительны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764640"/>
            <a:ext cx="46814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цели и задач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плана реализации проекта (основного этапа проектир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Интернет-материа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методической лит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 оформления РПП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конспекта Н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вещение и вовлечение родителей в тему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3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592720" cy="3564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381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сновно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280" y="54936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ение с детьми национальных сказок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седа по содержанию сказки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мотр мультфильма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дение НОД по теме проекта «Пересказ русской народной сказки «Теремок» методом моделирован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седы: виды театра, правила поведения в театре; работники теат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ка и показ презентаций по национальностям  Нижегородско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родителями в ходе проекта: изготовление декораций, подборка костюмов. Театральные костюмы: русские национальные костюмы , татарские национальные костюмы , чувашские национальные костюмы , мордовские национальные костюмы с привлечением роди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местная с детьми деятельность:  распределение ролей воспитателями совместно с деть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ксирование всех этапов и форм проведения проекта (фоторепортаж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-драматизация  - инсценировка сказки детьми с привлечением родителей к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 музыкального сопровождения. Распределение ролей по выбору детьми. Ведущий 1   Ведущий 2     Комар    Муха    Мышка   Лягушка   Петушок  Курочка  Лиса  Медвед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44:53Z</dcterms:created>
  <dc:creator>Олег</dc:creator>
  <dc:description/>
  <dc:language>en-US</dc:language>
  <cp:lastModifiedBy>Nata</cp:lastModifiedBy>
  <dcterms:modified xsi:type="dcterms:W3CDTF">2017-09-22T19:12:03Z</dcterms:modified>
  <cp:revision>60</cp:revision>
  <dc:subject/>
  <dc:title>Краткосрочный проект  «Закружилась листва  золотая» (подготовительная группа)  воспитатель Деревянко Е.А.</dc:title>
</cp:coreProperties>
</file>