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7B8A-369C-458F-890E-8B2DA89E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CD4-31CB-4A81-9181-4A394E60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1FFA-F32B-4EAC-9794-84DD2E85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BC9-0720-4FB5-8210-DBE4EBC0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3594-F42C-43E0-A4B1-37AA32D1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4C8B-98FD-4999-B639-97D4BE2A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19E5-9EDD-413F-A44D-F9E0671C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4425-5E4F-43D4-8CAE-2A21D6C9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2C89-1D07-4880-8293-79276E23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47BF-E529-4658-9651-C438F626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5D7E-546E-4FB5-9A18-C3698506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D36-1EAC-4F4C-BFCB-8A62AEE4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FC38-8A22-4758-843D-9D2C5EEA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6DBA-DF56-42AE-9A42-17F1F63D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CE9D-DBA4-42DC-BBE4-A5F858B5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A250-701F-4677-ADF5-0D5F68EF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16B1-EBAF-4A77-803D-8518A8B2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7F2-46F3-490A-BEC5-D6B46CDF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2D4E-2454-41B8-B752-10DCCD2A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C78B-664A-42D9-AF21-3830ACCC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1C76-62DF-48B2-8C3C-9E1103BE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FDAB-DF19-401C-9304-2375A9B4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D7D5-A80F-4474-8DC3-CCCC0869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F6FB-4344-4F76-B30B-A3BC14B3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32B4-1971-4FC6-8977-CCBADF1061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A5B3-A5C9-49D2-A23D-85C33A3198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6d18"/>
                </a:solidFill>
                <a:latin typeface="Times New Roman"/>
              </a:rPr>
              <a:t>МБДОУ «Детский сад № 137</a:t>
            </a:r>
            <a:br>
              <a:rPr sz="2000"/>
            </a:br>
            <a:r>
              <a:rPr b="1" lang="ru-RU" sz="2000" spc="-1" strike="noStrike">
                <a:solidFill>
                  <a:srgbClr val="a26d18"/>
                </a:solidFill>
                <a:latin typeface="Times New Roman"/>
              </a:rPr>
              <a:t>Дзержинск,  Нижегородская область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«Развитие речи детей через театрализованную деятельность по сказке « Теремок» с использованием регионального компонента и многонационального фольклора».</a:t>
            </a:r>
            <a:br>
              <a:rPr sz="2800"/>
            </a:br>
            <a:r>
              <a:rPr b="1" lang="ru-RU" sz="28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a26d18"/>
                </a:solidFill>
                <a:latin typeface="Times New Roman"/>
              </a:rPr>
              <a:t>(старший возраст)</a:t>
            </a:r>
            <a:br>
              <a:rPr sz="5400"/>
            </a:br>
            <a:br>
              <a:rPr sz="5400"/>
            </a:b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Выполнила:</a:t>
            </a:r>
            <a:r>
              <a:rPr b="1" i="1" lang="ru-RU" sz="5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воспитатель Пущиенко Н.В.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Заключительный этап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836640"/>
            <a:ext cx="4114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формление группы продуктами детск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ручение дипломов, сертификатов, благодарностей и пр. участникам про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формление «фоторепортаж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дение досуг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стие в конкурсе «Солнышко в ладошках», «Пасхальный колокольчик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стер- класс для педагогов ДО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Рисунок 1" descr=""/>
          <p:cNvPicPr/>
          <p:nvPr/>
        </p:nvPicPr>
        <p:blipFill>
          <a:blip r:embed="rId1"/>
          <a:stretch/>
        </p:blipFill>
        <p:spPr>
          <a:xfrm>
            <a:off x="4643280" y="1093680"/>
            <a:ext cx="4356360" cy="26877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2" descr=""/>
          <p:cNvPicPr/>
          <p:nvPr/>
        </p:nvPicPr>
        <p:blipFill>
          <a:blip r:embed="rId2"/>
          <a:stretch/>
        </p:blipFill>
        <p:spPr>
          <a:xfrm>
            <a:off x="4614840" y="4075200"/>
            <a:ext cx="43560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Актуальность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настоящее время возникает необходимость в том, чтобы ребенок почувствовал уникальность своего народа, знал историю своей семьи, страны, мира, возлюбил свою родину, пришел к пониманию и осознанию собственной неповторимости, и значимости каждого человека, живущего на земле. Как же научить малыша принимать на себя ту или иную роль и проявлять в ней себя? Этому поможет теат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атр - один из самых демократических и доступных видов искусства и для детей в том числе. Он позволяет решить многие актуальные проблемы современной педагогики и психологии, связанные с художественным образованием и воспитанием детей, с формированием эстетического вкуса, с нравственным воспитанием, развитием речи и воспитанием эмоциональный настрой и нередко - выходить через театрализованную игру из конфликтных ситуаци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95280" y="188640"/>
            <a:ext cx="8353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Times New Roman"/>
              </a:rPr>
              <a:t>Тип проекта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a1c00"/>
                </a:solidFill>
                <a:latin typeface="Times New Roman"/>
              </a:rPr>
              <a:t> творческий на один год</a:t>
            </a:r>
            <a:br>
              <a:rPr sz="2400"/>
            </a:br>
            <a:r>
              <a:rPr b="1" lang="ru-RU" sz="2400" spc="-1" strike="noStrike" u="sng">
                <a:solidFill>
                  <a:srgbClr val="cc3300"/>
                </a:solidFill>
                <a:uFillTx/>
                <a:latin typeface="Times New Roman"/>
              </a:rPr>
              <a:t>Возраст детей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 - 7 лет</a:t>
            </a:r>
            <a:br>
              <a:rPr sz="2400"/>
            </a:br>
            <a:r>
              <a:rPr b="1" lang="ru-RU" sz="2400" spc="-1" strike="noStrike" u="sng">
                <a:solidFill>
                  <a:srgbClr val="cc3300"/>
                </a:solidFill>
                <a:uFillTx/>
                <a:latin typeface="Times New Roman"/>
              </a:rPr>
              <a:t>Цель проекта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ть представления у детей старшего дошкольного возраста о национальностях      (русские, татары, мордва, чуваши), используя  средства интонационной вырази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5219640" y="2154240"/>
            <a:ext cx="3708360" cy="2519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2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3492720" cy="23972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"/>
          <p:cNvPicPr/>
          <p:nvPr/>
        </p:nvPicPr>
        <p:blipFill>
          <a:blip r:embed="rId3"/>
          <a:stretch/>
        </p:blipFill>
        <p:spPr>
          <a:xfrm>
            <a:off x="611280" y="4673520"/>
            <a:ext cx="3456000" cy="21844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"/>
          <p:cNvPicPr/>
          <p:nvPr/>
        </p:nvPicPr>
        <p:blipFill>
          <a:blip r:embed="rId4"/>
          <a:stretch/>
        </p:blipFill>
        <p:spPr>
          <a:xfrm>
            <a:off x="4859280" y="4649760"/>
            <a:ext cx="3600360" cy="22320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"/>
          <p:cNvPicPr/>
          <p:nvPr/>
        </p:nvPicPr>
        <p:blipFill>
          <a:blip r:embed="rId5"/>
          <a:stretch/>
        </p:blipFill>
        <p:spPr>
          <a:xfrm>
            <a:off x="3014640" y="2852640"/>
            <a:ext cx="21067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Задач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50560" y="76500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разоват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учить сказки народов, проживающих на территории нашей области (русские , татарские, мордовские,  чувашски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казать нравственную позицию народов по отношению друг к другу через театрализованную деятель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ользовать средства интонационной выразительности (самостоятельное изменение темпа, ритма речи, силы и тембра голоса, в зависимости от содержан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вивающ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вивать эмоциональную отзывчивость и восприимчивость,  которые дают возможность широко использовать воспитательное воздействие сказ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вивать артистические способности детей, умение передавать эмоциональное состояние героев невербальными средствами общения (мимикой, жестами, позой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полнять словарный запас детей, развивать диалогическую и монологическую речь, их выразитель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оспитатель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спитывать у детей любовь и интерес к сказке; прививать навыки вежливого повед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жидаемые результат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жидаемый результат проек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нутренние продукт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возможность каждой желающей семье принять участие в групповой выставке, использование продуктов детской деятельности для выставки, на занятиях (как часть раздаточного материала). Дети  пользуются настольным и пальчиковым театром. Передавать характер персонажа интонационной выразительностью речи, мимикой, жест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нешние продукт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частие со сказкой в конкурсах, выставках (ДОУ, городских), подарок (родителям, сотрудникам ДОУ, малыша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Схема 1" descr=""/>
          <p:cNvPicPr/>
          <p:nvPr/>
        </p:nvPicPr>
        <p:blipFill>
          <a:blip r:embed="rId1"/>
          <a:stretch/>
        </p:blipFill>
        <p:spPr>
          <a:xfrm>
            <a:off x="-115920" y="500040"/>
            <a:ext cx="9272520" cy="61563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2" descr=""/>
          <p:cNvPicPr/>
          <p:nvPr/>
        </p:nvPicPr>
        <p:blipFill>
          <a:blip r:embed="rId2"/>
          <a:stretch/>
        </p:blipFill>
        <p:spPr>
          <a:xfrm>
            <a:off x="360360" y="-311040"/>
            <a:ext cx="7680240" cy="14572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3" descr="DSCN3787.JPG"/>
          <p:cNvPicPr/>
          <p:nvPr/>
        </p:nvPicPr>
        <p:blipFill>
          <a:blip r:embed="rId3"/>
          <a:stretch/>
        </p:blipFill>
        <p:spPr>
          <a:xfrm>
            <a:off x="428760" y="64296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IMG_6877.JPG"/>
          <p:cNvPicPr/>
          <p:nvPr/>
        </p:nvPicPr>
        <p:blipFill>
          <a:blip r:embed="rId4"/>
          <a:stretch/>
        </p:blipFill>
        <p:spPr>
          <a:xfrm>
            <a:off x="3500280" y="714240"/>
            <a:ext cx="2643480" cy="19051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6" descr="IMG_2995.jpg"/>
          <p:cNvPicPr/>
          <p:nvPr/>
        </p:nvPicPr>
        <p:blipFill>
          <a:blip r:embed="rId5"/>
          <a:stretch/>
        </p:blipFill>
        <p:spPr>
          <a:xfrm>
            <a:off x="6572160" y="857160"/>
            <a:ext cx="25718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Схема 1" descr=""/>
          <p:cNvPicPr/>
          <p:nvPr/>
        </p:nvPicPr>
        <p:blipFill>
          <a:blip r:embed="rId1"/>
          <a:stretch/>
        </p:blipFill>
        <p:spPr>
          <a:xfrm>
            <a:off x="-115920" y="1560600"/>
            <a:ext cx="9047160" cy="572436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2" descr=""/>
          <p:cNvPicPr/>
          <p:nvPr/>
        </p:nvPicPr>
        <p:blipFill>
          <a:blip r:embed="rId2"/>
          <a:stretch/>
        </p:blipFill>
        <p:spPr>
          <a:xfrm>
            <a:off x="-212760" y="-171360"/>
            <a:ext cx="9551880" cy="14572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5" descr="IMG_5364.JPG"/>
          <p:cNvPicPr/>
          <p:nvPr/>
        </p:nvPicPr>
        <p:blipFill>
          <a:blip r:embed="rId3"/>
          <a:stretch/>
        </p:blipFill>
        <p:spPr>
          <a:xfrm>
            <a:off x="6516720" y="814320"/>
            <a:ext cx="2627280" cy="19098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Изображение 047.jpg"/>
          <p:cNvPicPr/>
          <p:nvPr/>
        </p:nvPicPr>
        <p:blipFill>
          <a:blip r:embed="rId4"/>
          <a:stretch/>
        </p:blipFill>
        <p:spPr>
          <a:xfrm>
            <a:off x="3097080" y="814320"/>
            <a:ext cx="3000600" cy="20052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"/>
          <p:cNvPicPr/>
          <p:nvPr/>
        </p:nvPicPr>
        <p:blipFill>
          <a:blip r:embed="rId5"/>
          <a:stretch/>
        </p:blipFill>
        <p:spPr>
          <a:xfrm>
            <a:off x="384120" y="865080"/>
            <a:ext cx="268596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Подготовительный этап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0920" y="764640"/>
            <a:ext cx="46814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цели и задач проек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авление плана реализации проекта (основного этапа проектировани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бор художественной литератур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учение Интернет-материал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учение методической литерату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аботка проекта оформления РПП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аботка конспекта Н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овещение и вовлечение родителей в тему проек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дительское собр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Рисунок 3" descr=""/>
          <p:cNvPicPr/>
          <p:nvPr/>
        </p:nvPicPr>
        <p:blipFill>
          <a:blip r:embed="rId1"/>
          <a:stretch/>
        </p:blipFill>
        <p:spPr>
          <a:xfrm>
            <a:off x="5364000" y="907920"/>
            <a:ext cx="2592720" cy="35640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5" descr=""/>
          <p:cNvPicPr/>
          <p:nvPr/>
        </p:nvPicPr>
        <p:blipFill>
          <a:blip r:embed="rId2"/>
          <a:stretch/>
        </p:blipFill>
        <p:spPr>
          <a:xfrm>
            <a:off x="4859280" y="4581360"/>
            <a:ext cx="3816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сновной этап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79280" y="54936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ение с детьми национальных сказок «Теремо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еседа по содержанию сказки «Теремо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смотр мультфильма «Теремо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ведение НОД по теме проекта «Пересказ русской народной сказки «Теремок» методом моделирования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еседы: виды театра, правила поведения в театре; работники теат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готовка и показ презентаций по национальностям  Нижегородского кра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аимодействие с родителями в ходе проекта: изготовление декораций, подборка костюмов. Театральные костюмы: русские национальные костюмы , татарские национальные костюмы , чувашские национальные костюмы , мордовские национальные костюмы с привлечением родител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вместная с детьми деятельность:  распределение ролей воспитателями совместно с детьм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ксирование всех этапов и форм проведения проекта (фоторепортаж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-драматизация  - инсценировка сказки детьми с привлечением родителей к творческой деятель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бор музыкального сопровождения. Распределение ролей по выбору детьми. Ведущий 1   Ведущий 2     Комар    Муха    Мышка   Лягушка   Петушок  Курочка  Лиса  Медвед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    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3:44:53Z</dcterms:created>
  <dc:creator>Олег</dc:creator>
  <dc:description/>
  <dc:language>en-US</dc:language>
  <cp:lastModifiedBy>Nata</cp:lastModifiedBy>
  <dcterms:modified xsi:type="dcterms:W3CDTF">2017-09-22T19:12:03Z</dcterms:modified>
  <cp:revision>60</cp:revision>
  <dc:subject/>
  <dc:title>Краткосрочный проект  «Закружилась листва  золотая» (подготовительная группа)  воспитатель Деревянко Е.А.</dc:title>
</cp:coreProperties>
</file>