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F43-88EF-47A5-8613-2F7B771D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E320-25FE-4A29-8339-D8FA6039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40E4-CF09-4BCA-A293-8F87C58E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AB2-9F20-4209-A062-0887C251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6497-02DF-406F-B772-F5880BD1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2F6D-42A5-49DE-B70A-75808691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6837-EBC7-482E-B462-FCA21E78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21C3-7324-4E5E-9367-A2FA027D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A884-FDC7-4259-89FC-872CD79A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C3EC-B6FE-4052-A67C-2A729018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4BA2-F3FF-4A62-AE62-662ABD01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211-B683-4029-87C1-CFFD37A4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3B6B-91DC-4D86-806C-681330D2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A6E9-F6B0-433D-AF49-F6DFFB2C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DB8E-1B51-4FA6-A146-2AD97B59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A1C3-5289-4CCF-A4A5-42696DD6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3065-D349-4B90-B20F-15325414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709C-83EC-4997-A8A2-E6DEBA3D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8F8-DA50-4244-8B96-3EC48C06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1AD-E907-4E95-9FC6-2C61A6CD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804-134C-44E6-B444-190412CE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6F2-E301-4B70-8C12-DD3EF221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362-F051-4388-9966-E5972786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7FC-A1FD-4F43-A8DA-819301C9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FF09-3321-41E9-AF19-DDECAA7205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186E-ED6E-4308-92ED-ABB0606608B4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Георгий Несторович Сперанский </a:t>
            </a:r>
            <a:br>
              <a:rPr sz="36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(07.02.1873 – 14.01.1969)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3922200"/>
            <a:ext cx="738648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urier New"/>
              </a:rPr>
              <a:t>- Часто меня спрашивают: вот Вы прожили долгую жизнь и ни разу серьёзно не болели. В чём заключается Ваш секрет? И я отвечаю на это: есть у меня «тайное оружие», -</a:t>
            </a:r>
            <a:r>
              <a:rPr b="1" lang="ru-RU" sz="2400" spc="-1" strike="noStrike">
                <a:solidFill>
                  <a:srgbClr val="2f1311"/>
                </a:solidFill>
                <a:latin typeface="Courier New"/>
              </a:rPr>
              <a:t>и оружие это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187812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0200" y="2742840"/>
            <a:ext cx="64008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доровью цены нет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523520" y="20570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урок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7386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Здоров будешь - всё добудешь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Здоровье дороже денег, здоров буду и денег добуд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Здоровье не купишь- его разум дарит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038480" y="1599840"/>
            <a:ext cx="3618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3110040" cy="4497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805861842"/>
          <p:cNvPicPr/>
          <p:nvPr/>
        </p:nvPicPr>
        <p:blipFill>
          <a:blip r:embed="rId3"/>
          <a:stretch/>
        </p:blipFill>
        <p:spPr>
          <a:xfrm>
            <a:off x="4038480" y="762120"/>
            <a:ext cx="32432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ФИЗКУЛЬТМИНУТ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3616200" cy="37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32456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Георгий Несторович Сперанский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38280" y="837720"/>
            <a:ext cx="525312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urier New"/>
              </a:rPr>
              <a:t>- Часто меня спрашивают: вот Вы прожили долгую жизнь и ни разу серьёзно не болели. В чём заключается Ваш секрет? И я отвечаю на это: есть у меня «тайное оружие», -</a:t>
            </a:r>
            <a:r>
              <a:rPr b="1" lang="ru-RU" sz="2400" spc="-1" strike="noStrike">
                <a:solidFill>
                  <a:srgbClr val="2f1311"/>
                </a:solidFill>
                <a:latin typeface="Courier New"/>
              </a:rPr>
              <a:t>и оружие это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878120" cy="21718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304920" y="3962520"/>
            <a:ext cx="7086600" cy="21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Courier New"/>
              </a:rPr>
              <a:t>ФИЗИЧЕСКОЕ ВОСПИТАНИЕ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бразец для самопровер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8240" y="1143000"/>
            <a:ext cx="72039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Arial"/>
              </a:rPr>
              <a:t>1.Что вредит здоровью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Игры на свежем воздух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1" lang="ru-RU" sz="1600" spc="-1" strike="noStrike" u="sng">
                <a:solidFill>
                  <a:srgbClr val="2f1311"/>
                </a:solidFill>
                <a:uFillTx/>
                <a:latin typeface="Arial"/>
              </a:rPr>
              <a:t>Малоподвижный образ жизн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Плавани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2f1311"/>
                </a:solidFill>
                <a:latin typeface="Arial"/>
              </a:rPr>
              <a:t>2.Что не поможет организму стать сильнее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Занятия спортом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Закаливани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1" lang="ru-RU" sz="1600" spc="-1" strike="noStrike" u="sng">
                <a:solidFill>
                  <a:srgbClr val="2f1311"/>
                </a:solidFill>
                <a:uFillTx/>
                <a:latin typeface="Arial"/>
              </a:rPr>
              <a:t>Вкусная пищ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3.</a:t>
            </a:r>
            <a:r>
              <a:rPr b="1" i="1" lang="ru-RU" sz="1600" spc="-1" strike="noStrike">
                <a:solidFill>
                  <a:srgbClr val="2f1311"/>
                </a:solidFill>
                <a:latin typeface="Arial"/>
              </a:rPr>
              <a:t>Какое питание нельзя назвать здоровым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Регулярно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Без спешк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2f1311"/>
                </a:solidFill>
                <a:uFillTx/>
                <a:latin typeface="Arial"/>
              </a:rPr>
              <a:t>Однообразное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219320" y="5029200"/>
            <a:ext cx="4495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цени результа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?»                «+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ильные духо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Объект 1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2860560" cy="1906560"/>
          </a:xfrm>
          <a:prstGeom prst="rect">
            <a:avLst/>
          </a:prstGeom>
          <a:ln w="0">
            <a:noFill/>
          </a:ln>
        </p:spPr>
      </p:pic>
      <p:pic>
        <p:nvPicPr>
          <p:cNvPr id="212" name="Объект 1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3581640" cy="2209680"/>
          </a:xfrm>
          <a:prstGeom prst="rect">
            <a:avLst/>
          </a:prstGeom>
          <a:ln w="0">
            <a:noFill/>
          </a:ln>
        </p:spPr>
      </p:pic>
      <p:pic>
        <p:nvPicPr>
          <p:cNvPr id="213" name="Объект 1" descr=""/>
          <p:cNvPicPr/>
          <p:nvPr/>
        </p:nvPicPr>
        <p:blipFill>
          <a:blip r:embed="rId3"/>
          <a:stretch/>
        </p:blipFill>
        <p:spPr>
          <a:xfrm>
            <a:off x="4267080" y="3809880"/>
            <a:ext cx="3130560" cy="2133720"/>
          </a:xfrm>
          <a:prstGeom prst="rect">
            <a:avLst/>
          </a:prstGeom>
          <a:ln w="0">
            <a:noFill/>
          </a:ln>
        </p:spPr>
      </p:pic>
      <p:pic>
        <p:nvPicPr>
          <p:cNvPr id="214" name="Объект 1" descr=""/>
          <p:cNvPicPr/>
          <p:nvPr/>
        </p:nvPicPr>
        <p:blipFill>
          <a:blip r:embed="rId4"/>
          <a:stretch/>
        </p:blipFill>
        <p:spPr>
          <a:xfrm>
            <a:off x="3962520" y="1295280"/>
            <a:ext cx="2860560" cy="19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960" y="23619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олодцы!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пасибо за работу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9T08:20:36Z</dcterms:created>
  <dc:creator>Марина</dc:creator>
  <dc:description/>
  <dc:language>en-US</dc:language>
  <cp:lastModifiedBy>Администратор</cp:lastModifiedBy>
  <dcterms:modified xsi:type="dcterms:W3CDTF">2016-05-11T18:53:2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