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A1F-DA4F-4054-A01A-329111F94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351-4E64-4EF4-BDA9-BCFCE0E1B0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04D-3B98-4E83-ABAC-F913C83474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906-35BD-4F14-A142-13CF8CE77E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AA3-8218-4AFF-A9D6-24F251FB5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7E3-ABFC-4B79-B9B1-ABB7CA0DE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121-E601-4244-BE28-0F2011B608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ECCB-AD9B-4CA1-897B-99E0D5D812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F770-7DC6-4CFD-B915-A9A9B34314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EC9-E99D-4459-961F-4E78D92B8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D04-C202-4157-8789-44995D0C1B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C82C-517C-4167-9CAA-8BC2CE7A07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CCC2-C596-4043-B50A-E8953E205B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34E-DDE9-4A0F-99BD-5F615FFBF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507-73F7-4E8C-A9AC-81318395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EFC-B309-448C-BFA0-FC615F4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EA4-D6B3-4843-B4EA-E174AF8C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C1C-02AD-486D-97B8-32B715B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E03-2CE4-42C5-B9B3-D2E2335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B56-0693-4B17-908C-66FA670F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FB1-B344-49D1-B4CA-BEDE6494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498-BDCF-4899-B174-15CC0F1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24E-A1FE-4F94-A415-34C1EF9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4A0-DEF3-4B3B-B571-DC564590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EB5-EB51-40A8-823A-4F48356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6BD-1787-4984-8CCF-F686C8F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16B-34A4-448F-8CD1-EB5EFC0CE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ifpark.su/Gifs/COSMOS/s3.gif" TargetMode="External"/><Relationship Id="rId2" Type="http://schemas.openxmlformats.org/officeDocument/2006/relationships/hyperlink" Target="http://www.cartoonclipartfree.com/Cliparts_Free/Schule_Free/Cartoon-Clipart-Free-06.gif" TargetMode="External"/><Relationship Id="rId3" Type="http://schemas.openxmlformats.org/officeDocument/2006/relationships/hyperlink" Target="http://ai-cdr.ucoz.ru/kartinki_2/shkolportfel.gif" TargetMode="External"/><Relationship Id="rId4" Type="http://schemas.openxmlformats.org/officeDocument/2006/relationships/hyperlink" Target="http://www.ruslania.com/pictures/big/4601189110069.jpg" TargetMode="External"/><Relationship Id="rId5" Type="http://schemas.openxmlformats.org/officeDocument/2006/relationships/hyperlink" Target="http://asblog.biz/wp-content/uploads/2009/08/books228577dtg3.jpg" TargetMode="External"/><Relationship Id="rId6" Type="http://schemas.openxmlformats.org/officeDocument/2006/relationships/hyperlink" Target="http://www.gfxmania.net/uploads/posts/2009-02/1234219813_5-brushes-and-paints_3.jpg" TargetMode="External"/><Relationship Id="rId7" Type="http://schemas.openxmlformats.org/officeDocument/2006/relationships/hyperlink" Target="http://www.parfenov.org/books/WallMan/man%20on%20wall4.jpg" TargetMode="External"/><Relationship Id="rId8" Type="http://schemas.openxmlformats.org/officeDocument/2006/relationships/hyperlink" Target="http://www.max-gift.ru/netcat_files/97/112/03f2efbfb9725ad299183c9d54d495ce" TargetMode="External"/><Relationship Id="rId9" Type="http://schemas.openxmlformats.org/officeDocument/2006/relationships/hyperlink" Target="http://www.max-gift.ru/netcat_files/97/112/03f2efbfb9725ad299183c9d54d495ce" TargetMode="External"/><Relationship Id="rId10" Type="http://schemas.openxmlformats.org/officeDocument/2006/relationships/hyperlink" Target="http://www.max-gift.ru/netcat_files/97/112/03f2efbfb9725ad299183c9d54d495ce" TargetMode="External"/><Relationship Id="rId11" Type="http://schemas.openxmlformats.org/officeDocument/2006/relationships/hyperlink" Target="http://s43.radikal.ru/i100/0903/6a/7bb2b8da8e3a.png" TargetMode="External"/><Relationship Id="rId12" Type="http://schemas.openxmlformats.org/officeDocument/2006/relationships/hyperlink" Target="http://www.dobrieskazki.ru/images/maths24umn4.jpg" TargetMode="External"/><Relationship Id="rId13" Type="http://schemas.openxmlformats.org/officeDocument/2006/relationships/hyperlink" Target="http://planetashkol.ru/upload/iblock/7af/zanim_th.jpg" TargetMode="External"/><Relationship Id="rId14" Type="http://schemas.openxmlformats.org/officeDocument/2006/relationships/hyperlink" Target="http://znajka.net/files/zagadki_razdel-01.jpg" TargetMode="External"/><Relationship Id="rId15" Type="http://schemas.openxmlformats.org/officeDocument/2006/relationships/hyperlink" Target="http://www.kids-price.ru/contentimg/pic7/size1/12654.jpg" TargetMode="External"/><Relationship Id="rId16" Type="http://schemas.openxmlformats.org/officeDocument/2006/relationships/hyperlink" Target="http://www.business-tools.ru/UserFiles/Image/Svayz/news/megafon/Megafon-smeshariki-1.jpg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92720" y="4581000"/>
            <a:ext cx="351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лексю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БОУ Лопатин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738360" y="1090440"/>
            <a:ext cx="8094600" cy="294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7893479.gif"/>
          <p:cNvPicPr/>
          <p:nvPr/>
        </p:nvPicPr>
        <p:blipFill>
          <a:blip r:embed="rId1"/>
          <a:stretch/>
        </p:blipFill>
        <p:spPr>
          <a:xfrm>
            <a:off x="-396720" y="189000"/>
            <a:ext cx="3809880" cy="3790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2"/>
          <p:cNvSpPr txBox="1"/>
          <p:nvPr/>
        </p:nvSpPr>
        <p:spPr>
          <a:xfrm>
            <a:off x="1332000" y="2637000"/>
            <a:ext cx="6397560" cy="32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Желаний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Рисунок 2" descr="volshebnaya palochka.jpg"/>
          <p:cNvPicPr/>
          <p:nvPr/>
        </p:nvPicPr>
        <p:blipFill>
          <a:blip r:embed="rId2"/>
          <a:stretch/>
        </p:blipFill>
        <p:spPr>
          <a:xfrm>
            <a:off x="5867280" y="404640"/>
            <a:ext cx="2922840" cy="309564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124000" y="260280"/>
            <a:ext cx="61200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Школьна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Рисунок 3" descr="шары.jpg"/>
          <p:cNvPicPr/>
          <p:nvPr/>
        </p:nvPicPr>
        <p:blipFill>
          <a:blip r:embed="rId1"/>
          <a:stretch/>
        </p:blipFill>
        <p:spPr>
          <a:xfrm>
            <a:off x="4788000" y="3213000"/>
            <a:ext cx="3898800" cy="3380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Schoolhouse3.jpg"/>
          <p:cNvPicPr/>
          <p:nvPr/>
        </p:nvPicPr>
        <p:blipFill>
          <a:blip r:embed="rId2"/>
          <a:stretch/>
        </p:blipFill>
        <p:spPr>
          <a:xfrm>
            <a:off x="324000" y="314172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4400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шары.jpg"/>
          <p:cNvPicPr/>
          <p:nvPr/>
        </p:nvPicPr>
        <p:blipFill>
          <a:blip r:embed="rId1"/>
          <a:stretch/>
        </p:blipFill>
        <p:spPr>
          <a:xfrm>
            <a:off x="1979640" y="546120"/>
            <a:ext cx="4824360" cy="5956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684360" y="1773360"/>
            <a:ext cx="770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спехов и удач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Управляющая кнопка: в начало 3">
            <a:hlinkClick r:id="" action="ppaction://hlinkshowjump?jump=firstslide"/>
          </p:cNvPr>
          <p:cNvSpPr/>
          <p:nvPr/>
        </p:nvSpPr>
        <p:spPr>
          <a:xfrm>
            <a:off x="7956720" y="5805360"/>
            <a:ext cx="863280" cy="71928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22" h="21600">
                <a:moveTo>
                  <a:pt x="0" y="0"/>
                </a:moveTo>
                <a:lnTo>
                  <a:pt x="25922" y="0"/>
                </a:lnTo>
                <a:lnTo>
                  <a:pt x="25922" y="21600"/>
                </a:lnTo>
                <a:lnTo>
                  <a:pt x="0" y="21600"/>
                </a:lnTo>
                <a:close/>
              </a:path>
              <a:path fill="lightenLess" w="25922" h="21600">
                <a:moveTo>
                  <a:pt x="0" y="0"/>
                </a:moveTo>
                <a:lnTo>
                  <a:pt x="25922" y="0"/>
                </a:lnTo>
                <a:lnTo>
                  <a:pt x="24522" y="1400"/>
                </a:lnTo>
                <a:lnTo>
                  <a:pt x="1400" y="1400"/>
                </a:lnTo>
                <a:close/>
              </a:path>
              <a:path fill="darken" w="25922" h="21600">
                <a:moveTo>
                  <a:pt x="25922" y="0"/>
                </a:moveTo>
                <a:lnTo>
                  <a:pt x="25922" y="21600"/>
                </a:lnTo>
                <a:lnTo>
                  <a:pt x="24522" y="20200"/>
                </a:lnTo>
                <a:lnTo>
                  <a:pt x="24522" y="1400"/>
                </a:lnTo>
                <a:close/>
              </a:path>
              <a:path fill="darkenLess" w="25922" h="21600">
                <a:moveTo>
                  <a:pt x="25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2" y="20200"/>
                </a:lnTo>
                <a:close/>
              </a:path>
              <a:path fill="lighten" w="25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2" h="21600">
                <a:moveTo>
                  <a:pt x="9462" y="10800"/>
                </a:moveTo>
                <a:lnTo>
                  <a:pt x="19968" y="3794"/>
                </a:lnTo>
                <a:lnTo>
                  <a:pt x="19968" y="17806"/>
                </a:lnTo>
                <a:close/>
              </a:path>
              <a:path fill="darken" w="25922" h="21600">
                <a:moveTo>
                  <a:pt x="5955" y="3794"/>
                </a:moveTo>
                <a:lnTo>
                  <a:pt x="7617" y="3794"/>
                </a:lnTo>
                <a:lnTo>
                  <a:pt x="7617" y="17806"/>
                </a:lnTo>
                <a:lnTo>
                  <a:pt x="5955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3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ifpark.su/Gifs/COSMOS/s3.gi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ныш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нце - автофигу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rtoonclipartfree.com/Cliparts_Free/Schule_Free/Cartoon-Clipart-Free-06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ai-cdr.ucoz.ru/kartinki_2/shkolportfel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ртф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uslania.com/pictures/big/4601189110069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етрад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sblog.biz/wp-content/uploads/2009/08/books228577dtg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ни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gfxmania.net/uploads/posts/2009-02/1234219813_5-brushes-and-paints_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раски и ки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parfenov.org/books/WallMan/man%20on%20wall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аранда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max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-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gift.ru/netcat_files/97/112/03f2efbfb9725ad299183c9d54d495c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язка ша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43.radikal.ru/i100/0903/6a/7bb2b8da8e3a.pn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а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dobrieskazki.ru/images/maths24umn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planetashkol.ru/upload/iblock/7af/zanim_th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znajka.net/files/zagadki_razdel-01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kids-price.ru/contentimg/pic7/size1/12654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мешар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usiness-tools.ru/UserFiles/Image/Svayz/news/megafon/Megafon-smeshariki-1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мешар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img0.liveinternet.ru/images/attach/b/3/27/256/27256318_art_vetton_ru_78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улыбка - солныш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taro.orakul.com/img/dream/volshebnaya%20palochka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олшебная пало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magictarot.ru/_fr/0/7893479.gi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олшебная пало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granitegrok.com/pix/Schoolhouse3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ко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58920" y="2060640"/>
            <a:ext cx="6553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000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рана Знаний</a:t>
            </a:r>
            <a:endParaRPr b="0" lang="en-US" sz="1800" spc="1" strike="noStrike">
              <a:ln w="12600">
                <a:solidFill>
                  <a:srgbClr val="ffc000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Рисунок 4" descr="колокольчик.jpg"/>
          <p:cNvPicPr/>
          <p:nvPr/>
        </p:nvPicPr>
        <p:blipFill>
          <a:blip r:embed="rId1"/>
          <a:stretch/>
        </p:blipFill>
        <p:spPr>
          <a:xfrm rot="20540400">
            <a:off x="220320" y="641160"/>
            <a:ext cx="141912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5805360"/>
            <a:ext cx="863280" cy="79236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32" h="21600">
                <a:moveTo>
                  <a:pt x="0" y="0"/>
                </a:moveTo>
                <a:lnTo>
                  <a:pt x="23532" y="0"/>
                </a:lnTo>
                <a:lnTo>
                  <a:pt x="23532" y="21600"/>
                </a:lnTo>
                <a:lnTo>
                  <a:pt x="0" y="21600"/>
                </a:lnTo>
                <a:close/>
              </a:path>
              <a:path fill="lightenLess" w="23532" h="21600">
                <a:moveTo>
                  <a:pt x="0" y="0"/>
                </a:moveTo>
                <a:lnTo>
                  <a:pt x="23532" y="0"/>
                </a:lnTo>
                <a:lnTo>
                  <a:pt x="22132" y="1400"/>
                </a:lnTo>
                <a:lnTo>
                  <a:pt x="1400" y="1400"/>
                </a:lnTo>
                <a:close/>
              </a:path>
              <a:path fill="darken" w="23532" h="21600">
                <a:moveTo>
                  <a:pt x="23532" y="0"/>
                </a:moveTo>
                <a:lnTo>
                  <a:pt x="23532" y="21600"/>
                </a:lnTo>
                <a:lnTo>
                  <a:pt x="22132" y="20200"/>
                </a:lnTo>
                <a:lnTo>
                  <a:pt x="22132" y="1400"/>
                </a:lnTo>
                <a:close/>
              </a:path>
              <a:path fill="darkenLess" w="23532" h="21600">
                <a:moveTo>
                  <a:pt x="23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32" y="20200"/>
                </a:lnTo>
                <a:close/>
              </a:path>
              <a:path fill="lighten" w="23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32" h="21600">
                <a:moveTo>
                  <a:pt x="4760" y="3794"/>
                </a:moveTo>
                <a:lnTo>
                  <a:pt x="18773" y="10800"/>
                </a:lnTo>
                <a:lnTo>
                  <a:pt x="4760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паровозик из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esnya_parovozika.mp3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flow3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3789360"/>
            <a:ext cx="6667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7236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58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солнц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1341360"/>
            <a:ext cx="473544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Солнце 3"/>
          <p:cNvSpPr/>
          <p:nvPr/>
        </p:nvSpPr>
        <p:spPr>
          <a:xfrm>
            <a:off x="0" y="549360"/>
            <a:ext cx="6337440" cy="5400720"/>
          </a:xfrm>
          <a:prstGeom prst="sun">
            <a:avLst>
              <a:gd name="adj" fmla="val 1971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0934E-006 L 0.15347 -0.00532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fac7"/>
                                      </p:to>
                                    </p:animClr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fac7"/>
                                      </p:to>
                                    </p:animClr>
                                    <p:set>
                                      <p:cBhvr>
                                        <p:cTn id="31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aths24umn4.jpg"/>
          <p:cNvPicPr/>
          <p:nvPr/>
        </p:nvPicPr>
        <p:blipFill>
          <a:blip r:embed="rId1"/>
          <a:stretch/>
        </p:blipFill>
        <p:spPr>
          <a:xfrm rot="20686200">
            <a:off x="450360" y="487440"/>
            <a:ext cx="2781360" cy="3808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zanim_th.jpg"/>
          <p:cNvPicPr/>
          <p:nvPr/>
        </p:nvPicPr>
        <p:blipFill>
          <a:blip r:embed="rId2"/>
          <a:stretch/>
        </p:blipFill>
        <p:spPr>
          <a:xfrm rot="707400">
            <a:off x="5498640" y="749160"/>
            <a:ext cx="2962440" cy="2500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2"/>
          <p:cNvSpPr txBox="1"/>
          <p:nvPr/>
        </p:nvSpPr>
        <p:spPr>
          <a:xfrm>
            <a:off x="1476360" y="2637000"/>
            <a:ext cx="69832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Математическ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826920" y="2852640"/>
            <a:ext cx="6937560" cy="33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6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Загадочн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Рисунок 3" descr="Megafon-smeshariki-1.jpg"/>
          <p:cNvPicPr/>
          <p:nvPr/>
        </p:nvPicPr>
        <p:blipFill>
          <a:blip r:embed="rId5"/>
          <a:stretch/>
        </p:blipFill>
        <p:spPr>
          <a:xfrm>
            <a:off x="5364000" y="476280"/>
            <a:ext cx="3265560" cy="3031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12654.jpg"/>
          <p:cNvPicPr/>
          <p:nvPr/>
        </p:nvPicPr>
        <p:blipFill>
          <a:blip r:embed="rId6"/>
          <a:stretch/>
        </p:blipFill>
        <p:spPr>
          <a:xfrm>
            <a:off x="250920" y="836640"/>
            <a:ext cx="3673440" cy="306072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95672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парта.jpg"/>
          <p:cNvPicPr/>
          <p:nvPr/>
        </p:nvPicPr>
        <p:blipFill>
          <a:blip r:embed="rId1"/>
          <a:stretch/>
        </p:blipFill>
        <p:spPr>
          <a:xfrm>
            <a:off x="1908000" y="1544760"/>
            <a:ext cx="5761080" cy="5313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портфель.jpg"/>
          <p:cNvPicPr/>
          <p:nvPr/>
        </p:nvPicPr>
        <p:blipFill>
          <a:blip r:embed="rId2"/>
          <a:stretch/>
        </p:blipFill>
        <p:spPr>
          <a:xfrm>
            <a:off x="2124000" y="1989000"/>
            <a:ext cx="4535640" cy="432432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2050920" y="549360"/>
            <a:ext cx="54975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тгада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956720" y="5877000"/>
            <a:ext cx="792000" cy="693720"/>
          </a:xfrm>
          <a:custGeom>
            <a:avLst/>
            <a:gdLst>
              <a:gd name="textAreaLeft" fmla="*/ 44640 w 792000"/>
              <a:gd name="textAreaRight" fmla="*/ 747360 w 79200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24659" h="21600">
                <a:moveTo>
                  <a:pt x="0" y="0"/>
                </a:moveTo>
                <a:lnTo>
                  <a:pt x="24659" y="0"/>
                </a:lnTo>
                <a:lnTo>
                  <a:pt x="24659" y="21600"/>
                </a:lnTo>
                <a:lnTo>
                  <a:pt x="0" y="21600"/>
                </a:lnTo>
                <a:close/>
              </a:path>
              <a:path fill="lightenLess" w="24659" h="21600">
                <a:moveTo>
                  <a:pt x="0" y="0"/>
                </a:moveTo>
                <a:lnTo>
                  <a:pt x="24659" y="0"/>
                </a:lnTo>
                <a:lnTo>
                  <a:pt x="23259" y="1400"/>
                </a:lnTo>
                <a:lnTo>
                  <a:pt x="1400" y="1400"/>
                </a:lnTo>
                <a:close/>
              </a:path>
              <a:path fill="darken" w="24659" h="21600">
                <a:moveTo>
                  <a:pt x="24659" y="0"/>
                </a:moveTo>
                <a:lnTo>
                  <a:pt x="24659" y="21600"/>
                </a:lnTo>
                <a:lnTo>
                  <a:pt x="23259" y="20200"/>
                </a:lnTo>
                <a:lnTo>
                  <a:pt x="23259" y="1400"/>
                </a:lnTo>
                <a:close/>
              </a:path>
              <a:path fill="darkenLess" w="24659" h="21600">
                <a:moveTo>
                  <a:pt x="24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9" y="20200"/>
                </a:lnTo>
                <a:close/>
              </a:path>
              <a:path fill="lighten" w="24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9" h="21600">
                <a:moveTo>
                  <a:pt x="5323" y="3794"/>
                </a:moveTo>
                <a:lnTo>
                  <a:pt x="19336" y="10800"/>
                </a:lnTo>
                <a:lnTo>
                  <a:pt x="5323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вет.wma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89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кисти и краски.jpg"/>
          <p:cNvPicPr/>
          <p:nvPr/>
        </p:nvPicPr>
        <p:blipFill>
          <a:blip r:embed="rId1"/>
          <a:stretch/>
        </p:blipFill>
        <p:spPr>
          <a:xfrm rot="20359800">
            <a:off x="4168800" y="2217600"/>
            <a:ext cx="2260440" cy="30258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карандаш.jpg"/>
          <p:cNvPicPr/>
          <p:nvPr/>
        </p:nvPicPr>
        <p:blipFill>
          <a:blip r:embed="rId2"/>
          <a:stretch/>
        </p:blipFill>
        <p:spPr>
          <a:xfrm rot="2639400">
            <a:off x="5949720" y="1187280"/>
            <a:ext cx="2228760" cy="5696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тетрадь.jpg"/>
          <p:cNvPicPr/>
          <p:nvPr/>
        </p:nvPicPr>
        <p:blipFill>
          <a:blip r:embed="rId3"/>
          <a:stretch/>
        </p:blipFill>
        <p:spPr>
          <a:xfrm rot="20740200">
            <a:off x="830160" y="1782360"/>
            <a:ext cx="215928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книги.jpg"/>
          <p:cNvPicPr/>
          <p:nvPr/>
        </p:nvPicPr>
        <p:blipFill>
          <a:blip r:embed="rId4"/>
          <a:stretch/>
        </p:blipFill>
        <p:spPr>
          <a:xfrm>
            <a:off x="2050920" y="472428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76" name="WordArt 2"/>
          <p:cNvSpPr txBox="1"/>
          <p:nvPr/>
        </p:nvSpPr>
        <p:spPr>
          <a:xfrm>
            <a:off x="1908000" y="260280"/>
            <a:ext cx="54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Школь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инадлеж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01080" y="5805360"/>
            <a:ext cx="718920" cy="76536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65360"/>
              <a:gd name="textAreaBottom" fmla="*/ 718920 h 765360"/>
            </a:gdLst>
            <a:ahLst/>
            <a:rect l="textAreaLeft" t="textAreaTop" r="textAreaRight" b="textAreaBottom"/>
            <a:pathLst>
              <a:path w="21600" h="22995">
                <a:moveTo>
                  <a:pt x="0" y="0"/>
                </a:moveTo>
                <a:lnTo>
                  <a:pt x="21600" y="0"/>
                </a:lnTo>
                <a:lnTo>
                  <a:pt x="21600" y="22995"/>
                </a:lnTo>
                <a:lnTo>
                  <a:pt x="0" y="22995"/>
                </a:lnTo>
                <a:close/>
              </a:path>
              <a:path fill="lightenLess" w="21600" h="22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5">
                <a:moveTo>
                  <a:pt x="21600" y="0"/>
                </a:moveTo>
                <a:lnTo>
                  <a:pt x="21600" y="22995"/>
                </a:lnTo>
                <a:lnTo>
                  <a:pt x="20200" y="21595"/>
                </a:lnTo>
                <a:lnTo>
                  <a:pt x="20200" y="1400"/>
                </a:lnTo>
                <a:close/>
              </a:path>
              <a:path fill="darkenLess" w="21600" h="22995">
                <a:moveTo>
                  <a:pt x="21600" y="22995"/>
                </a:moveTo>
                <a:lnTo>
                  <a:pt x="0" y="22995"/>
                </a:lnTo>
                <a:lnTo>
                  <a:pt x="1400" y="21595"/>
                </a:lnTo>
                <a:lnTo>
                  <a:pt x="20200" y="21595"/>
                </a:lnTo>
                <a:close/>
              </a:path>
              <a:path fill="lighten" w="21600" h="22995">
                <a:moveTo>
                  <a:pt x="0" y="22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5"/>
                </a:lnTo>
                <a:close/>
              </a:path>
              <a:path fill="darken" w="21600" h="22995">
                <a:moveTo>
                  <a:pt x="3794" y="4491"/>
                </a:moveTo>
                <a:lnTo>
                  <a:pt x="17806" y="11497"/>
                </a:lnTo>
                <a:lnTo>
                  <a:pt x="3794" y="1850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27256318_art_vetton_ru_7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>
            <a:off x="395280" y="3573360"/>
            <a:ext cx="83790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4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нц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Весёла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01080" y="5877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4:12:33Z</dcterms:created>
  <dc:creator>админи</dc:creator>
  <dc:description/>
  <dc:language>en-US</dc:language>
  <cp:lastModifiedBy>Елена</cp:lastModifiedBy>
  <dcterms:modified xsi:type="dcterms:W3CDTF">2013-08-30T11:36:23Z</dcterms:modified>
  <cp:revision>65</cp:revision>
  <dc:subject/>
  <dc:title>Слайд 1</dc:title>
</cp:coreProperties>
</file>