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7.gif" ContentType="image/gif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5B68-C1FD-4308-940D-8542420F98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0BD0-F082-4B5D-87DF-DCB406EB48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82F8-B0DD-4726-84F4-F9834217A5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5283-B27F-4F85-9EF5-14AE0599BA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8D1F-DCDB-4C34-9706-8F995AB6B0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BE28-07E9-41D1-A44D-7CB5A25C2F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19EF-0AEC-487D-A36D-414EEE6FC6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2E4D-0D0B-40F0-89CC-27A7772A0F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9CA6-3D56-4D35-A0A3-D2EDB81260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C930-6BEF-4734-8989-1B6F1535C5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30C9-83C3-4620-8FF5-105B6FD715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2C09-133D-4308-B1C5-C7BAC026BB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F568-D40A-46CE-B77E-5591C8AEA9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FFC4-FE83-440D-9DCD-A7D101484E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5FA9-9C0D-4AC0-8BBB-97C799B6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E9F-C2B8-4976-B552-96412E87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F9E9-CC0B-42EC-A057-E3AC42CC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500-3B2A-4886-BF2C-FDC1A76F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2B4D-4739-4286-8004-D9108462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DC0-C6D2-40ED-BEA1-894E49CE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A09-379B-429C-9A30-1B3FA0C0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AE4-189F-466C-88B2-7ADFD70B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C13B-941C-4BC7-AB83-E26A5B6C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A224-7F63-40B4-9CCF-A32DF62B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37D8-C46C-4514-9BCA-C35675F4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3E8D-625D-4426-BF8A-389B3CB7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6E6F-2010-48C4-9F7A-A4C9E46D71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ifpark.su/Gifs/COSMOS/s3.gif" TargetMode="External"/><Relationship Id="rId2" Type="http://schemas.openxmlformats.org/officeDocument/2006/relationships/hyperlink" Target="http://www.cartoonclipartfree.com/Cliparts_Free/Schule_Free/Cartoon-Clipart-Free-06.gif" TargetMode="External"/><Relationship Id="rId3" Type="http://schemas.openxmlformats.org/officeDocument/2006/relationships/hyperlink" Target="http://ai-cdr.ucoz.ru/kartinki_2/shkolportfel.gif" TargetMode="External"/><Relationship Id="rId4" Type="http://schemas.openxmlformats.org/officeDocument/2006/relationships/hyperlink" Target="http://www.ruslania.com/pictures/big/4601189110069.jpg" TargetMode="External"/><Relationship Id="rId5" Type="http://schemas.openxmlformats.org/officeDocument/2006/relationships/hyperlink" Target="http://asblog.biz/wp-content/uploads/2009/08/books228577dtg3.jpg" TargetMode="External"/><Relationship Id="rId6" Type="http://schemas.openxmlformats.org/officeDocument/2006/relationships/hyperlink" Target="http://www.gfxmania.net/uploads/posts/2009-02/1234219813_5-brushes-and-paints_3.jpg" TargetMode="External"/><Relationship Id="rId7" Type="http://schemas.openxmlformats.org/officeDocument/2006/relationships/hyperlink" Target="http://www.parfenov.org/books/WallMan/man%20on%20wall4.jpg" TargetMode="External"/><Relationship Id="rId8" Type="http://schemas.openxmlformats.org/officeDocument/2006/relationships/hyperlink" Target="http://www.max-gift.ru/netcat_files/97/112/03f2efbfb9725ad299183c9d54d495ce" TargetMode="External"/><Relationship Id="rId9" Type="http://schemas.openxmlformats.org/officeDocument/2006/relationships/hyperlink" Target="http://www.max-gift.ru/netcat_files/97/112/03f2efbfb9725ad299183c9d54d495ce" TargetMode="External"/><Relationship Id="rId10" Type="http://schemas.openxmlformats.org/officeDocument/2006/relationships/hyperlink" Target="http://www.max-gift.ru/netcat_files/97/112/03f2efbfb9725ad299183c9d54d495ce" TargetMode="External"/><Relationship Id="rId11" Type="http://schemas.openxmlformats.org/officeDocument/2006/relationships/hyperlink" Target="http://s43.radikal.ru/i100/0903/6a/7bb2b8da8e3a.png" TargetMode="External"/><Relationship Id="rId12" Type="http://schemas.openxmlformats.org/officeDocument/2006/relationships/hyperlink" Target="http://www.dobrieskazki.ru/images/maths24umn4.jpg" TargetMode="External"/><Relationship Id="rId13" Type="http://schemas.openxmlformats.org/officeDocument/2006/relationships/hyperlink" Target="http://planetashkol.ru/upload/iblock/7af/zanim_th.jpg" TargetMode="External"/><Relationship Id="rId14" Type="http://schemas.openxmlformats.org/officeDocument/2006/relationships/hyperlink" Target="http://znajka.net/files/zagadki_razdel-01.jpg" TargetMode="External"/><Relationship Id="rId15" Type="http://schemas.openxmlformats.org/officeDocument/2006/relationships/hyperlink" Target="http://www.kids-price.ru/contentimg/pic7/size1/12654.jpg" TargetMode="External"/><Relationship Id="rId16" Type="http://schemas.openxmlformats.org/officeDocument/2006/relationships/hyperlink" Target="http://www.business-tools.ru/UserFiles/Image/Svayz/news/megafon/Megafon-smeshariki-1.jpg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292720" y="4581000"/>
            <a:ext cx="3519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Алексюнина Елена Владими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МБОУ Лопатинская средняя общеобразовательная шк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рямоугольник 3" descr=""/>
          <p:cNvPicPr/>
          <p:nvPr/>
        </p:nvPicPr>
        <p:blipFill>
          <a:blip r:embed="rId1"/>
          <a:stretch/>
        </p:blipFill>
        <p:spPr>
          <a:xfrm>
            <a:off x="738360" y="1090440"/>
            <a:ext cx="8094600" cy="2945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3" descr="7893479.gif"/>
          <p:cNvPicPr/>
          <p:nvPr/>
        </p:nvPicPr>
        <p:blipFill>
          <a:blip r:embed="rId1"/>
          <a:stretch/>
        </p:blipFill>
        <p:spPr>
          <a:xfrm>
            <a:off x="-396720" y="189000"/>
            <a:ext cx="3809880" cy="3790800"/>
          </a:xfrm>
          <a:prstGeom prst="rect">
            <a:avLst/>
          </a:prstGeom>
          <a:ln w="0">
            <a:noFill/>
          </a:ln>
        </p:spPr>
      </p:pic>
      <p:sp>
        <p:nvSpPr>
          <p:cNvPr id="82" name="WordArt 2"/>
          <p:cNvSpPr txBox="1"/>
          <p:nvPr/>
        </p:nvSpPr>
        <p:spPr>
          <a:xfrm>
            <a:off x="1332000" y="2637000"/>
            <a:ext cx="6397560" cy="32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анц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"Желаний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Рисунок 2" descr="volshebnaya palochka.jpg"/>
          <p:cNvPicPr/>
          <p:nvPr/>
        </p:nvPicPr>
        <p:blipFill>
          <a:blip r:embed="rId2"/>
          <a:stretch/>
        </p:blipFill>
        <p:spPr>
          <a:xfrm>
            <a:off x="5867280" y="404640"/>
            <a:ext cx="2922840" cy="3095640"/>
          </a:xfrm>
          <a:prstGeom prst="rect">
            <a:avLst/>
          </a:prstGeom>
          <a:ln w="0">
            <a:noFill/>
          </a:ln>
        </p:spPr>
      </p:pic>
      <p:sp>
        <p:nvSpPr>
          <p:cNvPr id="8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028000" y="5877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3794"/>
                </a:moveTo>
                <a:lnTo>
                  <a:pt x="18874" y="10800"/>
                </a:lnTo>
                <a:lnTo>
                  <a:pt x="486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2124000" y="260280"/>
            <a:ext cx="6120000" cy="29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танц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"Школьная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Рисунок 3" descr="шары.jpg"/>
          <p:cNvPicPr/>
          <p:nvPr/>
        </p:nvPicPr>
        <p:blipFill>
          <a:blip r:embed="rId1"/>
          <a:stretch/>
        </p:blipFill>
        <p:spPr>
          <a:xfrm>
            <a:off x="4788000" y="3213000"/>
            <a:ext cx="3898800" cy="33800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" descr="Schoolhouse3.jpg"/>
          <p:cNvPicPr/>
          <p:nvPr/>
        </p:nvPicPr>
        <p:blipFill>
          <a:blip r:embed="rId2"/>
          <a:stretch/>
        </p:blipFill>
        <p:spPr>
          <a:xfrm>
            <a:off x="324000" y="3141720"/>
            <a:ext cx="3809880" cy="342900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24400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3818" y="3794"/>
                </a:moveTo>
                <a:lnTo>
                  <a:pt x="17830" y="10800"/>
                </a:lnTo>
                <a:lnTo>
                  <a:pt x="3818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шары.jpg"/>
          <p:cNvPicPr/>
          <p:nvPr/>
        </p:nvPicPr>
        <p:blipFill>
          <a:blip r:embed="rId1"/>
          <a:stretch/>
        </p:blipFill>
        <p:spPr>
          <a:xfrm>
            <a:off x="1979640" y="546120"/>
            <a:ext cx="4824360" cy="5956200"/>
          </a:xfrm>
          <a:prstGeom prst="rect">
            <a:avLst/>
          </a:prstGeom>
          <a:ln w="0">
            <a:noFill/>
          </a:ln>
        </p:spPr>
      </p:pic>
      <p:sp>
        <p:nvSpPr>
          <p:cNvPr id="90" name="WordArt 2"/>
          <p:cNvSpPr txBox="1"/>
          <p:nvPr/>
        </p:nvSpPr>
        <p:spPr>
          <a:xfrm>
            <a:off x="684360" y="1773360"/>
            <a:ext cx="77040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Успехов и удач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Управляющая кнопка: в начало 3">
            <a:hlinkClick r:id="" action="ppaction://hlinkshowjump?jump=firstslide"/>
          </p:cNvPr>
          <p:cNvSpPr/>
          <p:nvPr/>
        </p:nvSpPr>
        <p:spPr>
          <a:xfrm>
            <a:off x="7956720" y="5805360"/>
            <a:ext cx="863280" cy="719280"/>
          </a:xfrm>
          <a:custGeom>
            <a:avLst/>
            <a:gdLst>
              <a:gd name="textAreaLeft" fmla="*/ 46440 w 863280"/>
              <a:gd name="textAreaRight" fmla="*/ 816840 w 863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22" h="21600">
                <a:moveTo>
                  <a:pt x="0" y="0"/>
                </a:moveTo>
                <a:lnTo>
                  <a:pt x="25922" y="0"/>
                </a:lnTo>
                <a:lnTo>
                  <a:pt x="25922" y="21600"/>
                </a:lnTo>
                <a:lnTo>
                  <a:pt x="0" y="21600"/>
                </a:lnTo>
                <a:close/>
              </a:path>
              <a:path fill="lightenLess" w="25922" h="21600">
                <a:moveTo>
                  <a:pt x="0" y="0"/>
                </a:moveTo>
                <a:lnTo>
                  <a:pt x="25922" y="0"/>
                </a:lnTo>
                <a:lnTo>
                  <a:pt x="24522" y="1400"/>
                </a:lnTo>
                <a:lnTo>
                  <a:pt x="1400" y="1400"/>
                </a:lnTo>
                <a:close/>
              </a:path>
              <a:path fill="darken" w="25922" h="21600">
                <a:moveTo>
                  <a:pt x="25922" y="0"/>
                </a:moveTo>
                <a:lnTo>
                  <a:pt x="25922" y="21600"/>
                </a:lnTo>
                <a:lnTo>
                  <a:pt x="24522" y="20200"/>
                </a:lnTo>
                <a:lnTo>
                  <a:pt x="24522" y="1400"/>
                </a:lnTo>
                <a:close/>
              </a:path>
              <a:path fill="darkenLess" w="25922" h="21600">
                <a:moveTo>
                  <a:pt x="25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2" y="20200"/>
                </a:lnTo>
                <a:close/>
              </a:path>
              <a:path fill="lighten" w="25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2" h="21600">
                <a:moveTo>
                  <a:pt x="9462" y="10800"/>
                </a:moveTo>
                <a:lnTo>
                  <a:pt x="19968" y="3794"/>
                </a:lnTo>
                <a:lnTo>
                  <a:pt x="19968" y="17806"/>
                </a:lnTo>
                <a:close/>
              </a:path>
              <a:path fill="darken" w="25922" h="21600">
                <a:moveTo>
                  <a:pt x="5955" y="3794"/>
                </a:moveTo>
                <a:lnTo>
                  <a:pt x="7617" y="3794"/>
                </a:lnTo>
                <a:lnTo>
                  <a:pt x="7617" y="17806"/>
                </a:lnTo>
                <a:lnTo>
                  <a:pt x="5955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xit" presetID="35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пользованные 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gifpark.su/Gifs/COSMOS/s3.gif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лнышк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лнце - автофигур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cartoonclipartfree.com/Cliparts_Free/Schule_Free/Cartoon-Clipart-Free-06.gif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парт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ai-cdr.ucoz.ru/kartinki_2/shkolportfel.gif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портфел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ruslania.com/pictures/big/4601189110069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тетрад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asblog.biz/wp-content/uploads/2009/08/books228577dtg3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книг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gfxmania.net/uploads/posts/2009-02/1234219813_5-brushes-and-paints_3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краски и ки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parfenov.org/books/WallMan/man%20on%20wall4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каранда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max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-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gift.ru/netcat_files/97/112/03f2efbfb9725ad299183c9d54d495c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вязка шар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s43.radikal.ru/i100/0903/6a/7bb2b8da8e3a.pn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шар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www.dobrieskazki.ru/images/maths24umn4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матема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planetashkol.ru/upload/iblock/7af/zanim_th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матема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znajka.net/files/zagadki_razdel-01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загад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kids-price.ru/contentimg/pic7/size1/12654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смешари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www.business-tools.ru/UserFiles/Image/Svayz/news/megafon/Megafon-smeshariki-1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смешари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img0.liveinternet.ru/images/attach/b/3/27/256/27256318_art_vetton_ru_783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улыбка - солнышк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taro.orakul.com/img/dream/volshebnaya%20palochka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волшебная палоч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www.magictarot.ru/_fr/0/7893479.gif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волшебная палоч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www.granitegrok.com/pix/Schoolhouse3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школ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1258920" y="2060640"/>
            <a:ext cx="6553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000"/>
                  </a:solidFill>
                  <a:miter/>
                </a:ln>
                <a:solidFill>
                  <a:srgbClr val="c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трана Знаний</a:t>
            </a:r>
            <a:endParaRPr b="0" lang="en-US" sz="1800" spc="1" strike="noStrike">
              <a:ln w="12600">
                <a:solidFill>
                  <a:srgbClr val="ffc000"/>
                </a:solidFill>
                <a:miter/>
              </a:ln>
              <a:solidFill>
                <a:srgbClr val="c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Рисунок 4" descr="колокольчик.jpg"/>
          <p:cNvPicPr/>
          <p:nvPr/>
        </p:nvPicPr>
        <p:blipFill>
          <a:blip r:embed="rId1"/>
          <a:stretch/>
        </p:blipFill>
        <p:spPr>
          <a:xfrm rot="20540400">
            <a:off x="220320" y="641160"/>
            <a:ext cx="1419120" cy="1352520"/>
          </a:xfrm>
          <a:prstGeom prst="rect">
            <a:avLst/>
          </a:prstGeom>
          <a:ln w="0">
            <a:noFill/>
          </a:ln>
        </p:spPr>
      </p:pic>
      <p:sp>
        <p:nvSpPr>
          <p:cNvPr id="5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956720" y="5805360"/>
            <a:ext cx="863280" cy="792360"/>
          </a:xfrm>
          <a:custGeom>
            <a:avLst/>
            <a:gdLst>
              <a:gd name="textAreaLeft" fmla="*/ 51120 w 863280"/>
              <a:gd name="textAreaRight" fmla="*/ 812160 w 8632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32" h="21600">
                <a:moveTo>
                  <a:pt x="0" y="0"/>
                </a:moveTo>
                <a:lnTo>
                  <a:pt x="23532" y="0"/>
                </a:lnTo>
                <a:lnTo>
                  <a:pt x="23532" y="21600"/>
                </a:lnTo>
                <a:lnTo>
                  <a:pt x="0" y="21600"/>
                </a:lnTo>
                <a:close/>
              </a:path>
              <a:path fill="lightenLess" w="23532" h="21600">
                <a:moveTo>
                  <a:pt x="0" y="0"/>
                </a:moveTo>
                <a:lnTo>
                  <a:pt x="23532" y="0"/>
                </a:lnTo>
                <a:lnTo>
                  <a:pt x="22132" y="1400"/>
                </a:lnTo>
                <a:lnTo>
                  <a:pt x="1400" y="1400"/>
                </a:lnTo>
                <a:close/>
              </a:path>
              <a:path fill="darken" w="23532" h="21600">
                <a:moveTo>
                  <a:pt x="23532" y="0"/>
                </a:moveTo>
                <a:lnTo>
                  <a:pt x="23532" y="21600"/>
                </a:lnTo>
                <a:lnTo>
                  <a:pt x="22132" y="20200"/>
                </a:lnTo>
                <a:lnTo>
                  <a:pt x="22132" y="1400"/>
                </a:lnTo>
                <a:close/>
              </a:path>
              <a:path fill="darkenLess" w="23532" h="21600">
                <a:moveTo>
                  <a:pt x="23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32" y="20200"/>
                </a:lnTo>
                <a:close/>
              </a:path>
              <a:path fill="lighten" w="23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32" h="21600">
                <a:moveTo>
                  <a:pt x="4760" y="3794"/>
                </a:moveTo>
                <a:lnTo>
                  <a:pt x="18773" y="10800"/>
                </a:lnTo>
                <a:lnTo>
                  <a:pt x="4760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паровозик из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esnya_parovozika.mp3" descr=""/>
          <p:cNvPicPr/>
          <p:nvPr/>
        </p:nvPicPr>
        <p:blipFill>
          <a:blip r:embed="rId2"/>
          <a:stretch/>
        </p:blipFill>
        <p:spPr>
          <a:xfrm>
            <a:off x="1332000" y="2133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flow3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40720" y="3789360"/>
            <a:ext cx="666720" cy="609480"/>
          </a:xfrm>
          <a:prstGeom prst="rect">
            <a:avLst/>
          </a:prstGeom>
          <a:ln w="0">
            <a:noFill/>
          </a:ln>
        </p:spPr>
      </p:pic>
      <p:sp>
        <p:nvSpPr>
          <p:cNvPr id="5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172360" y="5877000"/>
            <a:ext cx="757440" cy="720720"/>
          </a:xfrm>
          <a:custGeom>
            <a:avLst/>
            <a:gdLst>
              <a:gd name="textAreaLeft" fmla="*/ 46440 w 757440"/>
              <a:gd name="textAreaRight" fmla="*/ 711000 w 757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2700" h="21600">
                <a:moveTo>
                  <a:pt x="0" y="0"/>
                </a:moveTo>
                <a:lnTo>
                  <a:pt x="22700" y="0"/>
                </a:lnTo>
                <a:lnTo>
                  <a:pt x="22700" y="21600"/>
                </a:lnTo>
                <a:lnTo>
                  <a:pt x="0" y="21600"/>
                </a:lnTo>
                <a:close/>
              </a:path>
              <a:path fill="lightenLess" w="22700" h="21600">
                <a:moveTo>
                  <a:pt x="0" y="0"/>
                </a:moveTo>
                <a:lnTo>
                  <a:pt x="22700" y="0"/>
                </a:lnTo>
                <a:lnTo>
                  <a:pt x="21300" y="1400"/>
                </a:lnTo>
                <a:lnTo>
                  <a:pt x="1400" y="1400"/>
                </a:lnTo>
                <a:close/>
              </a:path>
              <a:path fill="darken" w="22700" h="21600">
                <a:moveTo>
                  <a:pt x="22700" y="0"/>
                </a:moveTo>
                <a:lnTo>
                  <a:pt x="22700" y="21600"/>
                </a:lnTo>
                <a:lnTo>
                  <a:pt x="21300" y="20200"/>
                </a:lnTo>
                <a:lnTo>
                  <a:pt x="21300" y="1400"/>
                </a:lnTo>
                <a:close/>
              </a:path>
              <a:path fill="darkenLess" w="22700" h="21600">
                <a:moveTo>
                  <a:pt x="22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00" y="20200"/>
                </a:lnTo>
                <a:close/>
              </a:path>
              <a:path fill="lighten" w="22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00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586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солнце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40000" y="1341360"/>
            <a:ext cx="4735440" cy="4105440"/>
          </a:xfrm>
          <a:prstGeom prst="rect">
            <a:avLst/>
          </a:prstGeom>
          <a:ln w="0">
            <a:noFill/>
          </a:ln>
        </p:spPr>
      </p:pic>
      <p:sp>
        <p:nvSpPr>
          <p:cNvPr id="58" name="Солнце 3"/>
          <p:cNvSpPr/>
          <p:nvPr/>
        </p:nvSpPr>
        <p:spPr>
          <a:xfrm>
            <a:off x="0" y="549360"/>
            <a:ext cx="6337440" cy="5400720"/>
          </a:xfrm>
          <a:prstGeom prst="sun">
            <a:avLst>
              <a:gd name="adj" fmla="val 1971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60934E-006 L 0.15347 -0.00532 E">
                                      <p:cBhvr>
                                        <p:cTn id="1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dfac7"/>
                                      </p:to>
                                    </p:animClr>
                                    <p:animClr clrSpc="rgb">
                                      <p:cBhvr>
                                        <p:cTn id="30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dfac7"/>
                                      </p:to>
                                    </p:animClr>
                                    <p:set>
                                      <p:cBhvr>
                                        <p:cTn id="31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5" descr="maths24umn4.jpg"/>
          <p:cNvPicPr/>
          <p:nvPr/>
        </p:nvPicPr>
        <p:blipFill>
          <a:blip r:embed="rId1"/>
          <a:stretch/>
        </p:blipFill>
        <p:spPr>
          <a:xfrm rot="20686200">
            <a:off x="450360" y="487440"/>
            <a:ext cx="2781360" cy="38084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zanim_th.jpg"/>
          <p:cNvPicPr/>
          <p:nvPr/>
        </p:nvPicPr>
        <p:blipFill>
          <a:blip r:embed="rId2"/>
          <a:stretch/>
        </p:blipFill>
        <p:spPr>
          <a:xfrm rot="707400">
            <a:off x="5498640" y="749160"/>
            <a:ext cx="2962440" cy="2500560"/>
          </a:xfrm>
          <a:prstGeom prst="rect">
            <a:avLst/>
          </a:prstGeom>
          <a:ln w="0">
            <a:noFill/>
          </a:ln>
        </p:spPr>
      </p:pic>
      <p:sp>
        <p:nvSpPr>
          <p:cNvPr id="61" name="WordArt 2"/>
          <p:cNvSpPr txBox="1"/>
          <p:nvPr/>
        </p:nvSpPr>
        <p:spPr>
          <a:xfrm>
            <a:off x="1476360" y="2637000"/>
            <a:ext cx="69832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7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танци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Математическая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101080" y="595008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3794"/>
                </a:moveTo>
                <a:lnTo>
                  <a:pt x="20212" y="10800"/>
                </a:lnTo>
                <a:lnTo>
                  <a:pt x="6200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826920" y="2852640"/>
            <a:ext cx="6937560" cy="33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67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танци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Загадочная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Рисунок 3" descr="Megafon-smeshariki-1.jpg"/>
          <p:cNvPicPr/>
          <p:nvPr/>
        </p:nvPicPr>
        <p:blipFill>
          <a:blip r:embed="rId5"/>
          <a:stretch/>
        </p:blipFill>
        <p:spPr>
          <a:xfrm>
            <a:off x="5364000" y="476280"/>
            <a:ext cx="3265560" cy="30319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12654.jpg"/>
          <p:cNvPicPr/>
          <p:nvPr/>
        </p:nvPicPr>
        <p:blipFill>
          <a:blip r:embed="rId6"/>
          <a:stretch/>
        </p:blipFill>
        <p:spPr>
          <a:xfrm>
            <a:off x="250920" y="836640"/>
            <a:ext cx="3673440" cy="3060720"/>
          </a:xfrm>
          <a:prstGeom prst="rect">
            <a:avLst/>
          </a:prstGeom>
          <a:ln w="0">
            <a:noFill/>
          </a:ln>
        </p:spPr>
      </p:pic>
      <p:sp>
        <p:nvSpPr>
          <p:cNvPr id="66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956720" y="5877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3794"/>
                </a:moveTo>
                <a:lnTo>
                  <a:pt x="18874" y="10800"/>
                </a:lnTo>
                <a:lnTo>
                  <a:pt x="486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2" descr="парта.jpg"/>
          <p:cNvPicPr/>
          <p:nvPr/>
        </p:nvPicPr>
        <p:blipFill>
          <a:blip r:embed="rId1"/>
          <a:stretch/>
        </p:blipFill>
        <p:spPr>
          <a:xfrm>
            <a:off x="1908000" y="1544760"/>
            <a:ext cx="5761080" cy="53132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портфель.jpg"/>
          <p:cNvPicPr/>
          <p:nvPr/>
        </p:nvPicPr>
        <p:blipFill>
          <a:blip r:embed="rId2"/>
          <a:stretch/>
        </p:blipFill>
        <p:spPr>
          <a:xfrm>
            <a:off x="2124000" y="1989000"/>
            <a:ext cx="4535640" cy="4324320"/>
          </a:xfrm>
          <a:prstGeom prst="rect">
            <a:avLst/>
          </a:prstGeom>
          <a:ln w="0">
            <a:noFill/>
          </a:ln>
        </p:spPr>
      </p:pic>
      <p:sp>
        <p:nvSpPr>
          <p:cNvPr id="69" name="WordArt 3"/>
          <p:cNvSpPr txBox="1"/>
          <p:nvPr/>
        </p:nvSpPr>
        <p:spPr>
          <a:xfrm>
            <a:off x="2050920" y="549360"/>
            <a:ext cx="5497560" cy="9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Отгада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956720" y="5877000"/>
            <a:ext cx="792000" cy="693720"/>
          </a:xfrm>
          <a:custGeom>
            <a:avLst/>
            <a:gdLst>
              <a:gd name="textAreaLeft" fmla="*/ 44640 w 792000"/>
              <a:gd name="textAreaRight" fmla="*/ 747360 w 792000"/>
              <a:gd name="textAreaTop" fmla="*/ 44640 h 693720"/>
              <a:gd name="textAreaBottom" fmla="*/ 649080 h 693720"/>
            </a:gdLst>
            <a:ahLst/>
            <a:rect l="textAreaLeft" t="textAreaTop" r="textAreaRight" b="textAreaBottom"/>
            <a:pathLst>
              <a:path w="24659" h="21600">
                <a:moveTo>
                  <a:pt x="0" y="0"/>
                </a:moveTo>
                <a:lnTo>
                  <a:pt x="24659" y="0"/>
                </a:lnTo>
                <a:lnTo>
                  <a:pt x="24659" y="21600"/>
                </a:lnTo>
                <a:lnTo>
                  <a:pt x="0" y="21600"/>
                </a:lnTo>
                <a:close/>
              </a:path>
              <a:path fill="lightenLess" w="24659" h="21600">
                <a:moveTo>
                  <a:pt x="0" y="0"/>
                </a:moveTo>
                <a:lnTo>
                  <a:pt x="24659" y="0"/>
                </a:lnTo>
                <a:lnTo>
                  <a:pt x="23259" y="1400"/>
                </a:lnTo>
                <a:lnTo>
                  <a:pt x="1400" y="1400"/>
                </a:lnTo>
                <a:close/>
              </a:path>
              <a:path fill="darken" w="24659" h="21600">
                <a:moveTo>
                  <a:pt x="24659" y="0"/>
                </a:moveTo>
                <a:lnTo>
                  <a:pt x="24659" y="21600"/>
                </a:lnTo>
                <a:lnTo>
                  <a:pt x="23259" y="20200"/>
                </a:lnTo>
                <a:lnTo>
                  <a:pt x="23259" y="1400"/>
                </a:lnTo>
                <a:close/>
              </a:path>
              <a:path fill="darkenLess" w="24659" h="21600">
                <a:moveTo>
                  <a:pt x="24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9" y="20200"/>
                </a:lnTo>
                <a:close/>
              </a:path>
              <a:path fill="lighten" w="24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59" h="21600">
                <a:moveTo>
                  <a:pt x="5323" y="3794"/>
                </a:moveTo>
                <a:lnTo>
                  <a:pt x="19336" y="10800"/>
                </a:lnTo>
                <a:lnTo>
                  <a:pt x="5323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вет.wma" descr=""/>
          <p:cNvPicPr/>
          <p:nvPr/>
        </p:nvPicPr>
        <p:blipFill>
          <a:blip r:embed="rId3"/>
          <a:stretch/>
        </p:blipFill>
        <p:spPr>
          <a:xfrm>
            <a:off x="853272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489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4" descr="кисти и краски.jpg"/>
          <p:cNvPicPr/>
          <p:nvPr/>
        </p:nvPicPr>
        <p:blipFill>
          <a:blip r:embed="rId1"/>
          <a:stretch/>
        </p:blipFill>
        <p:spPr>
          <a:xfrm rot="20359800">
            <a:off x="4168800" y="2217600"/>
            <a:ext cx="2260440" cy="30258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карандаш.jpg"/>
          <p:cNvPicPr/>
          <p:nvPr/>
        </p:nvPicPr>
        <p:blipFill>
          <a:blip r:embed="rId2"/>
          <a:stretch/>
        </p:blipFill>
        <p:spPr>
          <a:xfrm rot="2639400">
            <a:off x="5949720" y="1187280"/>
            <a:ext cx="2228760" cy="56962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тетрадь.jpg"/>
          <p:cNvPicPr/>
          <p:nvPr/>
        </p:nvPicPr>
        <p:blipFill>
          <a:blip r:embed="rId3"/>
          <a:stretch/>
        </p:blipFill>
        <p:spPr>
          <a:xfrm rot="20740200">
            <a:off x="830160" y="1782360"/>
            <a:ext cx="2159280" cy="2619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книги.jpg"/>
          <p:cNvPicPr/>
          <p:nvPr/>
        </p:nvPicPr>
        <p:blipFill>
          <a:blip r:embed="rId4"/>
          <a:stretch/>
        </p:blipFill>
        <p:spPr>
          <a:xfrm>
            <a:off x="2050920" y="4724280"/>
            <a:ext cx="1873440" cy="1873440"/>
          </a:xfrm>
          <a:prstGeom prst="rect">
            <a:avLst/>
          </a:prstGeom>
          <a:ln w="0">
            <a:noFill/>
          </a:ln>
        </p:spPr>
      </p:pic>
      <p:sp>
        <p:nvSpPr>
          <p:cNvPr id="76" name="WordArt 2"/>
          <p:cNvSpPr txBox="1"/>
          <p:nvPr/>
        </p:nvSpPr>
        <p:spPr>
          <a:xfrm>
            <a:off x="1908000" y="260280"/>
            <a:ext cx="547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Школьные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принадлежнос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101080" y="5805360"/>
            <a:ext cx="718920" cy="76536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65360"/>
              <a:gd name="textAreaBottom" fmla="*/ 718920 h 765360"/>
            </a:gdLst>
            <a:ahLst/>
            <a:rect l="textAreaLeft" t="textAreaTop" r="textAreaRight" b="textAreaBottom"/>
            <a:pathLst>
              <a:path w="21600" h="22995">
                <a:moveTo>
                  <a:pt x="0" y="0"/>
                </a:moveTo>
                <a:lnTo>
                  <a:pt x="21600" y="0"/>
                </a:lnTo>
                <a:lnTo>
                  <a:pt x="21600" y="22995"/>
                </a:lnTo>
                <a:lnTo>
                  <a:pt x="0" y="22995"/>
                </a:lnTo>
                <a:close/>
              </a:path>
              <a:path fill="lightenLess" w="21600" h="229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95">
                <a:moveTo>
                  <a:pt x="21600" y="0"/>
                </a:moveTo>
                <a:lnTo>
                  <a:pt x="21600" y="22995"/>
                </a:lnTo>
                <a:lnTo>
                  <a:pt x="20200" y="21595"/>
                </a:lnTo>
                <a:lnTo>
                  <a:pt x="20200" y="1400"/>
                </a:lnTo>
                <a:close/>
              </a:path>
              <a:path fill="darkenLess" w="21600" h="22995">
                <a:moveTo>
                  <a:pt x="21600" y="22995"/>
                </a:moveTo>
                <a:lnTo>
                  <a:pt x="0" y="22995"/>
                </a:lnTo>
                <a:lnTo>
                  <a:pt x="1400" y="21595"/>
                </a:lnTo>
                <a:lnTo>
                  <a:pt x="20200" y="21595"/>
                </a:lnTo>
                <a:close/>
              </a:path>
              <a:path fill="lighten" w="21600" h="22995">
                <a:moveTo>
                  <a:pt x="0" y="229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95"/>
                </a:lnTo>
                <a:close/>
              </a:path>
              <a:path fill="darken" w="21600" h="22995">
                <a:moveTo>
                  <a:pt x="3794" y="4491"/>
                </a:moveTo>
                <a:lnTo>
                  <a:pt x="17806" y="11497"/>
                </a:lnTo>
                <a:lnTo>
                  <a:pt x="3794" y="1850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6 0.125 0.16644 C 0.125 0.25831 0.069 0.33287 0 0.33287 C -0.069 0.33287 -0.125 0.25831 -0.125 0.16644 C -0.125 0.07456 -0.069 0 0 0 Z">
                                      <p:cBhvr>
                                        <p:cTn id="7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5" descr="27256318_art_vetton_ru_7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WordArt 2"/>
          <p:cNvSpPr txBox="1"/>
          <p:nvPr/>
        </p:nvSpPr>
        <p:spPr>
          <a:xfrm>
            <a:off x="395280" y="3573360"/>
            <a:ext cx="8379000" cy="28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4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танци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Весёлая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101080" y="5877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4175" y="3794"/>
                </a:moveTo>
                <a:lnTo>
                  <a:pt x="18187" y="10800"/>
                </a:lnTo>
                <a:lnTo>
                  <a:pt x="4175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4:12:33Z</dcterms:created>
  <dc:creator>админи</dc:creator>
  <dc:description/>
  <dc:language>en-US</dc:language>
  <cp:lastModifiedBy>Елена</cp:lastModifiedBy>
  <dcterms:modified xsi:type="dcterms:W3CDTF">2013-08-30T11:36:23Z</dcterms:modified>
  <cp:revision>65</cp:revision>
  <dc:subject/>
  <dc:title>Слайд 1</dc:title>
</cp:coreProperties>
</file>