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A20-738F-4B17-8FAC-6C414232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3E1-4443-4112-BD4B-A055B52F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033-87BD-41BC-9185-778A9A6B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01C-4949-41E6-B37D-3AC93DE8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C9C7-6477-4EF3-85A5-7FEAC175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A1E1-84EF-4611-AA50-DBE9C3C8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6307-5A31-4DC9-B241-15A4A86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3839-322B-4F90-BCA3-54BB7C8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1BCD-FB50-460A-A9A7-EEB72D72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15D3-A02F-4B69-BFA5-60E0F94A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5E6C-F26F-4059-8B07-F3F197A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F3E-E746-4895-8A14-F89BD06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17D9-0E3A-4F1A-BDE6-C9BEA88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D5E4-16C7-49FB-BA36-E517244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4E03-E88A-441C-AF53-EDE8C18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F43-0CE0-4A04-94A4-93E037B3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31AA-3A0F-451C-BEAD-0B634CDF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4F5-7B69-4655-A4B1-F30031C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139-D20B-499E-A3FB-D29BFE95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837-0EAE-47A1-8868-61ED4EC0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937-13F2-4A55-B672-7AFE775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315-C3B3-4CA5-8532-A20AB750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43C-076C-4711-A746-EC3EDBA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F02-DAF3-427C-B3DD-C731B50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A2DC-3B42-47A1-B937-172072FB98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4847-28A6-4B8B-9E53-5D88281BEE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Arial"/>
              </a:rPr>
              <a:t>THE SCHOOL SYSTEMS IN GREAT BRITAIN AND IN THE US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IMG_4008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594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11280" y="260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charts show how education is organized in Britain and in the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G_4009"/>
          <p:cNvPicPr/>
          <p:nvPr/>
        </p:nvPicPr>
        <p:blipFill>
          <a:blip r:embed="rId1"/>
          <a:stretch/>
        </p:blipFill>
        <p:spPr>
          <a:xfrm>
            <a:off x="2340000" y="476280"/>
            <a:ext cx="4452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chool in Great Brita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ucation in Brita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compulsory and free for all children between the ages of 5-16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lass-of-schoolchildren-008"/>
          <p:cNvPicPr/>
          <p:nvPr/>
        </p:nvPicPr>
        <p:blipFill>
          <a:blip r:embed="rId1"/>
          <a:stretch/>
        </p:blipFill>
        <p:spPr>
          <a:xfrm>
            <a:off x="1547640" y="2708280"/>
            <a:ext cx="6193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mary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6" descr="кфа"/>
          <p:cNvPicPr/>
          <p:nvPr/>
        </p:nvPicPr>
        <p:blipFill>
          <a:blip r:embed="rId1"/>
          <a:stretch/>
        </p:blipFill>
        <p:spPr>
          <a:xfrm>
            <a:off x="539640" y="1341360"/>
            <a:ext cx="8137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ondary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5" descr="english_school_uniforms"/>
          <p:cNvPicPr/>
          <p:nvPr/>
        </p:nvPicPr>
        <p:blipFill>
          <a:blip r:embed="rId1"/>
          <a:stretch/>
        </p:blipFill>
        <p:spPr>
          <a:xfrm>
            <a:off x="250920" y="2378160"/>
            <a:ext cx="439236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ypes of secondary schools have the 5-year courses for pupils from 11 years up to the school leaving a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pils in all state schools in England and Wales study 10 main sub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6</a:t>
            </a:r>
            <a:r>
              <a:rPr b="0" lang="en-US" sz="4200" spc="-1" strike="noStrike" baseline="30000">
                <a:solidFill>
                  <a:srgbClr val="006633"/>
                </a:solidFill>
                <a:latin typeface="Garamond"/>
              </a:rPr>
              <a:t>th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For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mbitious pupils continue to study in the 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. They stay on at school for one or two years to prepare themselves for university. They have only 3 or 4 main subjects which are necessary to pass the advanced level exam (called A-level exams) at the age of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ollege"/>
          <p:cNvPicPr/>
          <p:nvPr/>
        </p:nvPicPr>
        <p:blipFill>
          <a:blip r:embed="rId1"/>
          <a:stretch/>
        </p:blipFill>
        <p:spPr>
          <a:xfrm>
            <a:off x="4932360" y="1268280"/>
            <a:ext cx="34527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chool in the United St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are different types of schools and colle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U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re are differences among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rican students pass through elementary and high school. About 85 per cent of students attend public schools. The other 15 per cent attend private sch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ementary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ary School usually means grades Kindergarten (K-most schools start at he kindergarten level) through 8. But in some places, the elementary school includes only grades K to 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фьу"/>
          <p:cNvPicPr/>
          <p:nvPr/>
        </p:nvPicPr>
        <p:blipFill>
          <a:blip r:embed="rId1"/>
          <a:stretch/>
        </p:blipFill>
        <p:spPr>
          <a:xfrm>
            <a:off x="4211640" y="1728720"/>
            <a:ext cx="49323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gh Sch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school generally means grades 9 to 12. However, in many districts, junior high school includes grades 7 to 9. And when grades 7-9 are included with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1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ades, all six are said to form a senior high sch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5348211-00"/>
          <p:cNvPicPr/>
          <p:nvPr/>
        </p:nvPicPr>
        <p:blipFill>
          <a:blip r:embed="rId1"/>
          <a:stretch/>
        </p:blipFill>
        <p:spPr>
          <a:xfrm>
            <a:off x="395280" y="692280"/>
            <a:ext cx="82803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7:53:26Z</dcterms:created>
  <dc:creator>1</dc:creator>
  <dc:description/>
  <dc:language>en-US</dc:language>
  <cp:lastModifiedBy>Teacher</cp:lastModifiedBy>
  <dcterms:modified xsi:type="dcterms:W3CDTF">2017-09-22T11:10:24Z</dcterms:modified>
  <cp:revision>8</cp:revision>
  <dc:subject/>
  <dc:title>THE SCHOOL SYSTEMS IN GREAT BRITAIN AND IN THE USA</dc:title>
</cp:coreProperties>
</file>