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36A-6AAC-4CCC-9A36-BEAEBB32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F6C-715C-4416-A982-6E49220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479-9017-4DA4-8AF7-6A97B909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880-B995-4419-810C-EE636754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F10-7F4C-4C97-9623-A1B0725E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8DA6-918B-4F7A-AA22-BEC1583A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F421-AC5A-48AE-9015-38302FB4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A052-B3D3-43A6-8414-FF1E40B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5930-B903-4456-B176-AC5E174D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3C4-D855-4EC9-96DB-6EF70CC9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DE88-4C44-453A-B4CA-94F2D85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FC6-6AB3-40ED-8FBD-270BDE92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7F83-2CF7-4A26-95D4-D4DC0DC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05BE-0D60-4552-8895-BDD1BF4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5B5E-8897-4F67-B7D7-6CB068B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A7B0-CCA1-4298-8D60-BA8E64F5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1957-92D1-4AB5-85C5-412C1700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A13-3DAC-46C7-8786-9CBC31B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C07-37E3-44AF-B14C-EC880B0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80A-907C-456F-8572-1184BF5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2E1-F20B-4FF9-A287-0445FE4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96D-CC1C-4A90-9DBD-6E749EC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E44-D841-4E71-9CD6-C84216E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CD4-DCAF-4148-8FF1-B506049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20FE-364D-437C-97A5-A2D1692A1A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735-5A57-4D0B-BED2-AF6622E417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Arial"/>
              </a:rPr>
              <a:t>THE SCHOOL SYSTEMS IN GREAT BRITAIN AND IN THE US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MG_4008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594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11280" y="260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charts show how education is organized in Britain and in the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G_4009"/>
          <p:cNvPicPr/>
          <p:nvPr/>
        </p:nvPicPr>
        <p:blipFill>
          <a:blip r:embed="rId1"/>
          <a:stretch/>
        </p:blipFill>
        <p:spPr>
          <a:xfrm>
            <a:off x="2340000" y="476280"/>
            <a:ext cx="4452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chool in Great Brita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ucation in Brita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compulsory and free for all children between the ages of 5-16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lass-of-schoolchildren-008"/>
          <p:cNvPicPr/>
          <p:nvPr/>
        </p:nvPicPr>
        <p:blipFill>
          <a:blip r:embed="rId1"/>
          <a:stretch/>
        </p:blipFill>
        <p:spPr>
          <a:xfrm>
            <a:off x="1547640" y="2708280"/>
            <a:ext cx="6193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m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6" descr="кфа"/>
          <p:cNvPicPr/>
          <p:nvPr/>
        </p:nvPicPr>
        <p:blipFill>
          <a:blip r:embed="rId1"/>
          <a:stretch/>
        </p:blipFill>
        <p:spPr>
          <a:xfrm>
            <a:off x="539640" y="1341360"/>
            <a:ext cx="8137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ond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5" descr="english_school_uniforms"/>
          <p:cNvPicPr/>
          <p:nvPr/>
        </p:nvPicPr>
        <p:blipFill>
          <a:blip r:embed="rId1"/>
          <a:stretch/>
        </p:blipFill>
        <p:spPr>
          <a:xfrm>
            <a:off x="250920" y="2378160"/>
            <a:ext cx="439236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ypes of secondary schools have the 5-year courses for pupils from 11 years up to the school leaving a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pils in all state schools in England and Wales study 10 main su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6</a:t>
            </a:r>
            <a:r>
              <a:rPr b="0" lang="en-US" sz="4200" spc="-1" strike="noStrike" baseline="30000">
                <a:solidFill>
                  <a:srgbClr val="006633"/>
                </a:solidFill>
                <a:latin typeface="Garamond"/>
              </a:rPr>
              <a:t>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mbitious pupils continue to study in the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. They stay on at school for one or two years to prepare themselves for university. They have only 3 or 4 main subjects which are necessary to pass the advanced level exam (called A-level exams) at the age of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ollege"/>
          <p:cNvPicPr/>
          <p:nvPr/>
        </p:nvPicPr>
        <p:blipFill>
          <a:blip r:embed="rId1"/>
          <a:stretch/>
        </p:blipFill>
        <p:spPr>
          <a:xfrm>
            <a:off x="4932360" y="1268280"/>
            <a:ext cx="34527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chool in the United St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are different types of schools and colle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U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re are differences among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students pass through elementary and high school. About 85 per cent of students attend public schools. The other 15 per cent attend private sch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ement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ary School usually means grades Kindergarten (K-most schools start at he kindergarten level) through 8. But in some places, the elementary school includes only grades K to 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фьу"/>
          <p:cNvPicPr/>
          <p:nvPr/>
        </p:nvPicPr>
        <p:blipFill>
          <a:blip r:embed="rId1"/>
          <a:stretch/>
        </p:blipFill>
        <p:spPr>
          <a:xfrm>
            <a:off x="4211640" y="1728720"/>
            <a:ext cx="4932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gh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school generally means grades 9 to 12. However, in many districts, junior high school includes grades 7 to 9. And when grades 7-9 are included with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1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ades, all six are said to form a senior high sch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5348211-00"/>
          <p:cNvPicPr/>
          <p:nvPr/>
        </p:nvPicPr>
        <p:blipFill>
          <a:blip r:embed="rId1"/>
          <a:stretch/>
        </p:blipFill>
        <p:spPr>
          <a:xfrm>
            <a:off x="395280" y="692280"/>
            <a:ext cx="82803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7:53:26Z</dcterms:created>
  <dc:creator>1</dc:creator>
  <dc:description/>
  <dc:language>en-US</dc:language>
  <cp:lastModifiedBy>Teacher</cp:lastModifiedBy>
  <dcterms:modified xsi:type="dcterms:W3CDTF">2017-09-22T11:10:24Z</dcterms:modified>
  <cp:revision>8</cp:revision>
  <dc:subject/>
  <dc:title>THE SCHOOL SYSTEMS IN GREAT BRITAIN AND IN THE USA</dc:title>
</cp:coreProperties>
</file>