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2520-34E3-418C-B9C6-97BE48EAD9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5946-F8DB-421D-B35C-6F3886122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9CED-1EA9-4FD2-AD33-832AEA6D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AC8-4F15-4573-AC5B-7FEB2175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9969A-6785-46C7-8071-B1B4B9C3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D6B51-EA48-45EE-B5DD-34FC02F4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4F232-9F7D-4E33-8834-0CB50691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2AAF2-A7EC-4AD5-93AF-4DD1EEFC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1D826-89EF-4D71-AB65-62273DB6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5B7B04-5B47-45E9-8CDF-D2217D9D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EAAB2-352B-4070-8120-40408302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7058D6-C186-453D-8435-12B03DA6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6B96EA-CBE9-4485-935D-3962C47F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BF8B9-CE7E-4854-AD85-CDB776EC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497-AD52-4470-9386-34658036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9E626-F4C5-4FD7-B1DD-8E961E82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298BF-BAD5-4A57-BC0E-60B7854A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533313-5EC3-4C52-BD73-F76E2FBA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33666-DC97-44B0-8897-37A43EB4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057AD2-64CB-483B-BF75-B36BAEFE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C62FAD-2949-4A97-8EFF-53E073E8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9CED48-ECEB-4131-9583-A0C80D44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4AB18D-1D00-43F1-A445-2091E2D9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94CED-8A30-4AB9-B661-1C7C512A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2FE91B-6667-44A8-8DBA-0E424200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216D-E5FC-4C1B-9BDF-98332740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323810-2DC4-46D6-A0AD-9B9448E3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FC30E-1ADB-4830-96CC-9B214849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1DB0F-4EE9-4345-B34E-7D961BB7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0100A-DFF6-4886-A7AB-55EDDC5C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D6F23-3B6C-40A0-A8D5-7D0DFA7E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59FAC-C5DA-4445-94CC-3D8F9588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DD070-CB7B-47C8-9384-8A876D7C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AB07C-3A11-460A-B30E-16884B4C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08A4D-5C77-4133-85AE-050A0FC1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4D05E-E298-4ECB-9E4D-C6E91062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41E0-D1FD-4B4C-BA94-7AE37983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DE722-8893-47D0-86F1-DACCCE0D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EBF09-03E4-4BD9-BEBC-31C570AB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AEB54-7859-4F98-9D4C-CAEFA8A3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7A313E-D103-4FCE-8ABF-4F203EE6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4915B-8CC9-44B1-916D-73802DEA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0B4888-7A0F-470C-855A-BC6D020B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71458-1978-4079-97B8-E3082FD4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3DC1D9-87F9-493A-BF71-3996CCD5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C90036-9616-4221-ACB9-3CF876CD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55CF7F-6550-4CBC-96B2-13B561D8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2704-9C6D-4C12-A792-43B0CF58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7065D-91D2-46EB-AAA0-C36E953E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71D22C-182F-478A-AEDC-0B51894F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1D0E6-D910-415D-A578-58985D38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D8384-84CA-4EF5-86E7-8D9851E3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B1601-751B-4CAC-A21A-E930763C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D2A9-1B22-48A8-9949-88286433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FD23-F389-4623-8175-CF238DAF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5549-4742-4597-BCB2-F27CB28F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F4AB-6CDD-4767-91BB-20D7B2CE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C3E6-36D3-4910-A569-D6BFFF41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48F7-8AD7-479F-86DD-EA8FB57D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CB11-3379-4CD4-9586-F573A8E4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C121-D355-4872-B60A-0B915E74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CD06-D8EA-496D-9EB4-4C8CFF81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44AC-9049-48E9-B110-D481F475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9848-3D77-4C39-9940-F30CBAFD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DFEE8-CF01-4AE7-B6F7-76B5EDA8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CA554-B114-448E-AA44-0D98AC1B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B4BE5-F48A-4C90-982E-ACEE1F6D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A89DC-BCD9-497F-9CA5-18E88D35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6D98D-A94E-499A-844D-BF0EB812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BDA7-EA11-46CD-8EB7-D2D7BD57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02E08-2589-4DB1-8C7D-A6823C26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39A4F-7C7F-4456-A83A-19DC7889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EFFC2-0A14-4E83-9050-CF75A9AA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1FD38-5E97-4B93-B23C-08D37498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E26D1-46CB-4700-8B97-353B7C7E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30007-1A80-4386-84C2-C9657ED4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15AAF-DE47-498A-93FD-BE19B9BC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CDB86-027C-4FD9-A87B-343BB389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20AA4-DD45-4AB9-BCCD-3EAAE5F2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8748B-545A-49E6-83F7-1F32D1E6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025-D1D7-4A1D-84D9-71B552BF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BCD5B-37B8-416E-9CB3-182F4B43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F6653-E83E-4AE9-8FAF-F54F0F44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9BB9D-E11E-4CCF-8700-9AE5A3E0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99E62-F3FA-4062-9825-F7792C6F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EE649-9108-4572-A42E-491BCB32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FC6CF-C625-4168-A6D3-1E722CA9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7DBE5-12B6-45CD-92C3-245D4396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615A9-FFF8-4654-B4E6-CFE9E42F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A996C-163A-4C13-B8EA-3593688A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5F7F8-1B39-4BAF-9ADB-F9A502B8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259-33C8-4E5E-9065-4AADFB33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ACB5E-BDBD-445E-90B2-E5DAB677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FF792-CC5B-42D0-8048-F6FDFEC9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E9FF0-E243-4C3E-B5E9-15735697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82CD5-7AB2-46F7-AE70-A8CDCE68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C016D-C840-49DF-A064-69FB2518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E38C9-598E-4129-B9A1-C3BC7A5D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F59CC-244F-47FF-8624-3204D1FD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106E4-89CD-4C6B-804F-C0040EC2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D6E9C-0BEE-46D3-BC92-7EB64DA4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48F83-5E85-4EFF-BF67-42EFE197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C7F-3973-4053-A8C0-5A63CABE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33301-F172-45F4-8E14-9F4A31CF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B1EE3-2CDF-4280-8CB1-93A2196D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35D54-8C09-4A5B-AF8B-1838053A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07CC6-F556-4EA5-99F3-43D23C06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1574D-3341-488F-B6A0-A4EB7E16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77E47-9793-4FB7-949D-909754E1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95B5C-09EB-4483-AF82-85F330DE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8DC4E-BCC6-4789-B9FA-74138CB3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27301-1597-4084-AF11-B7EDB9AB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51CE5-ADFF-4748-92D5-CE6BD613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3FF-0B07-4C4A-849E-CE161773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7114A-378C-44D2-ABD3-1FBDAD13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3F62A-BB6B-42D3-BD50-A6C340A3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049FD-07A7-467C-9DC0-89724188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12897-86BF-4E3A-904C-453A77EC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A4A29-4C5D-4AD9-871D-7ACAFEA0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BD51B-AEFC-4EB1-8BF9-4102AF10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7599A-9973-4BA7-85FD-830C56F3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184C8-588D-45F6-A295-E5794B83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D1D4E-1A48-483E-B649-23B32D9B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017B7-6DBF-481E-8FA9-4FED69F9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D52-B7F8-4CC4-AEF2-3524CBF0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E0889-A06C-46D0-A400-E8555D02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8E006-9856-451B-B7F0-7F135F25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CAAD5-A39E-4D10-A536-4D2A1A3D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91249-A7CB-4D36-9B7E-ED8D2C1F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67D56-BF36-4AC5-936F-E20EAB3D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7C1A3-F0EA-4FB2-9A51-1CB6B205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83AA9-6378-4DAF-8250-31F8599A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19B29-16E8-4022-81B7-2EFDF530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B8D75-4BAA-4D65-8DD6-9E8F43FF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76ADE-61C5-45DF-B65D-5FDDAC95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923-D072-4BDA-996C-3784EC08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8B0D7-99F5-4083-B5C8-32906BE5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DFC07-D5BA-473D-A423-8B7818DC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E6BF7-5DC6-4472-B2AD-A1D4004E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7F2B0-6027-4690-8A01-22BFCC48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C3F69-59E8-4AE5-A42D-65809BF6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6E376-BD00-411D-9CC6-76956351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E8979-2EFD-4D66-B05F-A3669A40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5646E-4376-4D85-AE36-45C4E5A1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18A55-BFCA-45F5-AD04-F912DA7B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9B2F0-DB1C-4708-944B-A5EC6F36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2C3A-5524-477E-AF19-A1A63D03E4A3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31C9-0911-4EB8-9F88-A827C0587DFB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C215-83CA-4F12-A2EF-99F45A00FDF2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A232-B72F-4F32-B394-55164504F778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2FB9-08C4-413B-9355-006FAFD60C79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DA4F-3CAD-4CEB-961C-67250BBA1F27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455A-4C3A-4089-A1B4-B0837D7CBDDA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57EF-C78A-48E1-994C-223736801FAC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4D83-3567-4D5F-80C3-194D55C569D6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9E11-F0AA-4F02-A3DD-B9FB127E2161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92D4-92E8-4B4D-BA2B-B5D2DEDF484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DE48-C4C6-4380-869A-3A7E142723EA}" type="slidenum">
              <a:rPr b="0" lang="ru-RU" sz="1600" spc="-1" strike="noStrike">
                <a:solidFill>
                  <a:srgbClr val="ab262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6840" y="533520"/>
            <a:ext cx="8001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Georgia"/>
              </a:rPr>
              <a:t>ПРЕЗЕНТАЦИЯ К УРОКУ ПО ТЕМЕ: </a:t>
            </a:r>
            <a:br>
              <a:rPr sz="2800"/>
            </a:br>
            <a:r>
              <a:rPr b="1" lang="ru-RU" sz="2800" spc="-1" strike="noStrike">
                <a:solidFill>
                  <a:srgbClr val="4f271c"/>
                </a:solidFill>
                <a:latin typeface="Georgia"/>
              </a:rPr>
              <a:t>«ПОНЯТИЕ О НАРЕЧИИ»</a:t>
            </a:r>
            <a:br>
              <a:rPr sz="2800"/>
            </a:br>
            <a:r>
              <a:rPr b="1" lang="ru-RU" sz="2800" spc="-1" strike="noStrike">
                <a:solidFill>
                  <a:srgbClr val="4f271c"/>
                </a:solidFill>
                <a:latin typeface="Georgia"/>
              </a:rPr>
              <a:t>7 КЛАС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271c"/>
                </a:solidFill>
                <a:latin typeface="Georgia"/>
              </a:rPr>
              <a:t>САДОВСКАЯ ОКСАНА НИКОЛАЕВН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Лексико-орфографическая работа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1d15"/>
                </a:solidFill>
                <a:latin typeface="Georgia"/>
              </a:rPr>
              <a:t>медленн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1d15"/>
                </a:solidFill>
                <a:latin typeface="Georgia"/>
              </a:rPr>
              <a:t>самозабвенн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1d15"/>
                </a:solidFill>
                <a:latin typeface="Georgia"/>
              </a:rPr>
              <a:t>аккуратн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1d15"/>
                </a:solidFill>
                <a:latin typeface="Georgia"/>
              </a:rPr>
              <a:t>блаженн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1d15"/>
                </a:solidFill>
                <a:latin typeface="Georgia"/>
              </a:rPr>
              <a:t>традиционн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1d15"/>
                </a:solidFill>
                <a:latin typeface="Georgia"/>
              </a:rPr>
              <a:t>торжественн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1d15"/>
                </a:solidFill>
                <a:latin typeface="Georgia"/>
              </a:rPr>
              <a:t>надменн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Сопоставьте пары предложений 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дти по дорог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дти по дороге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едленно, вразвалочку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 нам приехал знакомы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чер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к нам приехал знакомы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гадочно мерцали звезд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разительно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загадочно мерцали звезд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льчик был в куртк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льчик был в куртке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распашк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Делаем выводы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838080" y="159984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 какие вопросы отвечает наречи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зменяются ли глаголы в словосочетаниях с наречиями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зменились ли наречия при изменении глаголов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кими членами предложения выступают наречия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четаются ли наречия с причастиями и деепричастиями? Другими наречиями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четаются ли наречия с местоимениями, числительными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Вывод: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речие –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то неизменяемая часть речи, обозначающая признак действия, качества или предмет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Напр.: быстро, вслух, мастерски, чрезвычайн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Чему мы должны научиться: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находить наречия в тексте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доказывать, что данное слово принадлежит к классу наречи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пределять словосочетание, в которое входит наречие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пределять, каким членом предложения является нареч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Алгоритм рассуждения</a:t>
            </a:r>
            <a:br>
              <a:rPr sz="3300"/>
            </a:b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838080" y="1600200"/>
            <a:ext cx="76932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йдите в тексте слово, похожее на нареч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йдите слово, от которого можно поставить вопрос к наречию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тавьте вопрос, образуйте словосочета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умайте, что обозначает нареч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делайте вывод: какая это часть реч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533520" y="28191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Georgia"/>
              </a:rPr>
              <a:t>УТРО ТУМАННО.  ------------ ГОВОРИТЬ ТУМАННО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Georgia"/>
              </a:rPr>
              <a:t>НА УДАЧУ НАДЕЙСЯ. ------------ПОЙТИ НАУДАЧУ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Georgia"/>
              </a:rPr>
              <a:t>С НАЧАЛА ГОДА. -----------------СНАЧАЛА ДУМА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Georgia"/>
              </a:rPr>
              <a:t>УЙТИ ВОВРЕМЯ. -----------------ВО ВРЕМЯ УРОК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891a7"/>
                </a:solidFill>
                <a:latin typeface="Georgia"/>
              </a:rPr>
              <a:t>Распознавание наречий и слов на них похожих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Лексическое значение: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7200" y="16002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Медленно –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овершать с небольшой скоростью, неторопливо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Самозабвенно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– увлечённо, воодушевлённо, забыв свои личные интересы ради чего-то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Аккуратно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– тщательно, точно, старательно, соблюдая порядок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Блаженно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– взбалмошно, неуравновешенно, сумасбродно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Традиционно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– установившийся порядок, обыча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Торжественно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– важно, величаво, празднично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Надменно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– самонадеянно, высокомерно, кичливо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Стрелка влево 3"/>
          <p:cNvSpPr/>
          <p:nvPr/>
        </p:nvSpPr>
        <p:spPr>
          <a:xfrm>
            <a:off x="7772400" y="6400800"/>
            <a:ext cx="6858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ён</cp:lastModifiedBy>
  <dcterms:modified xsi:type="dcterms:W3CDTF">2017-09-23T14:09:45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