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BB5-8200-4989-9E00-750BDC8DDA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E88-2E8E-4247-B8AF-60AD4538F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2B2-677A-44AB-B173-4920D9A8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EE1-CABF-4F19-BE22-D2556A9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F0DA6-0C9D-44B7-9CE3-F14CD380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AFACA-CFB8-48D5-B02C-560AB18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69781-6132-45C8-B163-6BD6213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944E4-F93B-472C-A5AB-BD7AE16C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8562B-23FF-4C09-9852-EF9331C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987FC-5594-43BB-9AF0-DF0F536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331B9-3E8D-417D-80F0-46F1450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40F57-0653-4457-BFC8-C6B6503E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23664-0FC0-4E17-995F-80DDC507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AFC42-C9DF-4799-B45B-D35CE3E2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FF6-027F-4AA6-AB74-7C839AC8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9C4A7-D269-45C5-89D6-9F9B7A1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EBED1-6ABD-4900-8D85-3FFC280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A678C-2AC4-4CB7-97AC-2EE388E1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89893-5328-4062-A584-D3C4D3B8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C7A55-58DB-4055-AB16-F2C6209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9A881-0206-4A33-8628-1D991CF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25724-0A3E-416A-A8F3-3C2B82E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1FD20-B880-4468-B1A8-7866621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86D25-37C7-4E7A-930E-5638092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751F5-2763-4A61-B67B-D08CEAED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E23-BEC9-49BA-A3CF-EC36DAE3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F4842-5B64-45BB-9712-876C7E62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1552E-9C73-4994-931E-0B784BCD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BDC61-0895-44D2-A7CE-FA685244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3BC19-3A00-4442-88B4-5DD16C34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D9F33-AC63-43B9-96F6-10CA16C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E90E4-289D-426E-8F8E-428D9CC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2036-B6F2-4D38-A77C-D488F5A7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B835-C427-4633-B7A6-8A2570E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9463B-62D7-491F-9E4C-83C03C4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D9E1-BBE2-4657-B85B-B017531E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02BC-352D-4C4E-81BA-3E329EF8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22881-052F-4538-8902-16F1BC09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055C-D530-474F-8BB0-431C5D5C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B4E5-8E80-4C36-8DB8-8BC5078A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CAF0C-3149-406B-9306-58E05A0E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F65C1-E749-4E6F-93A5-B46CFF4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E13B6-0905-4D06-8515-A30B59D1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1BC93-B62C-4D97-B058-47FAD0C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3F1BA-378B-4CF5-A539-0A3A3C7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C3A10-52AB-4675-8F00-B9A8F1B0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59A83-F908-436C-9993-4AAE02D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FCF-6920-4EF9-95D0-9B044E90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5CDFA-D3B5-46E0-A971-9218732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D5E61-5FF7-4326-94BB-75BB81B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B3EC1-7E73-4E36-BC3D-A37EB31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DB8C3-2F1A-4858-B830-A77F163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872B5-913E-4E85-BBE4-04E5CB30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A201-BFE9-4DB2-AD39-FF0A0AE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4E1-07FA-4102-8B65-9C9FA51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6B0-E996-4E16-AD43-AB1DAF9D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332E-EBDD-48C0-A5A1-081DC2E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86C0-479A-4D1C-AC11-0ACA64A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8FD-E1A1-47C8-AA0B-F1F0554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970-DF63-4E97-9626-0CB6832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A42-1150-43D1-BD12-DDB935D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39D-33BB-4889-BA41-FCD93512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A496-71CA-4E9E-9081-8E849A7A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1E21-B691-4CF0-9DFD-4BCFB11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20B6-DE7F-4E30-96D4-63CB7042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0CD4-6192-4A2C-A530-A853DB5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4B48-CDA4-44F0-AE94-1A996AE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7DF6-8702-448D-9DB2-460B422B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F08A-69CD-4783-A2BE-9501DA1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FDD-F2D5-4053-99BF-8CE90829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B32F-8DC8-4792-868F-89A8EE3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DDE2-03CB-4136-B0DB-9DD16F8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4E3B-C998-4673-872F-F33D8D6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B8AB-7A2D-4E18-831E-B58B32A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CAB6-B06E-4C9C-A339-1BEC242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7C05-09DE-41CE-9907-C692AE24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E45F-EFD6-4733-8A8B-612EF126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5040-B37F-49DB-967C-10046217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07D1-C117-4F59-9C5B-906C09D6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CF0B-6925-4271-985F-EFE979C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557-C2A1-4366-B3BA-9237C35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492B-E456-425A-ACD7-38D1BA3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7CC4-B549-4000-A2C2-FC42476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8D2E-940F-44C5-8EC1-692EC0B1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720C-4EB1-4466-A831-901E09D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A505-7969-459C-8CED-148B28B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F64C-9FA4-40DC-9047-830C5F6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2E58-1EE6-456D-AAFF-37C8CCE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523A-9184-47C1-8B19-B0382E9A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7334-1C10-4B5E-AD6B-66E585DE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4175-3AFE-44E8-9BF1-900CEF2A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12C-3B2E-4326-AF5A-922F763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68ED-702F-4358-A9BA-E4605B3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9A2C-FEC9-4FB7-9E6D-A1DC350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52E6-D26F-4B3D-88BB-03AA050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0132-81E4-4F54-B84A-357FF68D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126F-EA8F-4D87-B93D-B441E255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53D7-4A0C-426C-B63A-B83EA67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51B2-EABE-453A-8AC4-9E23943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B8AB-7020-4F45-9562-7B8A2DE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C29E-60BD-4DEB-B925-F87148B2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5556-56EB-4ABF-9035-D109FE5F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2E4-72CB-4E2B-B3E1-317DAAA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F43C6-86F6-4693-8145-63C9573A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4905-8B4C-498A-916D-7941771C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C6709-52A2-420E-9FE4-DD3C43A7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A5F37-FE66-46C3-BF29-369EA0C4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BE26-160C-46CB-9B61-77AF46DE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CD11-562E-4C43-AAA3-0247B74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20D55-16B9-4588-AFFB-1CDF28B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975CA-9E4E-48B2-BA48-B32C898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9441-DB40-4D30-8261-FE10CA5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A1DA-7F26-409B-82D2-8BE9C29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C01-02EE-4E43-9DB9-C24B1F6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0D35-0EFE-4761-87D6-1DB226A9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3B08-28E8-431D-B208-9E0DF2EF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A325-4DF6-46CC-9A1E-C74ED0AE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558E9-DF84-451B-B840-FFD2A209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AC8AE-4CF2-4AF2-904A-DD15782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6B0B-C814-4B95-88BB-3F00045E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FCA28-3320-43DE-AC4B-51202FA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96CF-DAC6-4520-A845-0C44E8DA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C349-2E65-40BE-9D3A-3DB11AAD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9A45-B1BB-4DA2-9A0F-279A525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916-032D-4B1F-807F-7FD9991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259B-265C-4D08-852C-C03E5D1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FF28-A129-4461-AB68-CDE1812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086F-AAB7-4391-A948-3EADD5CC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9C77-2C81-42A1-9ABD-62460BD6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58A6-2B2B-473C-8608-20220E3D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E229-8C43-44F7-8687-AF4C418D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E4B5-C4F8-4227-9296-7668B04D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EE104-0BF6-4EC9-AA01-506799C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E2CF-9272-467F-84CC-BFE4BB0C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4F81-0C87-4CB5-A93D-8FE4240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7B2-4238-456B-9D36-C1607A6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0B8AD-5E2A-481D-854F-8522C56E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AE99A-D6C7-4D5D-8517-1154C38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19A5-D96C-401C-A326-29CED67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E768-8842-4B5A-B3C3-7C789D2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0759-C5F4-4627-8B53-FA84ED3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669E-DD9C-40F2-9EAB-40BCF518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93978-8D07-4783-B8AD-7F5C2614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3761E-5BCD-4E28-B18C-EF3F72F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C4E04-16E2-47ED-8E16-CD0BF3B6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8ECD4-76B8-4CF0-83E2-C6EEB84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9564-F8F9-4F82-A39B-A936CC741AC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95CA-D2C1-4227-AC9F-34A290E27F46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7C4-B737-4AA3-B02D-F0D3F6631BE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7DD7-BE44-458A-8558-273F4AA4A4B6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13B-BED2-4F1F-A079-4480E21A3CA9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FB50-2272-4094-8814-40A0E3F2BFA3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4E5B-D0BF-40E2-B954-8D87972EFC50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999F-2A3D-44D6-A3F2-E4EA019192EF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3C5-FAAF-4D0F-BB3A-9B8CA8A9F803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09A-230D-44F5-BFCF-D717A42E0D50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5CB-A89F-4863-BAD7-A4A70892BA2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CA8-A1E3-4E25-B85F-9CE4EF3DE4E0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ПРЕЗЕНТАЦИЯ К УРОКУ ПО ТЕМЕ: 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«ПОНЯТИЕ О НАРЕЧИИ»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271c"/>
                </a:solidFill>
                <a:latin typeface="Georgia"/>
              </a:rPr>
              <a:t>САДОВСКАЯ ОКСАНА НИКОЛАЕВ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Лексико-орфографическая рабо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медл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самозабв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аккурат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блаж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традицио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торжеств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надм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Сопоставьте пары предложений 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ти по дорог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ти по дорог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дленно, вразвалоч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нам приехал знаком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чер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к нам приехал знаком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гадочно мерцали звез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азительн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загадочно мерцали звез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 был в куртк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 был в куртк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распашк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Делаем вывод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38080" y="159984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какие вопросы отвечает нареч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меняются ли глаголы в словосочетаниях с наречиям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менились ли наречия при изменении глаголов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ми членами предложения выступают наречи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четаются ли наречия с причастиями и деепричастиями? Другими наречиями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четаются ли наречия с местоимениями, числительным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Вывод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речие –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неизменяемая часть речи, обозначающая признак действия, качества или предмет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пр.: быстро, вслух, мастерски, чрезвычай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Чему мы должны научиться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ходить наречия в текст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казывать, что данное слово принадлежит к классу нареч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ределять словосочетание, в которое входит нареч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ределять, каким членом предложения является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Алгоритм рассуждения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38080" y="1600200"/>
            <a:ext cx="7693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в тексте слово, похожее на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слово, от которого можно поставить вопрос к нареч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ьте вопрос, образуйте словосочет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умайте, что обозначает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делайте вывод: какая это часть ре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УТРО ТУМАННО.  ------------ ГОВОРИТЬ ТУМАНН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НА УДАЧУ НАДЕЙСЯ. ------------ПОЙТИ НАУДАЧ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С НАЧАЛА ГОДА. -----------------СНАЧАЛА ДУМА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УЙТИ ВОВРЕМЯ. -----------------ВО ВРЕМЯ УРО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891a7"/>
                </a:solidFill>
                <a:latin typeface="Georgia"/>
              </a:rPr>
              <a:t>Распознавание наречий и слов на них похожих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Лексическое значение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Медленно –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овершать с небольшой скоростью, неторопли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Самозабв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увлечённо, воодушевлённо, забыв свои личные интересы ради чего-т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Аккурат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тщательно, точно, старательно, соблюдая порядок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Блаж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взбалмошно, неуравновешенно, сумасбродн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Традицио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установившийся порядок, обыча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Торжеств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важно, величаво, праздничн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Надм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амонадеянно, высокомерно, кичли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Стрелка влево 3"/>
          <p:cNvSpPr/>
          <p:nvPr/>
        </p:nvSpPr>
        <p:spPr>
          <a:xfrm>
            <a:off x="7772400" y="6400800"/>
            <a:ext cx="6858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ён</cp:lastModifiedBy>
  <dcterms:modified xsi:type="dcterms:W3CDTF">2017-09-23T14:09:4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