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25F6-47E6-4D8A-AE8A-1F4104B2F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5263-CB2B-4363-9C34-DEDE09437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C028-859B-4AC2-B351-A1DA459AA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D3C0-0B93-4020-9D8F-5698A9C67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99C68-9EDD-41E4-B723-1F4F65DA0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01B5D-5E74-4A26-AFE2-3D4042152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115F0-50F6-4241-9320-AE2778CE7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B6E79-32C5-4A93-876D-79F0EA879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2CA98-C72E-4727-AD17-EA7C85DEA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B2E56-0498-4AD6-A929-98E5E6789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E5BBB-824C-4A33-8E37-976A31D4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CF76-7A89-4D17-9A62-E319AD6D2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EF0A8-0D93-422F-ABCD-B05ECBF9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F8E6A-EE25-4539-9C25-919CDAA0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CE391-9E32-4BE3-A0A5-D3DAD6691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6B965-8ADF-4232-8DD3-24A3D28E5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3D26D-E6BD-4B6D-A674-DCB54EDC2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5E647-902E-410F-BEDA-6D3A1603A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00422-7686-4DC9-92EE-DF8B069F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40B7C-BCDD-4C3E-B097-3EAFF2408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F5394-2FDE-49F5-A69E-42B166DF1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4AFD4-C79F-42C5-ABC4-6C70A0D46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8E11-A2D0-4CFA-A87E-F42BA307F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86D6B-489B-498E-AE82-F8CC73FBE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9DACE-66C9-4ABC-B82D-1C28448D4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1B4D0-A7F7-4A79-9AFF-387B7E74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C8D87-E7C4-46F0-82A9-40A6212D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DB548-DE20-4B56-8199-861D6E079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F9311-6CF0-4488-838E-58F3A2902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CB3A1-32EE-4271-88DF-AB6D53752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E242E-6DD1-494C-B8A4-BE0D5CEE5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32965-17B4-41E7-9231-E3F3DF821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FAA7C-D423-45F1-A57A-CAE2E3C6A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7C17-AD90-4B85-A342-AC0FFB59F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FE194-C1C7-4277-B2A2-6930B5EE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D2AEE-D81B-4537-95D1-AA2382123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9E9C9-077C-47E8-9BD4-C7E6F897B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41E08-456C-4C0D-929B-4323B477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3FC32-2716-4B32-AFE2-04EE631A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4A7D6-DBA8-4140-B52B-B6A9A715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07599-F718-42E2-8455-2696BB5BB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E2EC6-E5FE-4385-8E8C-1916D5E89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1CBA0-B0D6-4CAF-BE32-81475B256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92D6E-2ED9-41BF-99DD-C9F6BCF36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A73E-E777-4126-9981-6D3784DF2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B6223-25A6-48D6-834E-E8AE97058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DE584-1F2D-4809-B93C-76B12E092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C9068-3042-4427-AAA3-690C68042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A4023-48BC-40E8-8931-74B66B782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39BF0-E730-4DCB-8A2D-271CE88EE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8D1A5-953C-4202-AF20-C3343BE3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853EE-1162-42A1-8974-2E23FDCA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80EB9-7B2F-4AFC-A5C0-A9690836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306BF-2D03-43D5-957F-70B828A8B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5CD13-3581-4278-85C7-522E310D1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9D0C-6EC9-4B0E-84E6-764DF8591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899CE-F59A-4F8C-B382-42E400331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8017-2C3D-4B62-987F-1BEB24A3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4765-8735-4BCA-A83C-CE321DC5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CF06-762F-49C8-912F-7F738886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67228-A631-4C62-8DBF-DCBB0B8EE39C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7BEA2-DFEA-4EDF-87F6-C5E58D57F69B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DD7F1-2146-4110-939F-F5E081EEE907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E399C-9544-4AE3-B763-782F8FF9EDDC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D6B48-C921-4FAD-A10C-1E9A3DFE4C7D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682560" y="706320"/>
            <a:ext cx="8132760" cy="35118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4642920"/>
            <a:ext cx="5114880" cy="1785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ь: расширить знания о строении и грамматическом значении предложения, научиться выделять грамматическую основу, определять цель высказывания; понятие об интонации и её роли в предложени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Заголовок 1" descr=""/>
          <p:cNvPicPr/>
          <p:nvPr/>
        </p:nvPicPr>
        <p:blipFill>
          <a:blip r:embed="rId1"/>
          <a:stretch/>
        </p:blipFill>
        <p:spPr>
          <a:xfrm>
            <a:off x="255600" y="122400"/>
            <a:ext cx="7450200" cy="159696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457200" y="2000160"/>
            <a:ext cx="72388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Повествовательные: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восходяще-нисходящая интонация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Вопросительные: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в зависимости от места логического ударения – нисходящая, восходящая, восходяще-нисходящая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Побудительные: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повышение тона, особенно, если выражает приказ, а не просьбу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Заголовок 1" descr=""/>
          <p:cNvPicPr/>
          <p:nvPr/>
        </p:nvPicPr>
        <p:blipFill>
          <a:blip r:embed="rId1"/>
          <a:stretch/>
        </p:blipFill>
        <p:spPr>
          <a:xfrm>
            <a:off x="255600" y="225360"/>
            <a:ext cx="6108840" cy="63972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457200" y="999720"/>
            <a:ext cx="5897520" cy="4287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0" anchor="t">
            <a:normAutofit fontScale="66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1. </a:t>
            </a: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Прочитать материалы параграфа: 8, 9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2214360"/>
            <a:ext cx="72388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2. упр. 82 (классификация предложений по цели высказывания) – устно. Работа в парах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3. упр. 85 ч.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(роль глагола в предложении) – письменно. Комментированное письмо, «по цепочке»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4. упр. 91 (характер интонации) – устно. Работа в парах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5. упр. 92 (характер интонации) – письменно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Что отличает предложение от словосочетания 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а каком основании предложения делят на простые и сложные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Что такое грамматическая основа предложения 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о каким признакам можно выделить грамматическую основу, если в предложении отсутствует один из главных членов 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212760" y="281160"/>
            <a:ext cx="7493040" cy="7254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7200" y="1285920"/>
            <a:ext cx="7238880" cy="51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редложение – это основная единица синтаксиса, так как в предложении оформляется мысль, которую говорящий или пишущий хочет сообщить (высказать) слушающему или читающему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редложение -  наименьшая единица общения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редложением называется слово или несколько слов, в которых заключается сообщение, вопрос или побуждение (приказ, совет, просьба)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212760" y="281160"/>
            <a:ext cx="7493040" cy="7254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7200" y="114264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меет грамматическую основу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является высказыванием о предмете речи. Сообщение, вопрос, побуждение – разновидности высказывания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является единицей общения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Характеризуется интонационной законченностью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Между водорослями по песчаному дну перебегают юркие пескар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Почему же покой не приносит животным, постоянно обитающим в норах, долголетия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Заголовок 3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19080">
            <a:solidFill>
              <a:srgbClr val="d488c5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редложение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Служит для сообщения, вопроса или для побуждения; может быть восклицательным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Имеет грамматическую основу, состоящую из одного или двух главных членов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Характеризуется смысловой и интонационной законченностью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19080">
            <a:solidFill>
              <a:srgbClr val="d488c5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Словосочетание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Служит для более точного, чем слово, называния предметов, действий и их признаков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Состоит из главного и зависимого слова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98960" indent="-498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1. В грамматическую основу обязательно входит глагол в каком-либо наклонени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498960" indent="-498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2. Один из членов грамматической основы занимает независимую позицию: не зависит по своим формам от других членов предложения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498960" indent="-49896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апр.</a:t>
            </a:r>
            <a:r>
              <a:rPr b="1" i="1" lang="ru-RU" sz="2000" spc="-1" strike="noStrike">
                <a:solidFill>
                  <a:srgbClr val="000000"/>
                </a:solidFill>
                <a:latin typeface="Trebuchet MS"/>
              </a:rPr>
              <a:t>Летом и ночью светло.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498960" indent="-498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3.вспомогательный глагол или глагол-связка в форме какого-либо наклонения образуют с самостоятельным словом один член предложения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498960" indent="-49896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апр.</a:t>
            </a:r>
            <a:r>
              <a:rPr b="1" i="1" lang="ru-RU" sz="2000" spc="-1" strike="noStrike">
                <a:solidFill>
                  <a:srgbClr val="000000"/>
                </a:solidFill>
                <a:latin typeface="Trebuchet MS"/>
              </a:rPr>
              <a:t>Могу помочь тебе.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98960" indent="-49896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Интонация –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итмико-мелодическая сторона речи, чередование повышений и понижений голос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нтонация проявляется в живой устной речи, в говорени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а письме при передаче разговорной речи или в художественном тексте на интонацию могут указывать ремарки, пояснения автор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5476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" y="2000160"/>
            <a:ext cx="72388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темп речи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тембр, выражающий различные чувства говорящего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логическое ударение, которое падает на самое важное по смыслу слово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аузы, определяющие смысл высказывания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Заголовок 1" descr=""/>
          <p:cNvPicPr/>
          <p:nvPr/>
        </p:nvPicPr>
        <p:blipFill>
          <a:blip r:embed="rId1"/>
          <a:stretch/>
        </p:blipFill>
        <p:spPr>
          <a:xfrm>
            <a:off x="212760" y="208080"/>
            <a:ext cx="7493040" cy="7254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57200" y="1428480"/>
            <a:ext cx="72388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рганизует ритмомелодику предложений и выражает их конкретный смысл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дно и то же предложение может иметь больше одного смысла в зависимости от интонации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«</a:t>
            </a: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Я очень рад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» – похвала, радость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                       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неодобрение, недовольство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ЗАДАНИЕ: 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приведите свои примеры, подобные этому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4T14:08:18Z</dcterms:created>
  <dc:creator>1</dc:creator>
  <dc:description/>
  <dc:language>en-US</dc:language>
  <cp:lastModifiedBy>User</cp:lastModifiedBy>
  <dcterms:modified xsi:type="dcterms:W3CDTF">2011-03-31T02:33:28Z</dcterms:modified>
  <cp:revision>21</cp:revision>
  <dc:subject/>
  <dc:title>Предложение. Строение и грамматическое  значение  предложений.</dc:title>
</cp:coreProperties>
</file>