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5CD-8448-40A6-8C0D-A6A5444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385-071F-42AC-BC29-06CC2D4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0F6-AD28-410D-8338-86823BBA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5F2-7457-4C84-9A98-404C677C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67A1-3F04-4F15-A37E-DD564FEC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7480-3C67-4878-95C6-906D765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30E1-4239-4591-BA6B-B466B537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249-86E7-4259-BF62-E2879690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B3AD-2F48-44CF-8576-1837903C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D749-3B07-438F-9EB8-97F28595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6705-C2D2-4AF5-B666-60927E1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3AF-B8DA-4AC4-AD00-824B33B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4616-51A0-469C-9CB4-46231E2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D2D-8488-45E2-BF48-35A84B8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BE7B-B590-4CA5-A07B-E274B24B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B1A9-158A-4EE6-ACEA-9BD4A12D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3F87-F68F-4DC2-9FFD-ABC9C44D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AAC3-E3E2-492D-BB32-77C3B403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03A8-D0A4-4D73-A922-9703FB80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37E9-BB78-4D30-92C9-1742A8F8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A1E6-1176-4DC8-A7DF-79D78951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4E44-A2E6-4A46-A895-0277239A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6B6-CFF3-4772-8BCB-D74EBFF6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51B1-3380-442A-AC8F-F207F89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368D-3101-421B-ACDE-3B72DD1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4FFA-07D9-47C6-83B9-550C2FB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DBF0-37C6-4026-B9F1-FDCAA07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193D-DEDE-4467-A5F4-DED61840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ABDA-A9BA-4B25-B0B4-FC60E24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25FD-1633-4378-86B0-B68E3369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EBE6-7B29-4741-8C83-1B0EE3A9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EF7D-1748-47FA-98E5-B869FAA0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A2AF-55AC-4F5F-8474-4642CB7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EEE-575E-4623-90DB-B2A3A0D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B540-7511-43E4-8145-F8B4821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CEDA-16E9-473E-A994-237C0508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B7EA-5A88-4372-BE50-BCFBCFD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60A4-DD89-4C31-A987-FFCB7D9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4B50-82BB-48C3-A6A1-3129463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613B-D0C1-4FD7-B84A-A759331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F63F-D4C6-47B5-B799-3920FB2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C950-4B46-49F7-8FD6-228268B4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7752-B408-4C60-A285-9908E27B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3BB2-3335-4DA4-9512-9E88291C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7FD-1863-42F4-9178-D56436A2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0A96E-8608-443F-BBF1-D8504D88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B843-E507-4966-ADBC-E748ECC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0246-33D0-4D3A-9547-EA445A4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9F56-FF14-4F46-AE7A-8A59891F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CBB9-D82F-4500-8A5E-64D02E7C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EBB0D-9C13-427D-8DA6-120EAA98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4E165-940B-4202-BFA4-916A6DEC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CD3E-BA67-43CA-8D51-6B36F97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4527-7FBA-414D-986F-3C756DB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7ADD-2C9A-4840-AA80-B014598B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6A3-EE92-42BE-AC65-0253635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AF95-B0F3-46EC-8FD9-503A438E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3CA-145C-4368-9AD9-4BF60E3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A66-E67D-4E71-9C70-93ECCC1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DFA-4E6B-4683-98FD-4CA03F1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5E1-9930-460A-AF1C-A50971398AA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5057-FF8E-4F44-91CC-353CFE3080E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A719-A3D9-4B5F-8EED-50A187830D5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8588-6768-4A3C-BB1F-AA852FF39E2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9AE9-0B5E-42D7-BBC5-8360AFDFD96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2560" y="706320"/>
            <a:ext cx="8132760" cy="3511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4642920"/>
            <a:ext cx="511488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 расширить знания о строении и грамматическом значении предложения, научиться выделять грамматическую основу, определять цель высказывания; понятие об интонации и её роли в предложен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55600" y="12240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вествовательны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осходяще-нисходящая интонац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опросительны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зависимости от места логического ударения – нисходящая, восходящая, восходяще-нисходящ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будительны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овышение тона, особенно, если выражает приказ, а не просьб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55600" y="225360"/>
            <a:ext cx="6108840" cy="639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5897520" cy="4287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6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рочитать материалы параграфа: 8,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14360"/>
            <a:ext cx="72388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упр. 82 (классификация предложений по цели высказывания) – устно. Работа в пара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упр. 85 ч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(роль глагола в предложении) – письменно. Комментированное письмо, «по цепочке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 упр. 91 (характер интонации) – устно. Работа в пара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. упр. 92 (характер интонации) – письмен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отличает предложение от словосочетания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каком основании предложения делят на простые и сложны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грамматическая основа предложения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аким признакам можно выделить грамматическую основу, если в предложении отсутствует один из главных членов 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285920"/>
            <a:ext cx="72388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ложение – это основная единица синтаксиса, так как в предложении оформляется мысль, которую говорящий или пишущий хочет сообщить (высказать) слушающему или читающем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ложение -  наименьшая единица общ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ложением называется слово или несколько слов, в которых заключается сообщение, вопрос или побуждение (приказ, совет, просьба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грамматическую основ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вляется высказыванием о предмете речи. Сообщение, вопрос, побуждение – разновидности высказыва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вляется единицей обще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арактеризуется интонационной законченность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ежду водорослями по песчаному дну перебегают юркие пескар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чему же покой не приносит животным, постоянно обитающим в норах, долголети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3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19080">
            <a:solidFill>
              <a:srgbClr val="d488c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лужит для сообщения, вопроса или для побуждения; может быть восклицательны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меет грамматическую основу, состоящую из одного или двух главных член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Характеризуется смысловой и интонационной законченност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19080">
            <a:solidFill>
              <a:srgbClr val="d488c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овосочетани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лужит для более точного, чем слово, называния предметов, действий и их признак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стоит из главного и зависимого сло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В грамматическую основу обязательно входит глагол в каком-либо наклоне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Один из членов грамматической основы занимает независимую позицию: не зависит по своим формам от других членов предложен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.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Летом и ночью светло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вспомогательный глагол или глагол-связка в форме какого-либо наклонения образуют с самостоятельным словом один член предложен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.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Могу помочь тебе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Интонация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итмико-мелодическая сторона речи, чередование повышений и понижений голо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тонация проявляется в живой устной речи, в говоре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письме при передаче разговорной речи или в художественном тексте на интонацию могут указывать ремарки, пояснения авто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547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мп реч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мбр, выражающий различные чувства говорящег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огическое ударение, которое падает на самое важное по смыслу слов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аузы, определяющие смысл высказыв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428480"/>
            <a:ext cx="72388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ганизует ритмомелодику предложений и выражает их конкретный смыс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но и то же предложение может иметь больше одного смысла в зависимости от интонаци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Я очень рад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» – похвала, рад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еодобрение, недовольств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риведите свои примеры, подобные этом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4:08:18Z</dcterms:created>
  <dc:creator>1</dc:creator>
  <dc:description/>
  <dc:language>en-US</dc:language>
  <cp:lastModifiedBy>User</cp:lastModifiedBy>
  <dcterms:modified xsi:type="dcterms:W3CDTF">2011-03-31T02:33:28Z</dcterms:modified>
  <cp:revision>21</cp:revision>
  <dc:subject/>
  <dc:title>Предложение. Строение и грамматическое  значение  предложений.</dc:title>
</cp:coreProperties>
</file>