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5F0-F136-4D8D-A5AA-BB43CF8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138-C0FB-4684-80F4-11B4D50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A21-FF8A-4AF3-9A12-7CBD12B5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DA1-D35D-46C3-85BC-5E8E651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21DD-8A85-4CB7-BDD0-5361015D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E42-FBA5-41BB-A731-5B1EEB0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DF41-11F1-44D3-B289-9914D44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F904-1597-4944-9EA0-FA968DF4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E830-BBFC-4871-94BE-8414609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53B-9972-4663-BEE8-D9DAB95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A47-62FC-4A1E-BD9B-3FD7CB8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817-29F5-494F-B781-B38A026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1152-8240-4201-AFA1-801D793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97E-CF5E-453E-A5FA-239C3D2E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4F5-F26C-4587-9289-4BE1B62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55DC-A43D-416E-841A-E838DEAF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D632-B7B3-48C7-98FD-7B010D13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3F0-6F2F-44DD-BC38-02094029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F1F-F427-40C4-8BE1-EB59A71D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D8B-2387-43E3-A40F-92E8FF6B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CCC-5FF7-46F1-8BF6-D768C148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21E-4591-4E0D-8DAD-D2BA3E1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EC0-920F-4339-99FE-680F8D9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D60-8EFE-4E1A-93F2-65CC418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399-718E-4253-ACDD-3328FBD9E7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D8C-38F3-4FC7-8473-755F35A90A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Диагностика атопического дерматит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000400" y="4836960"/>
            <a:ext cx="28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ириченко И.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181840" cy="4761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284328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0" y="58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чный струп - гиперемия, инфильтрация, шелушение на коже щ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1120073172_01_08_2_s"/>
          <p:cNvPicPr/>
          <p:nvPr/>
        </p:nvPicPr>
        <p:blipFill>
          <a:blip r:embed="rId1"/>
          <a:stretch/>
        </p:blipFill>
        <p:spPr>
          <a:xfrm>
            <a:off x="179280" y="1413000"/>
            <a:ext cx="4245120" cy="318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1120073172_01_08_3_s"/>
          <p:cNvPicPr/>
          <p:nvPr/>
        </p:nvPicPr>
        <p:blipFill>
          <a:blip r:embed="rId2"/>
          <a:stretch/>
        </p:blipFill>
        <p:spPr>
          <a:xfrm>
            <a:off x="4572000" y="1413000"/>
            <a:ext cx="4245120" cy="3162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826920" y="5445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рные опрелости в области промежности и ягоди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естественных склад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линика в стадии выраженных изменени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фаз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192560" cy="314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1592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 Box 16"/>
          <p:cNvSpPr/>
          <p:nvPr/>
        </p:nvSpPr>
        <p:spPr>
          <a:xfrm>
            <a:off x="539640" y="184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итема     папула     везикула     эрозии     корки     шел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763640" y="206064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298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4500720" y="20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565164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680400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5632560" y="615960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683280" y="57340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Безымянныйртс"/>
          <p:cNvPicPr/>
          <p:nvPr/>
        </p:nvPicPr>
        <p:blipFill>
          <a:blip r:embed="rId1"/>
          <a:stretch/>
        </p:blipFill>
        <p:spPr>
          <a:xfrm>
            <a:off x="1476360" y="765000"/>
            <a:ext cx="6078600" cy="4561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1332000" y="572760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 наружной  поверхности верхних и ниж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чностей,  запя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120073172_01_08_4_s"/>
          <p:cNvPicPr/>
          <p:nvPr/>
        </p:nvPicPr>
        <p:blipFill>
          <a:blip r:embed="rId1"/>
          <a:stretch/>
        </p:blipFill>
        <p:spPr>
          <a:xfrm>
            <a:off x="539640" y="47628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340360" y="50846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6566040" y="59436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у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совкычы"/>
          <p:cNvPicPr/>
          <p:nvPr/>
        </p:nvPicPr>
        <p:blipFill>
          <a:blip r:embed="rId1"/>
          <a:stretch/>
        </p:blipFill>
        <p:spPr>
          <a:xfrm>
            <a:off x="1547640" y="836640"/>
            <a:ext cx="6107400" cy="4581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3564000" y="587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562920" y="5877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улов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Безымянныйыго ссго"/>
          <p:cNvPicPr/>
          <p:nvPr/>
        </p:nvPicPr>
        <p:blipFill>
          <a:blip r:embed="rId1"/>
          <a:stretch/>
        </p:blipFill>
        <p:spPr>
          <a:xfrm>
            <a:off x="2411280" y="1341360"/>
            <a:ext cx="4073760" cy="4368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68360" y="47160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оническ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50920" y="5943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улы, шелушение, эскориация, лихен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182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11280" y="479736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кориация - (лат. excorio - сдирать кожу, синомимы: ссадина, царапина) - механическое, обычно линейное поверхностное нарушение целости кожи, покрытое кровяной или серозной коркой; в большинстве случаев возникает при расч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18240" cy="4289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684360" y="55119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хенификация (лихенизация) - уплотнение, утолщение кожи с усилением ее рису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адания для самоконтроля:   охарактеризуйте высыпания, определите стадию и фазу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1720" cy="30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1120795385_01_08_3_s"/>
          <p:cNvPicPr/>
          <p:nvPr/>
        </p:nvPicPr>
        <p:blipFill>
          <a:blip r:embed="rId2"/>
          <a:stretch/>
        </p:blipFill>
        <p:spPr>
          <a:xfrm>
            <a:off x="4643280" y="1773360"/>
            <a:ext cx="4062600" cy="30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Н Л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547560" y="14130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об экссудативно-катаральном, лимфатико-гипопластическом, нервно-артритическом диате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опический дерматит. Причины, клиника, диагно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Атопический дерматит (АД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хроническое воспалительное заболевание кожи аллергической прир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реч. аtopos означает особенность, отличие от други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7"/>
          <p:cNvGraphicFramePr/>
          <p:nvPr/>
        </p:nvGraphicFramePr>
        <p:xfrm>
          <a:off x="244440" y="3938760"/>
          <a:ext cx="4326120" cy="27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938760"/>
                    <a:ext cx="4326120" cy="27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31"/>
          <p:cNvSpPr/>
          <p:nvPr/>
        </p:nvSpPr>
        <p:spPr>
          <a:xfrm>
            <a:off x="179280" y="1916280"/>
            <a:ext cx="47181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детей экономически развит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 распространенность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яет 10-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32"/>
          <p:cNvGraphicFramePr/>
          <p:nvPr/>
        </p:nvGraphicFramePr>
        <p:xfrm>
          <a:off x="5049720" y="1695600"/>
          <a:ext cx="3884760" cy="28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9720" y="1695600"/>
                    <a:ext cx="3884760" cy="2863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Text Box 36"/>
          <p:cNvSpPr/>
          <p:nvPr/>
        </p:nvSpPr>
        <p:spPr>
          <a:xfrm>
            <a:off x="5003640" y="5516640"/>
            <a:ext cx="3743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руктуре аллергических заболе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 составляет 50-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1835280" y="524844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-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588000" y="2440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-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0920" y="1091880"/>
            <a:ext cx="83534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кссудативно-катаральный диате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традиционное название АД у грудных младенцев, форма и стадия этого заболевания, для которого характерно начало в раннем детском возрасте (50% случа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ейродерм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ак долгое время назывался атопический дерматит у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топическая экз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синоним заболевания АД. Экзема в более широком смысле сегодня - это совокупность чередующихся признаков воспаления кожи (покраснение, отек, пузырьки, мокнутие, кор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Факторы риска развития АД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Генетическ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ищевые аллерг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нарушение диетического режима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ерациональное вскармлива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галяционные аллерг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Бытовы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00"/>
                </a:solidFill>
                <a:latin typeface="Arial"/>
              </a:rPr>
              <a:t>Классификация А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стади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женных изме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ческое выздор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форме в зависимости от возра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аденческая от 2-3 мес до 2-3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ская от 3 до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остковая от 12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V="1">
            <a:off x="5076720" y="2276640"/>
            <a:ext cx="9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076720" y="2565360"/>
            <a:ext cx="93528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084720" y="198288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ая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084720" y="2565360"/>
            <a:ext cx="27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562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распространенности кожного процесса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ный (более 5% площади кож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у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характеру течения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гкое            среднетяжелое              тяж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По клинико-этиологическому вариан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евой                                гриб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ьцевой                           клещ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ритерии диагностик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З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Типичная морфология и лока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ных высыпани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Хроническое рецидивирующее т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Атопия в анамнез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ственная предрасполож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ат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1120073172_01_08_1_s"/>
          <p:cNvPicPr/>
          <p:nvPr/>
        </p:nvPicPr>
        <p:blipFill>
          <a:blip r:embed="rId1"/>
          <a:stretch/>
        </p:blipFill>
        <p:spPr>
          <a:xfrm>
            <a:off x="2031840" y="1220760"/>
            <a:ext cx="508032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04292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Клиника в начальной ста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79280" y="5516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йс - себорейные, жирные чешуйки на волосистой части гол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7:34:29Z</dcterms:created>
  <dc:creator>э</dc:creator>
  <dc:description/>
  <dc:language>en-US</dc:language>
  <cp:lastModifiedBy>Yurii</cp:lastModifiedBy>
  <dcterms:modified xsi:type="dcterms:W3CDTF">2017-09-22T21:18:24Z</dcterms:modified>
  <cp:revision>14</cp:revision>
  <dc:subject/>
  <dc:title>Атопический дерматит</dc:title>
</cp:coreProperties>
</file>