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C4D-68F2-4064-8DCE-470E7FA8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E50-7BFF-430B-8A0A-28BF3107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B7D-8865-4DBF-98D1-BC9E04A1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510-3446-4827-9F2C-9DC47316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8856-736A-409D-92F2-8EAF9580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A535-59B7-4A02-9497-8C00431A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08E5-39FD-44C3-9009-C701C2A5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0843-7333-49CA-B671-B0E3C5EE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2C28-BCE9-4711-A144-CED0092D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757C-5827-4BA7-ADDC-CAC67C20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7650-7052-4BC7-B74B-3AE70EF6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387-CAA3-4F57-A05F-ED5B2CBD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C7ED-16F0-4157-815D-27B271A2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9DC2-71DA-4C56-A500-561F9B7F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1F99-8926-452C-88A1-7B31DFC5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02A1-35EC-4F34-AD06-CFAE2E96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326E-0CF6-4C81-9E47-94A68851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BAB-3204-4648-89A4-B924C389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B1D-67FF-4F02-8CD1-35DD998C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B34-F3A9-41D9-BB5E-45029E16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A31-4A8F-4E0F-A2ED-6F147D8B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97E-E652-4A2E-9B71-FFB5EE18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412-04B8-48EF-B6E7-C22CCBEF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F90-DF40-4264-ABE8-C69B7092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393A-484C-4597-840B-E1F68F7D5E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9677-77FB-473D-A67B-F9643BDA55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Диагностика атопического дерматита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000400" y="4836960"/>
            <a:ext cx="28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Кириченко И.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181840" cy="4761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2843280" y="5661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0" y="580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очный струп - гиперемия, инфильтрация, шелушение на коже щ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1120073172_01_08_2_s"/>
          <p:cNvPicPr/>
          <p:nvPr/>
        </p:nvPicPr>
        <p:blipFill>
          <a:blip r:embed="rId1"/>
          <a:stretch/>
        </p:blipFill>
        <p:spPr>
          <a:xfrm>
            <a:off x="179280" y="1413000"/>
            <a:ext cx="4245120" cy="3184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1120073172_01_08_3_s"/>
          <p:cNvPicPr/>
          <p:nvPr/>
        </p:nvPicPr>
        <p:blipFill>
          <a:blip r:embed="rId2"/>
          <a:stretch/>
        </p:blipFill>
        <p:spPr>
          <a:xfrm>
            <a:off x="4572000" y="1413000"/>
            <a:ext cx="4245120" cy="31622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826920" y="54450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рные опрелости в области промежности и ягоди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естественных склад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921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Клиника в стадии выраженных изменени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фаз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4192560" cy="3144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21592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 Box 16"/>
          <p:cNvSpPr/>
          <p:nvPr/>
        </p:nvSpPr>
        <p:spPr>
          <a:xfrm>
            <a:off x="539640" y="1844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ритема     папула     везикула     эрозии     корки     шел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8"/>
          <p:cNvSpPr/>
          <p:nvPr/>
        </p:nvSpPr>
        <p:spPr>
          <a:xfrm flipV="1">
            <a:off x="1763640" y="206064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5"/>
          <p:cNvSpPr/>
          <p:nvPr/>
        </p:nvSpPr>
        <p:spPr>
          <a:xfrm>
            <a:off x="298764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6"/>
          <p:cNvSpPr/>
          <p:nvPr/>
        </p:nvSpPr>
        <p:spPr>
          <a:xfrm>
            <a:off x="4500720" y="2060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7"/>
          <p:cNvSpPr/>
          <p:nvPr/>
        </p:nvSpPr>
        <p:spPr>
          <a:xfrm>
            <a:off x="5651640" y="20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8"/>
          <p:cNvSpPr/>
          <p:nvPr/>
        </p:nvSpPr>
        <p:spPr>
          <a:xfrm>
            <a:off x="6804000" y="20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1"/>
          <p:cNvSpPr/>
          <p:nvPr/>
        </p:nvSpPr>
        <p:spPr>
          <a:xfrm>
            <a:off x="5632560" y="615960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683280" y="573408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Безымянныйртс"/>
          <p:cNvPicPr/>
          <p:nvPr/>
        </p:nvPicPr>
        <p:blipFill>
          <a:blip r:embed="rId1"/>
          <a:stretch/>
        </p:blipFill>
        <p:spPr>
          <a:xfrm>
            <a:off x="1476360" y="765000"/>
            <a:ext cx="6078600" cy="45612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1332000" y="5727600"/>
            <a:ext cx="64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 наружной  поверхности верхних и ниж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чностей,  запяст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1120073172_01_08_4_s"/>
          <p:cNvPicPr/>
          <p:nvPr/>
        </p:nvPicPr>
        <p:blipFill>
          <a:blip r:embed="rId1"/>
          <a:stretch/>
        </p:blipFill>
        <p:spPr>
          <a:xfrm>
            <a:off x="539640" y="47628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2340360" y="508464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ш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2860560" cy="21463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6566040" y="594360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уш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совкычы"/>
          <p:cNvPicPr/>
          <p:nvPr/>
        </p:nvPicPr>
        <p:blipFill>
          <a:blip r:embed="rId1"/>
          <a:stretch/>
        </p:blipFill>
        <p:spPr>
          <a:xfrm>
            <a:off x="1547640" y="836640"/>
            <a:ext cx="6107400" cy="4581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3564000" y="5877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562920" y="587700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улов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Безымянныйыго ссго"/>
          <p:cNvPicPr/>
          <p:nvPr/>
        </p:nvPicPr>
        <p:blipFill>
          <a:blip r:embed="rId1"/>
          <a:stretch/>
        </p:blipFill>
        <p:spPr>
          <a:xfrm>
            <a:off x="2411280" y="1341360"/>
            <a:ext cx="4073760" cy="43689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68360" y="47160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оническ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50920" y="59436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улы, шелушение, эскориация, лихен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18240" cy="42894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611280" y="479736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скориация - (лат. excorio - сдирать кожу, синомимы: ссадина, царапина) - механическое, обычно линейное поверхностное нарушение целости кожи, покрытое кровяной или серозной коркой; в большинстве случаев возникает при расч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718240" cy="42894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684360" y="55119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хенификация (лихенизация) - уплотнение, утолщение кожи с усилением ее рису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Задания для самоконтроля:   охарактеризуйте высыпания, определите стадию и фазу.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041720" cy="3031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1120795385_01_08_3_s"/>
          <p:cNvPicPr/>
          <p:nvPr/>
        </p:nvPicPr>
        <p:blipFill>
          <a:blip r:embed="rId2"/>
          <a:stretch/>
        </p:blipFill>
        <p:spPr>
          <a:xfrm>
            <a:off x="4643280" y="1773360"/>
            <a:ext cx="4062600" cy="30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ЛАН ЛЕК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547560" y="141300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об экссудативно-катаральном, лимфатико-гипопластическом, нервно-артритическом диате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топический дерматит. Причины, клиника, диагнос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7777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Атопический дерматит (АД)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о хроническое воспалительное заболевание кожи аллергической приро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реч. аtopos означает особенность, отличие от други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7"/>
          <p:cNvGraphicFramePr/>
          <p:nvPr/>
        </p:nvGraphicFramePr>
        <p:xfrm>
          <a:off x="244440" y="3938760"/>
          <a:ext cx="4326120" cy="27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3938760"/>
                    <a:ext cx="4326120" cy="27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31"/>
          <p:cNvSpPr/>
          <p:nvPr/>
        </p:nvSpPr>
        <p:spPr>
          <a:xfrm>
            <a:off x="179280" y="1916280"/>
            <a:ext cx="47181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и детей экономически развит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 распространенность 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ляет 10-2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32"/>
          <p:cNvGraphicFramePr/>
          <p:nvPr/>
        </p:nvGraphicFramePr>
        <p:xfrm>
          <a:off x="5049720" y="1695600"/>
          <a:ext cx="3884760" cy="28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9720" y="1695600"/>
                    <a:ext cx="3884760" cy="28638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Text Box 36"/>
          <p:cNvSpPr/>
          <p:nvPr/>
        </p:nvSpPr>
        <p:spPr>
          <a:xfrm>
            <a:off x="5003640" y="5516640"/>
            <a:ext cx="3743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труктуре аллергических заболе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 составляет 50-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1835280" y="5248440"/>
            <a:ext cx="13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-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6588000" y="24400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-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250920" y="1091880"/>
            <a:ext cx="835344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кссудативно-катаральный диате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традиционное название АД у грудных младенцев, форма и стадия этого заболевания, для которого характерно начало в раннем детском возрасте (50% случае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Нейродерми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ак долгое время назывался атопический дерматит у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Атопическая экз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синоним заболевания АД. Экзема в более широком смысле сегодня - это совокупность чередующихся признаков воспаления кожи (покраснение, отек, пузырьки, мокнутие, кор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Факторы риска развития АД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Генетическая предрасполо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ищевые аллерг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нарушение диетического режима мат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нерациональное вскармливани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нгаляционные аллерг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Бытовы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Классификация А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По стадии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женных изме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иническое выздор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По форме в зависимости от возра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ладенческая от 2-3 мес до 2-3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ская от 3 до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ростковая от 12 до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 flipV="1">
            <a:off x="5076720" y="2276640"/>
            <a:ext cx="935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076720" y="2565360"/>
            <a:ext cx="93528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6084720" y="198288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рая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6084720" y="2565360"/>
            <a:ext cx="27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оническая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562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По распространенности кожного процесса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остраненный (более 5% площади кож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ффу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По характеру течения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гкое            среднетяжелое              тяж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По клинико-этиологическому вариан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евой                                грибк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льцевой                           клеще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Критерии диагностик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З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Типичная морфология и локализ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жных высыпани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Хроническое рецидивирующее т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Атопия в анамнезе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ледственная предрасполож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ато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1120073172_01_08_1_s"/>
          <p:cNvPicPr/>
          <p:nvPr/>
        </p:nvPicPr>
        <p:blipFill>
          <a:blip r:embed="rId1"/>
          <a:stretch/>
        </p:blipFill>
        <p:spPr>
          <a:xfrm>
            <a:off x="2031840" y="1220760"/>
            <a:ext cx="5080320" cy="3809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042920" y="260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Клиника в начальной ста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179280" y="5516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ейс - себорейные, жирные чешуйки на волосистой части гол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7:34:29Z</dcterms:created>
  <dc:creator>э</dc:creator>
  <dc:description/>
  <dc:language>en-US</dc:language>
  <cp:lastModifiedBy>Yurii</cp:lastModifiedBy>
  <dcterms:modified xsi:type="dcterms:W3CDTF">2017-09-22T21:18:24Z</dcterms:modified>
  <cp:revision>14</cp:revision>
  <dc:subject/>
  <dc:title>Атопический дерматит</dc:title>
</cp:coreProperties>
</file>