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183-21B8-4B09-9B17-A334FF2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D86-02D3-40C0-8816-F6156100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599-9A0B-4749-936D-10BC124E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D0A-608A-460D-92EE-6C502D00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1D0-70F2-4FB2-8290-739DB7EB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6EF-1E5A-4203-A325-4575CCF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B263-2297-431D-88F2-E2F8897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DC4D-98CB-4D4F-B9CE-A3BF37A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697E-3722-4B4B-BFA4-0E6A903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5F1-BD55-4E38-8AFF-7E79FD2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C0A-6EAC-4D76-B9B9-D927C0C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418-38A2-41D2-960E-318D4F7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EE6-5E9C-47B5-8325-0BC4F1E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89F4-ED9D-4A6F-B718-A41BF35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CE0-364B-4242-B2A2-A28EBCE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6DD-8BF3-4346-849D-0EBBF37E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A4A7-966D-4B93-B901-DE4EAC0B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0AC-2778-4F38-83A1-56793C9C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D27-E208-46CD-9ACE-855BC7E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825-9D9F-437B-8F83-BF38670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C8A-E714-4C5A-A5B7-BF8F537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0CF-F749-4465-A3B0-4F2565B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26C-3766-4546-9F75-796E8D3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340-711F-4431-B00C-EF01260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48A-B06B-4FF8-BA35-927F01494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17D5-DDC6-41C6-AB36-0E8CB9ED5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1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Пользователь</cp:lastModifiedBy>
  <dcterms:modified xsi:type="dcterms:W3CDTF">2017-09-21T14:16:49Z</dcterms:modified>
  <cp:revision>5</cp:revision>
  <dc:subject/>
  <dc:title>Доклад  «Использование ИКТ на уроках русского языка и литературы»</dc:title>
</cp:coreProperties>
</file>