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42.png" ContentType="image/png"/>
  <Override PartName="/ppt/media/image22.wmf" ContentType="image/x-wmf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4.png" ContentType="image/png"/>
  <Override PartName="/ppt/media/image9.jpeg" ContentType="image/jpeg"/>
  <Override PartName="/ppt/media/image11.jpeg" ContentType="image/jpeg"/>
  <Override PartName="/ppt/media/image31.gif" ContentType="image/gif"/>
  <Override PartName="/ppt/media/image38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30.gif" ContentType="image/gif"/>
  <Override PartName="/ppt/media/image34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39.jpeg" ContentType="image/jpeg"/>
  <Override PartName="/ppt/media/image4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984-8BF7-4E59-A5AA-97178BA3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BAE-FB8C-4697-B359-392600C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A29-A9A9-4372-9A9A-4B51A55D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C5B-33AC-43CA-BCFB-B6A2D18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1CA-432C-4976-B2E1-8F3A918D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3C6-2741-4522-B64E-D0AE334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04B-9527-42DE-BDAA-CF2123C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4B3-AEB9-4B6F-8618-6EEEA208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22D-1212-45DA-927F-3231345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94D-82E9-4B18-A982-FCE53277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47A-7BAC-48BA-A9C7-09DA0EC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A41-BF62-4C51-A324-7A94244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C4FB-1632-40C1-B47E-0CF383C32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118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16000" y="3284280"/>
            <a:ext cx="6400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042920" y="549360"/>
            <a:ext cx="7345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скурсия 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имний лес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826920" y="537372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довская Окс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763640" y="620640"/>
            <a:ext cx="554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адай загадку</a:t>
            </a:r>
            <a:endParaRPr b="0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6" descr="newy30"/>
          <p:cNvPicPr/>
          <p:nvPr/>
        </p:nvPicPr>
        <p:blipFill>
          <a:blip r:embed="rId1"/>
          <a:stretch/>
        </p:blipFill>
        <p:spPr>
          <a:xfrm>
            <a:off x="0" y="1844640"/>
            <a:ext cx="370512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4211640" y="206064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еня не раст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з снега слеп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место носа лов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ставили морко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Глаза уголь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Руки-с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Холодная, больш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то я т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1692360" y="476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CRCTR327"/>
          <p:cNvPicPr/>
          <p:nvPr/>
        </p:nvPicPr>
        <p:blipFill>
          <a:blip r:embed="rId3"/>
          <a:stretch/>
        </p:blipFill>
        <p:spPr>
          <a:xfrm rot="2462400">
            <a:off x="6184440" y="333000"/>
            <a:ext cx="2959200" cy="4365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268280"/>
            <a:ext cx="59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Я мороза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 ним я крепко подру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дойдет ко мне мо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онет руку, троне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чит, надо не зе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ыгать, бегать и иг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52601E-006 C -0.02534 0.13457 -0.05069 0.26913 -0.19201 0.34243 C -0.33333 0.41572 -0.86666 0.43283 -0.84756 0.43977 C -0.82847 0.44671 -0.21076 0.47468 -0.07777 0.38474 C 0.05521 0.2948 0.00296 0.09757 -0.0493 -0.09942 E">
                                      <p:cBhvr>
                                        <p:cTn id="3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yabina"/>
          <p:cNvPicPr/>
          <p:nvPr/>
        </p:nvPicPr>
        <p:blipFill>
          <a:blip r:embed="rId1"/>
          <a:stretch/>
        </p:blipFill>
        <p:spPr>
          <a:xfrm>
            <a:off x="0" y="1398600"/>
            <a:ext cx="4402080" cy="54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1010"/>
          <p:cNvPicPr/>
          <p:nvPr/>
        </p:nvPicPr>
        <p:blipFill>
          <a:blip r:embed="rId2"/>
          <a:stretch/>
        </p:blipFill>
        <p:spPr>
          <a:xfrm>
            <a:off x="4643280" y="1341360"/>
            <a:ext cx="4308480" cy="5516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2556000" y="404640"/>
            <a:ext cx="53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знай дерево</a:t>
            </a:r>
            <a:endParaRPr b="0" lang="en-US" sz="3200" spc="1" strike="noStrike">
              <a:ln w="19080">
                <a:solidFill>
                  <a:srgbClr val="ff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539640" y="1341360"/>
            <a:ext cx="30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ябин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5076720" y="1125360"/>
            <a:ext cx="309564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ёз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82692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ные пословицы.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6" descr="3at118_01"/>
          <p:cNvPicPr/>
          <p:nvPr/>
        </p:nvPicPr>
        <p:blipFill>
          <a:blip r:embed="rId1"/>
          <a:stretch/>
        </p:blipFill>
        <p:spPr>
          <a:xfrm>
            <a:off x="5508720" y="4440240"/>
            <a:ext cx="363528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ansijskiedeti"/>
          <p:cNvPicPr/>
          <p:nvPr/>
        </p:nvPicPr>
        <p:blipFill>
          <a:blip r:embed="rId2"/>
          <a:stretch/>
        </p:blipFill>
        <p:spPr>
          <a:xfrm>
            <a:off x="0" y="4460760"/>
            <a:ext cx="3433680" cy="239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0" y="981000"/>
            <a:ext cx="95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Мороз не велик, да стоять не вел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Спасибо, мороз, что снегу нан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Береги нос в большой моро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Солнце- на лето, зима - на мороз!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ные приметы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826920" y="907920"/>
            <a:ext cx="69138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Дым столбом - к морозу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91" name="Picture 7" descr="19a1b96bcd06t"/>
          <p:cNvPicPr/>
          <p:nvPr/>
        </p:nvPicPr>
        <p:blipFill>
          <a:blip r:embed="rId1"/>
          <a:stretch/>
        </p:blipFill>
        <p:spPr>
          <a:xfrm>
            <a:off x="1403280" y="2271600"/>
            <a:ext cx="6114960" cy="458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ani-bird_red"/>
          <p:cNvPicPr/>
          <p:nvPr/>
        </p:nvPicPr>
        <p:blipFill>
          <a:blip r:embed="rId2"/>
          <a:stretch/>
        </p:blipFill>
        <p:spPr>
          <a:xfrm>
            <a:off x="1258920" y="299736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ani-bird_yellow"/>
          <p:cNvPicPr/>
          <p:nvPr/>
        </p:nvPicPr>
        <p:blipFill>
          <a:blip r:embed="rId3"/>
          <a:stretch/>
        </p:blipFill>
        <p:spPr>
          <a:xfrm>
            <a:off x="2268360" y="2349360"/>
            <a:ext cx="1008360" cy="80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newy20"/>
          <p:cNvPicPr/>
          <p:nvPr/>
        </p:nvPicPr>
        <p:blipFill>
          <a:blip r:embed="rId4"/>
          <a:stretch/>
        </p:blipFill>
        <p:spPr>
          <a:xfrm>
            <a:off x="4643280" y="3933720"/>
            <a:ext cx="1192320" cy="1516320"/>
          </a:xfrm>
          <a:prstGeom prst="rect">
            <a:avLst/>
          </a:prstGeom>
          <a:ln w="0">
            <a:noFill/>
          </a:ln>
        </p:spPr>
      </p:pic>
      <p:sp>
        <p:nvSpPr>
          <p:cNvPr id="95" name="WordArt 11"/>
          <p:cNvSpPr txBox="1"/>
          <p:nvPr/>
        </p:nvSpPr>
        <p:spPr>
          <a:xfrm>
            <a:off x="826920" y="1413000"/>
            <a:ext cx="74487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оробьи дружно расчирикались 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 оттепели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5"/>
          <p:cNvSpPr txBox="1"/>
          <p:nvPr/>
        </p:nvSpPr>
        <p:spPr>
          <a:xfrm>
            <a:off x="250920" y="1484280"/>
            <a:ext cx="5041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ним утром от мороза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заре звенят берез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ей лег на ветви ели,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лы за ночь побелели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8" descr="mp22"/>
          <p:cNvPicPr/>
          <p:nvPr/>
        </p:nvPicPr>
        <p:blipFill>
          <a:blip r:embed="rId1"/>
          <a:stretch/>
        </p:blipFill>
        <p:spPr>
          <a:xfrm>
            <a:off x="5580000" y="1268280"/>
            <a:ext cx="3351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411280" y="260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ороговорк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7" descr="0PelevinI_DetiVSanyah1870NT"/>
          <p:cNvPicPr/>
          <p:nvPr/>
        </p:nvPicPr>
        <p:blipFill>
          <a:blip r:embed="rId1"/>
          <a:stretch/>
        </p:blipFill>
        <p:spPr>
          <a:xfrm>
            <a:off x="1116000" y="2443320"/>
            <a:ext cx="6264360" cy="4414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0" y="1197000"/>
            <a:ext cx="96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ани, сани!    Едут с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ерез горы и леса  едут сани - чудес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258920" y="2997360"/>
            <a:ext cx="655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ют звери зимой?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5" descr="AK1"/>
          <p:cNvPicPr/>
          <p:nvPr/>
        </p:nvPicPr>
        <p:blipFill>
          <a:blip r:embed="rId1"/>
          <a:stretch/>
        </p:blipFill>
        <p:spPr>
          <a:xfrm>
            <a:off x="0" y="0"/>
            <a:ext cx="3635280" cy="272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elka"/>
          <p:cNvPicPr/>
          <p:nvPr/>
        </p:nvPicPr>
        <p:blipFill>
          <a:blip r:embed="rId2"/>
          <a:stretch/>
        </p:blipFill>
        <p:spPr>
          <a:xfrm>
            <a:off x="5407200" y="0"/>
            <a:ext cx="3736800" cy="280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zhik2"/>
          <p:cNvPicPr/>
          <p:nvPr/>
        </p:nvPicPr>
        <p:blipFill>
          <a:blip r:embed="rId3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huk_Foto_20061226_02"/>
          <p:cNvPicPr/>
          <p:nvPr/>
        </p:nvPicPr>
        <p:blipFill>
          <a:blip r:embed="rId4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619280" y="2708280"/>
            <a:ext cx="6191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тицам зимой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5" descr="13693"/>
          <p:cNvPicPr/>
          <p:nvPr/>
        </p:nvPicPr>
        <p:blipFill>
          <a:blip r:embed="rId1"/>
          <a:stretch/>
        </p:blipFill>
        <p:spPr>
          <a:xfrm>
            <a:off x="0" y="3894120"/>
            <a:ext cx="4500720" cy="296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00x600,fs-KRYLOV,07-04,0460-J"/>
          <p:cNvPicPr/>
          <p:nvPr/>
        </p:nvPicPr>
        <p:blipFill>
          <a:blip r:embed="rId2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Fonkormuskam"/>
          <p:cNvPicPr/>
          <p:nvPr/>
        </p:nvPicPr>
        <p:blipFill>
          <a:blip r:embed="rId3"/>
          <a:stretch/>
        </p:blipFill>
        <p:spPr>
          <a:xfrm>
            <a:off x="0" y="0"/>
            <a:ext cx="2879640" cy="263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Poster_art_fine_art_print_Hungry_Birds_must_be_Fed_kid_room_child_art_kids_children_deti_b"/>
          <p:cNvPicPr/>
          <p:nvPr/>
        </p:nvPicPr>
        <p:blipFill>
          <a:blip r:embed="rId4"/>
          <a:stretch/>
        </p:blipFill>
        <p:spPr>
          <a:xfrm>
            <a:off x="6313320" y="0"/>
            <a:ext cx="2830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11512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684360" y="260280"/>
            <a:ext cx="676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с дремучий, до свиданья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ы расти на радость людям!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дружить с тобою будем,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 лес, могучий лес,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н сказок и чудес!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Ход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Художественное слово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Экскурсия в зимний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Беседа о зимнем л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Дидактические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Заключительн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6.   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C257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735280" y="260280"/>
            <a:ext cx="6408720" cy="41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ет зима -  аукает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хнатый лес баюка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звоном сосняк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угом с тоской глубоко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ывут в страну далеку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дые облак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Птицы"/>
          <p:cNvPicPr/>
          <p:nvPr/>
        </p:nvPicPr>
        <p:blipFill>
          <a:blip r:embed="rId1"/>
          <a:stretch/>
        </p:blipFill>
        <p:spPr>
          <a:xfrm>
            <a:off x="4381560" y="3295800"/>
            <a:ext cx="4762440" cy="356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nimals_Beasts__000385_1"/>
          <p:cNvPicPr/>
          <p:nvPr/>
        </p:nvPicPr>
        <p:blipFill>
          <a:blip r:embed="rId2"/>
          <a:stretch/>
        </p:blipFill>
        <p:spPr>
          <a:xfrm>
            <a:off x="0" y="3284640"/>
            <a:ext cx="4390920" cy="3573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900000" y="333360"/>
            <a:ext cx="792180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скурсия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зимний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с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539640" y="620640"/>
            <a:ext cx="82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ведения в лес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8" descr="J0232879"/>
          <p:cNvPicPr/>
          <p:nvPr/>
        </p:nvPicPr>
        <p:blipFill>
          <a:blip r:embed="rId1"/>
          <a:stretch/>
        </p:blipFill>
        <p:spPr>
          <a:xfrm>
            <a:off x="7236000" y="162864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J0233057"/>
          <p:cNvPicPr/>
          <p:nvPr/>
        </p:nvPicPr>
        <p:blipFill>
          <a:blip r:embed="rId2"/>
          <a:stretch/>
        </p:blipFill>
        <p:spPr>
          <a:xfrm>
            <a:off x="5580000" y="3860640"/>
            <a:ext cx="2189160" cy="201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J0232880"/>
          <p:cNvPicPr/>
          <p:nvPr/>
        </p:nvPicPr>
        <p:blipFill>
          <a:blip r:embed="rId3"/>
          <a:stretch/>
        </p:blipFill>
        <p:spPr>
          <a:xfrm>
            <a:off x="1042920" y="1773360"/>
            <a:ext cx="1413000" cy="186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J0232985"/>
          <p:cNvPicPr/>
          <p:nvPr/>
        </p:nvPicPr>
        <p:blipFill>
          <a:blip r:embed="rId4"/>
          <a:stretch/>
        </p:blipFill>
        <p:spPr>
          <a:xfrm>
            <a:off x="1692360" y="4005360"/>
            <a:ext cx="22320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Здравствуй, лес, дремучий лес, полный сказок и чудес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Ты о чем шумишь листвою ночью темной, грозовою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Что нам шепчешь на заре, весь в росе, как в серебр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Кто в глуши твоей таиться? Что за зверь? Какая птиц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се открой, не утаи: ты же видишь – мы сво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036"/>
          <p:cNvPicPr/>
          <p:nvPr/>
        </p:nvPicPr>
        <p:blipFill>
          <a:blip r:embed="rId2"/>
          <a:stretch/>
        </p:blipFill>
        <p:spPr>
          <a:xfrm>
            <a:off x="3276720" y="4221000"/>
            <a:ext cx="1150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42"/>
          <p:cNvPicPr/>
          <p:nvPr/>
        </p:nvPicPr>
        <p:blipFill>
          <a:blip r:embed="rId1"/>
          <a:stretch/>
        </p:blipFill>
        <p:spPr>
          <a:xfrm>
            <a:off x="2268360" y="3726000"/>
            <a:ext cx="4175280" cy="3132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1258920" y="404640"/>
            <a:ext cx="626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ы в лесу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5" descr="белка"/>
          <p:cNvPicPr/>
          <p:nvPr/>
        </p:nvPicPr>
        <p:blipFill>
          <a:blip r:embed="rId2"/>
          <a:stretch/>
        </p:blipFill>
        <p:spPr>
          <a:xfrm>
            <a:off x="0" y="2852640"/>
            <a:ext cx="2114640" cy="37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волк"/>
          <p:cNvPicPr/>
          <p:nvPr/>
        </p:nvPicPr>
        <p:blipFill>
          <a:blip r:embed="rId3"/>
          <a:stretch/>
        </p:blipFill>
        <p:spPr>
          <a:xfrm>
            <a:off x="6443640" y="479736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250920" y="2276640"/>
            <a:ext cx="151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к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6804000" y="3860640"/>
            <a:ext cx="187164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к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10" descr="лиса"/>
          <p:cNvPicPr/>
          <p:nvPr/>
        </p:nvPicPr>
        <p:blipFill>
          <a:blip r:embed="rId8"/>
          <a:stretch/>
        </p:blipFill>
        <p:spPr>
          <a:xfrm>
            <a:off x="2268360" y="2133720"/>
            <a:ext cx="444528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WordArt 11"/>
          <p:cNvSpPr txBox="1"/>
          <p:nvPr/>
        </p:nvSpPr>
        <p:spPr>
          <a:xfrm>
            <a:off x="3635280" y="148428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а</a:t>
            </a:r>
            <a:endParaRPr b="0" lang="en-US" sz="2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елка"/>
          <p:cNvPicPr/>
          <p:nvPr/>
        </p:nvPicPr>
        <p:blipFill>
          <a:blip r:embed="rId1"/>
          <a:stretch/>
        </p:blipFill>
        <p:spPr>
          <a:xfrm>
            <a:off x="5059440" y="981000"/>
            <a:ext cx="4084560" cy="5877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692360" y="26028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гадай загадку.</a:t>
            </a:r>
            <a:endParaRPr b="0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0920" y="14842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Что же эта за девиц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шве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мастериц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ичего са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шь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 в иголках круглый год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24000" y="2205000"/>
            <a:ext cx="4628880" cy="28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меня длинней игол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у елк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чень прямо я расту в высоту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6" descr="sosna"/>
          <p:cNvPicPr/>
          <p:nvPr/>
        </p:nvPicPr>
        <p:blipFill>
          <a:blip r:embed="rId1"/>
          <a:stretch/>
        </p:blipFill>
        <p:spPr>
          <a:xfrm>
            <a:off x="5221440" y="1413000"/>
            <a:ext cx="392256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979640" y="260280"/>
            <a:ext cx="532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гадай загадку: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7:34:25Z</dcterms:created>
  <dc:creator>u205-8</dc:creator>
  <dc:description/>
  <dc:language>en-US</dc:language>
  <cp:lastModifiedBy>Семён</cp:lastModifiedBy>
  <dcterms:modified xsi:type="dcterms:W3CDTF">2017-09-23T14:10:49Z</dcterms:modified>
  <cp:revision>36</cp:revision>
  <dc:subject/>
  <dc:title>Слайд 1</dc:title>
</cp:coreProperties>
</file>